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C3827-B920-41DD-9AF7-6C7DB81CF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65520-2A13-4D26-86E3-D107C2BD9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D7663-7EC6-4BEE-90C1-37CD7DE02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B3908-54D3-4FF9-B520-8F8D57C75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FB729-0212-4AE0-87E5-5EEFA3E78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36294-E5DA-4CA8-AF38-7E67D5EF6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D0E07-AFBF-4B73-9CA7-93A73C112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CC907-97C8-4A39-9A0F-1706E8A19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FAAD1-0782-4917-B6E6-37C4C9A4A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27BC2-27DE-45C5-B894-639541623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36783-D4A0-439A-9111-71D4832D9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0C2CE-5E50-49BB-BF5D-2ED51DF0B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5E293-56D4-46F8-AD6D-150917E156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1.wmf"/><Relationship Id="rId1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classzone.com/cz/books/msmath_1_na/book_home.htm?state=MD" TargetMode="External"/><Relationship Id="rId2" Type="http://schemas.openxmlformats.org/officeDocument/2006/relationships/hyperlink" Target="http://www.classzone.com/cz/books/msmath_1_na/book_home.htm?state=MD"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304920" y="228600"/>
            <a:ext cx="8076960" cy="5867280"/>
          </a:xfrm>
          <a:prstGeom prst="rect">
            <a:avLst/>
          </a:prstGeom>
          <a:noFill/>
          <a:ln w="0">
            <a:noFill/>
          </a:ln>
        </p:spPr>
        <p:txBody>
          <a:bodyPr lIns="90000" rIns="90000" tIns="46800" bIns="46800" anchor="t">
            <a:normAutofit/>
          </a:bodyPr>
          <a:p>
            <a:pPr marL="343080" indent="-343080">
              <a:lnSpc>
                <a:spcPct val="90000"/>
              </a:lnSpc>
              <a:spcBef>
                <a:spcPts val="649"/>
              </a:spcBef>
              <a:buClr>
                <a:srgbClr val="333399"/>
              </a:buClr>
              <a:buSzPct val="11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99ff"/>
                </a:solidFill>
                <a:latin typeface="Times New Roman"/>
              </a:rPr>
              <a:t>Opener:  Write each number below in </a:t>
            </a:r>
            <a:r>
              <a:rPr b="1" lang="en-US" sz="2600" spc="-1" strike="noStrike">
                <a:solidFill>
                  <a:srgbClr val="ff6600"/>
                </a:solidFill>
                <a:latin typeface="Times New Roman"/>
              </a:rPr>
              <a:t>standard</a:t>
            </a:r>
            <a:r>
              <a:rPr b="1" lang="en-US" sz="2600" spc="-1" strike="noStrike">
                <a:solidFill>
                  <a:srgbClr val="3399ff"/>
                </a:solidFill>
                <a:latin typeface="Times New Roman"/>
              </a:rPr>
              <a:t> and </a:t>
            </a:r>
            <a:r>
              <a:rPr b="1" lang="en-US" sz="2600" spc="-1" strike="noStrike">
                <a:solidFill>
                  <a:srgbClr val="ff6600"/>
                </a:solidFill>
                <a:latin typeface="Times New Roman"/>
              </a:rPr>
              <a:t>exponential</a:t>
            </a:r>
            <a:r>
              <a:rPr b="1" lang="en-US" sz="2600" spc="-1" strike="noStrike">
                <a:solidFill>
                  <a:srgbClr val="3399ff"/>
                </a:solidFill>
                <a:latin typeface="Times New Roman"/>
              </a:rPr>
              <a:t> notation.</a:t>
            </a:r>
            <a:endParaRPr b="0" lang="en-US" sz="26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7,000 + 300 + 20 +5</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0" lang="en-US" sz="2600" spc="-1" strike="noStrike" u="sng">
                <a:solidFill>
                  <a:srgbClr val="000000"/>
                </a:solidFill>
                <a:uFillTx/>
                <a:latin typeface="Times New Roman"/>
              </a:rPr>
              <a:t>	</a:t>
            </a:r>
            <a:r>
              <a:rPr b="0" lang="en-US" sz="2600" spc="-1" strike="noStrike" u="sng">
                <a:solidFill>
                  <a:srgbClr val="000000"/>
                </a:solidFill>
                <a:uFillTx/>
                <a:latin typeface="Times New Roman"/>
              </a:rPr>
              <a:t>	</a:t>
            </a:r>
            <a:r>
              <a:rPr b="0" lang="en-US" sz="2600" spc="-1" strike="noStrike" u="sng">
                <a:solidFill>
                  <a:srgbClr val="000000"/>
                </a:solidFill>
                <a:uFillTx/>
                <a:latin typeface="Times New Roman"/>
              </a:rPr>
              <a:t>	</a:t>
            </a:r>
            <a:r>
              <a:rPr b="0" lang="en-US" sz="2600" spc="-1" strike="noStrike" u="sng">
                <a:solidFill>
                  <a:srgbClr val="000000"/>
                </a:solidFill>
                <a:uFillTx/>
                <a:latin typeface="Times New Roman"/>
              </a:rPr>
              <a:t>	</a:t>
            </a:r>
            <a:r>
              <a:rPr b="0" lang="en-US" sz="2600" spc="-1" strike="noStrike" u="sng">
                <a:solidFill>
                  <a:srgbClr val="000000"/>
                </a:solidFill>
                <a:uFillTx/>
                <a:latin typeface="Times New Roman"/>
              </a:rPr>
              <a:t>	</a:t>
            </a:r>
            <a:r>
              <a:rPr b="0" lang="en-US" sz="2600" spc="-1" strike="noStrike" u="sng">
                <a:solidFill>
                  <a:srgbClr val="000000"/>
                </a:solidFill>
                <a:uFillTx/>
                <a:latin typeface="Times New Roman"/>
              </a:rPr>
              <a:t>	</a:t>
            </a:r>
            <a:r>
              <a:rPr b="0" lang="en-US" sz="2600" spc="-1" strike="noStrike" u="sng">
                <a:solidFill>
                  <a:srgbClr val="000000"/>
                </a:solidFill>
                <a:uFillTx/>
                <a:latin typeface="Times New Roman"/>
              </a:rPr>
              <a:t>	</a:t>
            </a:r>
            <a:r>
              <a:rPr b="0" lang="en-US" sz="2600" spc="-1" strike="noStrike" u="sng">
                <a:solidFill>
                  <a:srgbClr val="000000"/>
                </a:solidFill>
                <a:uFillTx/>
                <a:latin typeface="Times New Roman"/>
              </a:rPr>
              <a:t>	</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40,000 + 800 + 60</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90,000 + 700 + 3</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Times New Roman"/>
              </a:rPr>
              <a:t>	</a:t>
            </a:r>
            <a:r>
              <a:rPr b="0" lang="en-US" sz="1400" spc="-1" strike="noStrike">
                <a:solidFill>
                  <a:srgbClr val="99cc00"/>
                </a:solidFill>
                <a:latin typeface="Times New Roman"/>
              </a:rPr>
              <a:t>	</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 name=""/>
          <p:cNvSpPr/>
          <p:nvPr/>
        </p:nvSpPr>
        <p:spPr>
          <a:xfrm>
            <a:off x="6323040" y="928800"/>
            <a:ext cx="1293840" cy="965160"/>
          </a:xfrm>
          <a:custGeom>
            <a:avLst/>
            <a:gdLst/>
            <a:ahLst/>
            <a:rect l="l" t="t" r="r" b="b"/>
            <a:pathLst>
              <a:path w="3597" h="2680">
                <a:moveTo>
                  <a:pt x="18529" y="2927"/>
                </a:moveTo>
                <a:cubicBezTo>
                  <a:pt x="18625" y="2984"/>
                  <a:pt x="18768" y="2942"/>
                  <a:pt x="18876" y="2927"/>
                </a:cubicBezTo>
                <a:cubicBezTo>
                  <a:pt x="19016" y="2907"/>
                  <a:pt x="19040" y="2898"/>
                  <a:pt x="19124" y="2902"/>
                </a:cubicBezTo>
                <a:cubicBezTo>
                  <a:pt x="19194" y="3093"/>
                  <a:pt x="19152" y="3228"/>
                  <a:pt x="19100" y="3423"/>
                </a:cubicBezTo>
                <a:cubicBezTo>
                  <a:pt x="19057" y="3572"/>
                  <a:pt x="19047" y="3604"/>
                  <a:pt x="19025" y="3696"/>
                </a:cubicBezTo>
              </a:path>
              <a:path w="3597" h="2680">
                <a:moveTo>
                  <a:pt x="19273" y="2629"/>
                </a:moveTo>
                <a:cubicBezTo>
                  <a:pt x="19326" y="2594"/>
                  <a:pt x="19514" y="2504"/>
                  <a:pt x="19496" y="2654"/>
                </a:cubicBezTo>
                <a:cubicBezTo>
                  <a:pt x="19449" y="2726"/>
                  <a:pt x="19436" y="2750"/>
                  <a:pt x="19372" y="2753"/>
                </a:cubicBezTo>
                <a:cubicBezTo>
                  <a:pt x="19494" y="2754"/>
                  <a:pt x="19713" y="2883"/>
                  <a:pt x="19472" y="2952"/>
                </a:cubicBezTo>
                <a:cubicBezTo>
                  <a:pt x="19373" y="2952"/>
                  <a:pt x="19356" y="2952"/>
                  <a:pt x="19298" y="2952"/>
                </a:cubicBezTo>
              </a:path>
              <a:path w="3597" h="2680">
                <a:moveTo>
                  <a:pt x="17562" y="4043"/>
                </a:moveTo>
                <a:cubicBezTo>
                  <a:pt x="17669" y="4010"/>
                  <a:pt x="17826" y="3958"/>
                  <a:pt x="17934" y="3969"/>
                </a:cubicBezTo>
                <a:cubicBezTo>
                  <a:pt x="17942" y="3977"/>
                  <a:pt x="17951" y="3986"/>
                  <a:pt x="17959" y="3994"/>
                </a:cubicBezTo>
                <a:cubicBezTo>
                  <a:pt x="17959" y="4146"/>
                  <a:pt x="17957" y="4272"/>
                  <a:pt x="17909" y="4415"/>
                </a:cubicBezTo>
              </a:path>
              <a:path w="3597" h="2680">
                <a:moveTo>
                  <a:pt x="18231" y="3969"/>
                </a:moveTo>
                <a:cubicBezTo>
                  <a:pt x="18286" y="4065"/>
                  <a:pt x="18384" y="4150"/>
                  <a:pt x="18479" y="4217"/>
                </a:cubicBezTo>
              </a:path>
              <a:path w="3597" h="2680">
                <a:moveTo>
                  <a:pt x="18380" y="3919"/>
                </a:moveTo>
                <a:cubicBezTo>
                  <a:pt x="18330" y="4060"/>
                  <a:pt x="18276" y="4199"/>
                  <a:pt x="18231" y="4341"/>
                </a:cubicBezTo>
              </a:path>
              <a:path w="3597" h="2680">
                <a:moveTo>
                  <a:pt x="18579" y="3919"/>
                </a:moveTo>
                <a:cubicBezTo>
                  <a:pt x="18691" y="3940"/>
                  <a:pt x="18742" y="3944"/>
                  <a:pt x="18852" y="3919"/>
                </a:cubicBezTo>
                <a:cubicBezTo>
                  <a:pt x="18877" y="4041"/>
                  <a:pt x="18870" y="4143"/>
                  <a:pt x="18852" y="4266"/>
                </a:cubicBezTo>
              </a:path>
              <a:path w="3597" h="2680">
                <a:moveTo>
                  <a:pt x="19174" y="3919"/>
                </a:moveTo>
                <a:cubicBezTo>
                  <a:pt x="19285" y="3956"/>
                  <a:pt x="19348" y="4044"/>
                  <a:pt x="19422" y="4142"/>
                </a:cubicBezTo>
              </a:path>
              <a:path w="3597" h="2680">
                <a:moveTo>
                  <a:pt x="19372" y="3795"/>
                </a:moveTo>
                <a:cubicBezTo>
                  <a:pt x="19343" y="3921"/>
                  <a:pt x="19308" y="4043"/>
                  <a:pt x="19273" y="4167"/>
                </a:cubicBezTo>
              </a:path>
              <a:path w="3597" h="2680">
                <a:moveTo>
                  <a:pt x="19621" y="3770"/>
                </a:moveTo>
                <a:cubicBezTo>
                  <a:pt x="19725" y="3754"/>
                  <a:pt x="19813" y="3746"/>
                  <a:pt x="19918" y="3746"/>
                </a:cubicBezTo>
                <a:cubicBezTo>
                  <a:pt x="19989" y="3838"/>
                  <a:pt x="19904" y="4008"/>
                  <a:pt x="19893" y="4118"/>
                </a:cubicBezTo>
                <a:cubicBezTo>
                  <a:pt x="19893" y="4143"/>
                  <a:pt x="19893" y="4167"/>
                  <a:pt x="19893" y="4192"/>
                </a:cubicBezTo>
              </a:path>
              <a:path w="3597" h="2680">
                <a:moveTo>
                  <a:pt x="18058" y="4490"/>
                </a:moveTo>
                <a:cubicBezTo>
                  <a:pt x="18195" y="4581"/>
                  <a:pt x="18284" y="4611"/>
                  <a:pt x="18455" y="4589"/>
                </a:cubicBezTo>
                <a:cubicBezTo>
                  <a:pt x="18552" y="4577"/>
                  <a:pt x="18751" y="4506"/>
                  <a:pt x="18802" y="4415"/>
                </a:cubicBezTo>
                <a:cubicBezTo>
                  <a:pt x="18802" y="4371"/>
                  <a:pt x="18799" y="4357"/>
                  <a:pt x="18827" y="4341"/>
                </a:cubicBezTo>
              </a:path>
              <a:path w="3597" h="2680">
                <a:moveTo>
                  <a:pt x="18430" y="4589"/>
                </a:moveTo>
                <a:cubicBezTo>
                  <a:pt x="18438" y="4681"/>
                  <a:pt x="18452" y="4770"/>
                  <a:pt x="18579" y="4738"/>
                </a:cubicBezTo>
                <a:cubicBezTo>
                  <a:pt x="18620" y="4721"/>
                  <a:pt x="18662" y="4705"/>
                  <a:pt x="18703" y="4688"/>
                </a:cubicBezTo>
              </a:path>
              <a:path w="3597" h="2680">
                <a:moveTo>
                  <a:pt x="18703" y="4490"/>
                </a:moveTo>
                <a:cubicBezTo>
                  <a:pt x="18711" y="4609"/>
                  <a:pt x="18738" y="4718"/>
                  <a:pt x="18752" y="4837"/>
                </a:cubicBezTo>
              </a:path>
              <a:path w="3597" h="2680">
                <a:moveTo>
                  <a:pt x="19100" y="4564"/>
                </a:moveTo>
                <a:cubicBezTo>
                  <a:pt x="19081" y="4488"/>
                  <a:pt x="19070" y="4484"/>
                  <a:pt x="19000" y="4440"/>
                </a:cubicBezTo>
                <a:cubicBezTo>
                  <a:pt x="18938" y="4530"/>
                  <a:pt x="18882" y="4594"/>
                  <a:pt x="18951" y="4663"/>
                </a:cubicBezTo>
                <a:cubicBezTo>
                  <a:pt x="19012" y="4640"/>
                  <a:pt x="19027" y="4621"/>
                  <a:pt x="19075" y="4564"/>
                </a:cubicBezTo>
                <a:cubicBezTo>
                  <a:pt x="19102" y="4627"/>
                  <a:pt x="19112" y="4712"/>
                  <a:pt x="19124" y="4787"/>
                </a:cubicBezTo>
              </a:path>
              <a:path w="3597" h="2680">
                <a:moveTo>
                  <a:pt x="19422" y="4614"/>
                </a:moveTo>
                <a:cubicBezTo>
                  <a:pt x="19509" y="4670"/>
                  <a:pt x="19594" y="4682"/>
                  <a:pt x="19695" y="4638"/>
                </a:cubicBezTo>
                <a:cubicBezTo>
                  <a:pt x="19791" y="4596"/>
                  <a:pt x="19855" y="4485"/>
                  <a:pt x="19869" y="4390"/>
                </a:cubicBezTo>
                <a:cubicBezTo>
                  <a:pt x="19869" y="4382"/>
                  <a:pt x="19869" y="4374"/>
                  <a:pt x="19869" y="4366"/>
                </a:cubicBezTo>
              </a:path>
              <a:path w="3597" h="2680">
                <a:moveTo>
                  <a:pt x="19720" y="4986"/>
                </a:moveTo>
                <a:cubicBezTo>
                  <a:pt x="19770" y="4920"/>
                  <a:pt x="19913" y="4773"/>
                  <a:pt x="20017" y="4837"/>
                </a:cubicBezTo>
                <a:cubicBezTo>
                  <a:pt x="20123" y="4902"/>
                  <a:pt x="19950" y="5047"/>
                  <a:pt x="19918" y="5085"/>
                </a:cubicBezTo>
                <a:cubicBezTo>
                  <a:pt x="20044" y="5070"/>
                  <a:pt x="20074" y="5054"/>
                  <a:pt x="20166" y="5135"/>
                </a:cubicBezTo>
                <a:cubicBezTo>
                  <a:pt x="20051" y="5251"/>
                  <a:pt x="20057" y="5249"/>
                  <a:pt x="19893" y="5259"/>
                </a:cubicBezTo>
              </a:path>
              <a:path w="3597" h="2680">
                <a:moveTo>
                  <a:pt x="20141" y="4738"/>
                </a:moveTo>
                <a:cubicBezTo>
                  <a:pt x="20236" y="4875"/>
                  <a:pt x="20224" y="4896"/>
                  <a:pt x="20365" y="4936"/>
                </a:cubicBezTo>
                <a:cubicBezTo>
                  <a:pt x="20512" y="4829"/>
                  <a:pt x="20611" y="4743"/>
                  <a:pt x="20464" y="4614"/>
                </a:cubicBezTo>
                <a:cubicBezTo>
                  <a:pt x="20317" y="4589"/>
                  <a:pt x="20524" y="4858"/>
                  <a:pt x="20563" y="4936"/>
                </a:cubicBezTo>
                <a:cubicBezTo>
                  <a:pt x="20580" y="4969"/>
                  <a:pt x="20596" y="5002"/>
                  <a:pt x="20613" y="5035"/>
                </a:cubicBezTo>
              </a:path>
              <a:path w="3597" h="2680">
                <a:moveTo>
                  <a:pt x="20662" y="4514"/>
                </a:moveTo>
                <a:cubicBezTo>
                  <a:pt x="20701" y="4486"/>
                  <a:pt x="20976" y="4318"/>
                  <a:pt x="20960" y="4490"/>
                </a:cubicBezTo>
                <a:cubicBezTo>
                  <a:pt x="20951" y="4582"/>
                  <a:pt x="20856" y="4726"/>
                  <a:pt x="20886" y="4638"/>
                </a:cubicBezTo>
                <a:cubicBezTo>
                  <a:pt x="20973" y="4597"/>
                  <a:pt x="21309" y="4554"/>
                  <a:pt x="21134" y="4787"/>
                </a:cubicBezTo>
                <a:cubicBezTo>
                  <a:pt x="21075" y="4866"/>
                  <a:pt x="20957" y="4851"/>
                  <a:pt x="20886" y="4837"/>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7813800" y="892080"/>
            <a:ext cx="1071360" cy="1295640"/>
          </a:xfrm>
          <a:custGeom>
            <a:avLst/>
            <a:gdLst/>
            <a:ahLst/>
            <a:rect l="l" t="t" r="r" b="b"/>
            <a:pathLst>
              <a:path w="2978" h="3598">
                <a:moveTo>
                  <a:pt x="21704" y="2952"/>
                </a:moveTo>
                <a:cubicBezTo>
                  <a:pt x="21729" y="3125"/>
                  <a:pt x="21763" y="3300"/>
                  <a:pt x="21779" y="3473"/>
                </a:cubicBezTo>
              </a:path>
              <a:path w="2978" h="3598">
                <a:moveTo>
                  <a:pt x="22200" y="2828"/>
                </a:moveTo>
                <a:cubicBezTo>
                  <a:pt x="22095" y="3039"/>
                  <a:pt x="22051" y="3150"/>
                  <a:pt x="22126" y="3373"/>
                </a:cubicBezTo>
                <a:cubicBezTo>
                  <a:pt x="22314" y="3373"/>
                  <a:pt x="22591" y="3301"/>
                  <a:pt x="22547" y="3026"/>
                </a:cubicBezTo>
                <a:cubicBezTo>
                  <a:pt x="22527" y="2899"/>
                  <a:pt x="22317" y="2865"/>
                  <a:pt x="22225" y="2828"/>
                </a:cubicBezTo>
              </a:path>
              <a:path w="2978" h="3598">
                <a:moveTo>
                  <a:pt x="22547" y="2530"/>
                </a:moveTo>
                <a:cubicBezTo>
                  <a:pt x="22629" y="2503"/>
                  <a:pt x="22662" y="2492"/>
                  <a:pt x="22721" y="2480"/>
                </a:cubicBezTo>
                <a:cubicBezTo>
                  <a:pt x="22740" y="2592"/>
                  <a:pt x="22741" y="2589"/>
                  <a:pt x="22671" y="2679"/>
                </a:cubicBezTo>
                <a:cubicBezTo>
                  <a:pt x="22736" y="2679"/>
                  <a:pt x="22918" y="2759"/>
                  <a:pt x="22771" y="2803"/>
                </a:cubicBezTo>
                <a:cubicBezTo>
                  <a:pt x="22738" y="2803"/>
                  <a:pt x="22704" y="2803"/>
                  <a:pt x="22671" y="2803"/>
                </a:cubicBezTo>
              </a:path>
              <a:path w="2978" h="3598">
                <a:moveTo>
                  <a:pt x="21803" y="3969"/>
                </a:moveTo>
                <a:cubicBezTo>
                  <a:pt x="21834" y="4117"/>
                  <a:pt x="21861" y="4265"/>
                  <a:pt x="21878" y="4415"/>
                </a:cubicBezTo>
              </a:path>
              <a:path w="2978" h="3598">
                <a:moveTo>
                  <a:pt x="22151" y="3944"/>
                </a:moveTo>
                <a:cubicBezTo>
                  <a:pt x="22089" y="4082"/>
                  <a:pt x="21957" y="4371"/>
                  <a:pt x="22250" y="4316"/>
                </a:cubicBezTo>
                <a:cubicBezTo>
                  <a:pt x="22459" y="4277"/>
                  <a:pt x="22488" y="4201"/>
                  <a:pt x="22498" y="4043"/>
                </a:cubicBezTo>
                <a:cubicBezTo>
                  <a:pt x="22413" y="3987"/>
                  <a:pt x="22376" y="3969"/>
                  <a:pt x="22299" y="3969"/>
                </a:cubicBezTo>
              </a:path>
              <a:path w="2978" h="3598">
                <a:moveTo>
                  <a:pt x="22572" y="3770"/>
                </a:moveTo>
                <a:cubicBezTo>
                  <a:pt x="22669" y="3861"/>
                  <a:pt x="22761" y="3941"/>
                  <a:pt x="22870" y="4018"/>
                </a:cubicBezTo>
              </a:path>
              <a:path w="2978" h="3598">
                <a:moveTo>
                  <a:pt x="22796" y="3671"/>
                </a:moveTo>
                <a:cubicBezTo>
                  <a:pt x="22739" y="3818"/>
                  <a:pt x="22677" y="3969"/>
                  <a:pt x="22647" y="4118"/>
                </a:cubicBezTo>
              </a:path>
              <a:path w="2978" h="3598">
                <a:moveTo>
                  <a:pt x="23019" y="3547"/>
                </a:moveTo>
                <a:cubicBezTo>
                  <a:pt x="23055" y="3703"/>
                  <a:pt x="23124" y="3859"/>
                  <a:pt x="23168" y="4018"/>
                </a:cubicBezTo>
              </a:path>
              <a:path w="2978" h="3598">
                <a:moveTo>
                  <a:pt x="23416" y="3473"/>
                </a:moveTo>
                <a:cubicBezTo>
                  <a:pt x="23297" y="3633"/>
                  <a:pt x="23282" y="3670"/>
                  <a:pt x="23292" y="3870"/>
                </a:cubicBezTo>
                <a:cubicBezTo>
                  <a:pt x="23463" y="3876"/>
                  <a:pt x="23791" y="3885"/>
                  <a:pt x="23713" y="3597"/>
                </a:cubicBezTo>
                <a:cubicBezTo>
                  <a:pt x="23674" y="3455"/>
                  <a:pt x="23548" y="3479"/>
                  <a:pt x="23440" y="3473"/>
                </a:cubicBezTo>
              </a:path>
              <a:path w="2978" h="3598">
                <a:moveTo>
                  <a:pt x="23788" y="3423"/>
                </a:moveTo>
                <a:cubicBezTo>
                  <a:pt x="23891" y="3512"/>
                  <a:pt x="23990" y="3580"/>
                  <a:pt x="24110" y="3646"/>
                </a:cubicBezTo>
              </a:path>
              <a:path w="2978" h="3598">
                <a:moveTo>
                  <a:pt x="23961" y="3349"/>
                </a:moveTo>
                <a:cubicBezTo>
                  <a:pt x="23900" y="3496"/>
                  <a:pt x="23866" y="3648"/>
                  <a:pt x="23812" y="3795"/>
                </a:cubicBezTo>
              </a:path>
              <a:path w="2978" h="3598">
                <a:moveTo>
                  <a:pt x="24011" y="3175"/>
                </a:moveTo>
                <a:cubicBezTo>
                  <a:pt x="24052" y="3324"/>
                  <a:pt x="24110" y="3471"/>
                  <a:pt x="24135" y="3621"/>
                </a:cubicBezTo>
              </a:path>
              <a:path w="2978" h="3598">
                <a:moveTo>
                  <a:pt x="24383" y="3076"/>
                </a:moveTo>
                <a:cubicBezTo>
                  <a:pt x="24270" y="3107"/>
                  <a:pt x="24150" y="3248"/>
                  <a:pt x="24209" y="3398"/>
                </a:cubicBezTo>
                <a:cubicBezTo>
                  <a:pt x="24292" y="3608"/>
                  <a:pt x="24505" y="3447"/>
                  <a:pt x="24557" y="3324"/>
                </a:cubicBezTo>
                <a:cubicBezTo>
                  <a:pt x="24627" y="3159"/>
                  <a:pt x="24570" y="3137"/>
                  <a:pt x="24457" y="3076"/>
                </a:cubicBezTo>
              </a:path>
              <a:path w="2978" h="3598">
                <a:moveTo>
                  <a:pt x="22473" y="4539"/>
                </a:moveTo>
                <a:cubicBezTo>
                  <a:pt x="22572" y="4519"/>
                  <a:pt x="22570" y="4665"/>
                  <a:pt x="22671" y="4713"/>
                </a:cubicBezTo>
                <a:cubicBezTo>
                  <a:pt x="22872" y="4808"/>
                  <a:pt x="23087" y="4645"/>
                  <a:pt x="23242" y="4539"/>
                </a:cubicBezTo>
                <a:cubicBezTo>
                  <a:pt x="23354" y="4463"/>
                  <a:pt x="23409" y="4410"/>
                  <a:pt x="23391" y="4291"/>
                </a:cubicBezTo>
                <a:cubicBezTo>
                  <a:pt x="23391" y="4283"/>
                  <a:pt x="23391" y="4274"/>
                  <a:pt x="23391" y="4266"/>
                </a:cubicBezTo>
              </a:path>
              <a:path w="2978" h="3598">
                <a:moveTo>
                  <a:pt x="22423" y="5209"/>
                </a:moveTo>
                <a:cubicBezTo>
                  <a:pt x="22512" y="5343"/>
                  <a:pt x="22554" y="5425"/>
                  <a:pt x="22597" y="5581"/>
                </a:cubicBezTo>
              </a:path>
              <a:path w="2978" h="3598">
                <a:moveTo>
                  <a:pt x="22796" y="5110"/>
                </a:moveTo>
                <a:cubicBezTo>
                  <a:pt x="22731" y="5239"/>
                  <a:pt x="22706" y="5266"/>
                  <a:pt x="22721" y="5358"/>
                </a:cubicBezTo>
                <a:cubicBezTo>
                  <a:pt x="22818" y="5390"/>
                  <a:pt x="23137" y="5408"/>
                  <a:pt x="23068" y="5184"/>
                </a:cubicBezTo>
                <a:cubicBezTo>
                  <a:pt x="23031" y="5063"/>
                  <a:pt x="22847" y="5165"/>
                  <a:pt x="22796" y="5184"/>
                </a:cubicBezTo>
              </a:path>
              <a:path w="2978" h="3598">
                <a:moveTo>
                  <a:pt x="23143" y="4961"/>
                </a:moveTo>
                <a:cubicBezTo>
                  <a:pt x="23118" y="5084"/>
                  <a:pt x="23110" y="5125"/>
                  <a:pt x="23118" y="5209"/>
                </a:cubicBezTo>
                <a:cubicBezTo>
                  <a:pt x="23196" y="5215"/>
                  <a:pt x="23530" y="5155"/>
                  <a:pt x="23416" y="4986"/>
                </a:cubicBezTo>
                <a:cubicBezTo>
                  <a:pt x="23383" y="4969"/>
                  <a:pt x="23349" y="4953"/>
                  <a:pt x="23316" y="4936"/>
                </a:cubicBezTo>
              </a:path>
              <a:path w="2978" h="3598">
                <a:moveTo>
                  <a:pt x="23465" y="4936"/>
                </a:moveTo>
                <a:cubicBezTo>
                  <a:pt x="23600" y="4891"/>
                  <a:pt x="23787" y="4889"/>
                  <a:pt x="23912" y="4812"/>
                </a:cubicBezTo>
                <a:cubicBezTo>
                  <a:pt x="24123" y="4682"/>
                  <a:pt x="24310" y="4366"/>
                  <a:pt x="24333" y="4118"/>
                </a:cubicBezTo>
                <a:cubicBezTo>
                  <a:pt x="24338" y="4066"/>
                  <a:pt x="24305" y="3961"/>
                  <a:pt x="24284" y="3919"/>
                </a:cubicBezTo>
              </a:path>
              <a:path w="2978" h="3598">
                <a:moveTo>
                  <a:pt x="23440" y="5556"/>
                </a:moveTo>
                <a:cubicBezTo>
                  <a:pt x="23462" y="5731"/>
                  <a:pt x="23505" y="5898"/>
                  <a:pt x="23515" y="6077"/>
                </a:cubicBezTo>
              </a:path>
              <a:path w="2978" h="3598">
                <a:moveTo>
                  <a:pt x="23788" y="5482"/>
                </a:moveTo>
                <a:cubicBezTo>
                  <a:pt x="23702" y="5644"/>
                  <a:pt x="23691" y="5678"/>
                  <a:pt x="23738" y="5854"/>
                </a:cubicBezTo>
                <a:cubicBezTo>
                  <a:pt x="23858" y="5812"/>
                  <a:pt x="24161" y="5722"/>
                  <a:pt x="24036" y="5531"/>
                </a:cubicBezTo>
                <a:cubicBezTo>
                  <a:pt x="23932" y="5479"/>
                  <a:pt x="23893" y="5464"/>
                  <a:pt x="23812" y="5507"/>
                </a:cubicBezTo>
              </a:path>
              <a:path w="2978" h="3598">
                <a:moveTo>
                  <a:pt x="24061" y="5209"/>
                </a:moveTo>
                <a:cubicBezTo>
                  <a:pt x="24037" y="5328"/>
                  <a:pt x="24041" y="5411"/>
                  <a:pt x="24061" y="5531"/>
                </a:cubicBezTo>
                <a:cubicBezTo>
                  <a:pt x="24217" y="5544"/>
                  <a:pt x="24355" y="5457"/>
                  <a:pt x="24309" y="5259"/>
                </a:cubicBezTo>
                <a:cubicBezTo>
                  <a:pt x="24252" y="5202"/>
                  <a:pt x="24225" y="5182"/>
                  <a:pt x="24160" y="5184"/>
                </a:cubicBezTo>
              </a:path>
              <a:path w="2978" h="3598">
                <a:moveTo>
                  <a:pt x="24408" y="4936"/>
                </a:moveTo>
                <a:cubicBezTo>
                  <a:pt x="24347" y="5090"/>
                  <a:pt x="24340" y="5128"/>
                  <a:pt x="24383" y="5283"/>
                </a:cubicBezTo>
                <a:cubicBezTo>
                  <a:pt x="24512" y="5283"/>
                  <a:pt x="24748" y="5217"/>
                  <a:pt x="24681" y="5011"/>
                </a:cubicBezTo>
                <a:cubicBezTo>
                  <a:pt x="24601" y="4931"/>
                  <a:pt x="24570" y="4905"/>
                  <a:pt x="24482" y="4911"/>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3224160" y="1704960"/>
            <a:ext cx="1133640" cy="349200"/>
          </a:xfrm>
          <a:custGeom>
            <a:avLst/>
            <a:gdLst/>
            <a:ahLst/>
            <a:rect l="l" t="t" r="r" b="b"/>
            <a:pathLst>
              <a:path w="3152" h="968">
                <a:moveTo>
                  <a:pt x="8954" y="4862"/>
                </a:moveTo>
                <a:cubicBezTo>
                  <a:pt x="8996" y="4945"/>
                  <a:pt x="8996" y="4969"/>
                  <a:pt x="9054" y="4986"/>
                </a:cubicBezTo>
                <a:cubicBezTo>
                  <a:pt x="9145" y="4822"/>
                  <a:pt x="9168" y="4859"/>
                  <a:pt x="9351" y="4837"/>
                </a:cubicBezTo>
                <a:cubicBezTo>
                  <a:pt x="9482" y="4821"/>
                  <a:pt x="9598" y="4779"/>
                  <a:pt x="9723" y="4738"/>
                </a:cubicBezTo>
                <a:cubicBezTo>
                  <a:pt x="9700" y="4973"/>
                  <a:pt x="9666" y="5212"/>
                  <a:pt x="9575" y="5432"/>
                </a:cubicBezTo>
                <a:cubicBezTo>
                  <a:pt x="9550" y="5473"/>
                  <a:pt x="9525" y="5515"/>
                  <a:pt x="9500" y="5556"/>
                </a:cubicBezTo>
              </a:path>
              <a:path w="3152" h="968">
                <a:moveTo>
                  <a:pt x="9773" y="5531"/>
                </a:moveTo>
                <a:cubicBezTo>
                  <a:pt x="9773" y="5581"/>
                  <a:pt x="9773" y="5630"/>
                  <a:pt x="9773" y="5680"/>
                </a:cubicBezTo>
              </a:path>
              <a:path w="3152" h="968">
                <a:moveTo>
                  <a:pt x="9996" y="5011"/>
                </a:moveTo>
                <a:cubicBezTo>
                  <a:pt x="10089" y="4904"/>
                  <a:pt x="10289" y="4837"/>
                  <a:pt x="10418" y="4961"/>
                </a:cubicBezTo>
                <a:cubicBezTo>
                  <a:pt x="10554" y="5092"/>
                  <a:pt x="10282" y="5176"/>
                  <a:pt x="10220" y="5209"/>
                </a:cubicBezTo>
                <a:cubicBezTo>
                  <a:pt x="10447" y="5189"/>
                  <a:pt x="10462" y="5187"/>
                  <a:pt x="10616" y="5333"/>
                </a:cubicBezTo>
                <a:cubicBezTo>
                  <a:pt x="10429" y="5531"/>
                  <a:pt x="10325" y="5591"/>
                  <a:pt x="10071" y="5457"/>
                </a:cubicBezTo>
              </a:path>
              <a:path w="3152" h="968">
                <a:moveTo>
                  <a:pt x="11063" y="5011"/>
                </a:moveTo>
                <a:cubicBezTo>
                  <a:pt x="11206" y="5108"/>
                  <a:pt x="11532" y="5348"/>
                  <a:pt x="11261" y="5531"/>
                </a:cubicBezTo>
                <a:cubicBezTo>
                  <a:pt x="11072" y="5659"/>
                  <a:pt x="10925" y="5616"/>
                  <a:pt x="10765" y="5531"/>
                </a:cubicBezTo>
                <a:cubicBezTo>
                  <a:pt x="10948" y="5416"/>
                  <a:pt x="11154" y="5272"/>
                  <a:pt x="11336" y="5482"/>
                </a:cubicBezTo>
                <a:cubicBezTo>
                  <a:pt x="11396" y="5551"/>
                  <a:pt x="11385" y="5626"/>
                  <a:pt x="11385" y="5705"/>
                </a:cubicBezTo>
              </a:path>
              <a:path w="3152" h="968">
                <a:moveTo>
                  <a:pt x="12005" y="5085"/>
                </a:moveTo>
                <a:cubicBezTo>
                  <a:pt x="11947" y="5048"/>
                  <a:pt x="11795" y="4945"/>
                  <a:pt x="11733" y="5035"/>
                </a:cubicBezTo>
                <a:cubicBezTo>
                  <a:pt x="11673" y="5122"/>
                  <a:pt x="11683" y="5186"/>
                  <a:pt x="11683" y="5283"/>
                </a:cubicBezTo>
                <a:cubicBezTo>
                  <a:pt x="11778" y="5324"/>
                  <a:pt x="11876" y="5308"/>
                  <a:pt x="11981" y="5308"/>
                </a:cubicBezTo>
                <a:cubicBezTo>
                  <a:pt x="12073" y="5308"/>
                  <a:pt x="12104" y="5302"/>
                  <a:pt x="12105" y="5383"/>
                </a:cubicBezTo>
                <a:cubicBezTo>
                  <a:pt x="12059" y="5530"/>
                  <a:pt x="11945" y="5664"/>
                  <a:pt x="11757" y="5631"/>
                </a:cubicBezTo>
                <a:cubicBezTo>
                  <a:pt x="11724" y="5614"/>
                  <a:pt x="11691" y="5598"/>
                  <a:pt x="11658" y="5581"/>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812880" y="2062080"/>
            <a:ext cx="4438440" cy="447840"/>
          </a:xfrm>
          <a:custGeom>
            <a:avLst/>
            <a:gdLst/>
            <a:ahLst/>
            <a:rect l="l" t="t" r="r" b="b"/>
            <a:pathLst>
              <a:path w="12329" h="1241">
                <a:moveTo>
                  <a:pt x="2456" y="5879"/>
                </a:moveTo>
                <a:cubicBezTo>
                  <a:pt x="2334" y="6146"/>
                  <a:pt x="2158" y="6425"/>
                  <a:pt x="2356" y="6697"/>
                </a:cubicBezTo>
                <a:cubicBezTo>
                  <a:pt x="2461" y="6761"/>
                  <a:pt x="2481" y="6779"/>
                  <a:pt x="2555" y="6796"/>
                </a:cubicBezTo>
              </a:path>
              <a:path w="12329" h="1241">
                <a:moveTo>
                  <a:pt x="2505" y="6300"/>
                </a:moveTo>
                <a:cubicBezTo>
                  <a:pt x="2640" y="6256"/>
                  <a:pt x="2759" y="6251"/>
                  <a:pt x="2902" y="6251"/>
                </a:cubicBezTo>
                <a:cubicBezTo>
                  <a:pt x="2891" y="6408"/>
                  <a:pt x="2869" y="6569"/>
                  <a:pt x="2828" y="6722"/>
                </a:cubicBezTo>
                <a:cubicBezTo>
                  <a:pt x="2820" y="6747"/>
                  <a:pt x="2811" y="6771"/>
                  <a:pt x="2803" y="6796"/>
                </a:cubicBezTo>
              </a:path>
              <a:path w="12329" h="1241">
                <a:moveTo>
                  <a:pt x="3175" y="6375"/>
                </a:moveTo>
                <a:cubicBezTo>
                  <a:pt x="3297" y="6491"/>
                  <a:pt x="3404" y="6585"/>
                  <a:pt x="3547" y="6672"/>
                </a:cubicBezTo>
              </a:path>
              <a:path w="12329" h="1241">
                <a:moveTo>
                  <a:pt x="3473" y="6375"/>
                </a:moveTo>
                <a:cubicBezTo>
                  <a:pt x="3343" y="6543"/>
                  <a:pt x="3216" y="6712"/>
                  <a:pt x="3076" y="6871"/>
                </a:cubicBezTo>
              </a:path>
              <a:path w="12329" h="1241">
                <a:moveTo>
                  <a:pt x="3820" y="6251"/>
                </a:moveTo>
                <a:cubicBezTo>
                  <a:pt x="3820" y="6416"/>
                  <a:pt x="3820" y="6582"/>
                  <a:pt x="3820" y="6747"/>
                </a:cubicBezTo>
              </a:path>
              <a:path w="12329" h="1241">
                <a:moveTo>
                  <a:pt x="4266" y="6251"/>
                </a:moveTo>
                <a:cubicBezTo>
                  <a:pt x="4121" y="6445"/>
                  <a:pt x="4076" y="6566"/>
                  <a:pt x="4118" y="6796"/>
                </a:cubicBezTo>
                <a:cubicBezTo>
                  <a:pt x="4318" y="6779"/>
                  <a:pt x="4622" y="6675"/>
                  <a:pt x="4514" y="6375"/>
                </a:cubicBezTo>
                <a:cubicBezTo>
                  <a:pt x="4419" y="6280"/>
                  <a:pt x="4391" y="6247"/>
                  <a:pt x="4291" y="6276"/>
                </a:cubicBezTo>
              </a:path>
              <a:path w="12329" h="1241">
                <a:moveTo>
                  <a:pt x="4812" y="5978"/>
                </a:moveTo>
                <a:cubicBezTo>
                  <a:pt x="4897" y="5966"/>
                  <a:pt x="5105" y="5871"/>
                  <a:pt x="5011" y="6052"/>
                </a:cubicBezTo>
                <a:cubicBezTo>
                  <a:pt x="4986" y="6077"/>
                  <a:pt x="4961" y="6102"/>
                  <a:pt x="4936" y="6127"/>
                </a:cubicBezTo>
                <a:cubicBezTo>
                  <a:pt x="5028" y="6127"/>
                  <a:pt x="5055" y="6125"/>
                  <a:pt x="5110" y="6152"/>
                </a:cubicBezTo>
                <a:cubicBezTo>
                  <a:pt x="5064" y="6350"/>
                  <a:pt x="4996" y="6369"/>
                  <a:pt x="4812" y="6325"/>
                </a:cubicBezTo>
              </a:path>
              <a:path w="12329" h="1241">
                <a:moveTo>
                  <a:pt x="5234" y="5730"/>
                </a:moveTo>
                <a:cubicBezTo>
                  <a:pt x="5398" y="6004"/>
                  <a:pt x="5622" y="6259"/>
                  <a:pt x="5482" y="6598"/>
                </a:cubicBezTo>
                <a:cubicBezTo>
                  <a:pt x="5329" y="6816"/>
                  <a:pt x="5299" y="6876"/>
                  <a:pt x="5159" y="6970"/>
                </a:cubicBezTo>
              </a:path>
              <a:path w="12329" h="1241">
                <a:moveTo>
                  <a:pt x="6102" y="6201"/>
                </a:moveTo>
                <a:cubicBezTo>
                  <a:pt x="6102" y="6317"/>
                  <a:pt x="6102" y="6432"/>
                  <a:pt x="6102" y="6548"/>
                </a:cubicBezTo>
              </a:path>
              <a:path w="12329" h="1241">
                <a:moveTo>
                  <a:pt x="5879" y="6375"/>
                </a:moveTo>
                <a:cubicBezTo>
                  <a:pt x="6046" y="6367"/>
                  <a:pt x="6209" y="6339"/>
                  <a:pt x="6375" y="6325"/>
                </a:cubicBezTo>
              </a:path>
              <a:path w="12329" h="1241">
                <a:moveTo>
                  <a:pt x="6821" y="5854"/>
                </a:moveTo>
                <a:cubicBezTo>
                  <a:pt x="6721" y="6062"/>
                  <a:pt x="6433" y="6512"/>
                  <a:pt x="6772" y="6672"/>
                </a:cubicBezTo>
                <a:cubicBezTo>
                  <a:pt x="6830" y="6672"/>
                  <a:pt x="6887" y="6672"/>
                  <a:pt x="6945" y="6672"/>
                </a:cubicBezTo>
              </a:path>
              <a:path w="12329" h="1241">
                <a:moveTo>
                  <a:pt x="7020" y="6052"/>
                </a:moveTo>
                <a:cubicBezTo>
                  <a:pt x="7065" y="6033"/>
                  <a:pt x="7283" y="5979"/>
                  <a:pt x="7317" y="6052"/>
                </a:cubicBezTo>
                <a:cubicBezTo>
                  <a:pt x="7390" y="6207"/>
                  <a:pt x="7156" y="6257"/>
                  <a:pt x="7069" y="6300"/>
                </a:cubicBezTo>
                <a:cubicBezTo>
                  <a:pt x="7273" y="6245"/>
                  <a:pt x="7283" y="6231"/>
                  <a:pt x="7441" y="6350"/>
                </a:cubicBezTo>
                <a:cubicBezTo>
                  <a:pt x="7285" y="6599"/>
                  <a:pt x="7181" y="6603"/>
                  <a:pt x="6896" y="6548"/>
                </a:cubicBezTo>
              </a:path>
              <a:path w="12329" h="1241">
                <a:moveTo>
                  <a:pt x="7565" y="6127"/>
                </a:moveTo>
                <a:cubicBezTo>
                  <a:pt x="7680" y="6286"/>
                  <a:pt x="7803" y="6431"/>
                  <a:pt x="7938" y="6573"/>
                </a:cubicBezTo>
                <a:cubicBezTo>
                  <a:pt x="7946" y="6581"/>
                  <a:pt x="7954" y="6590"/>
                  <a:pt x="7962" y="6598"/>
                </a:cubicBezTo>
              </a:path>
              <a:path w="12329" h="1241">
                <a:moveTo>
                  <a:pt x="7913" y="6127"/>
                </a:moveTo>
                <a:cubicBezTo>
                  <a:pt x="7771" y="6316"/>
                  <a:pt x="7631" y="6507"/>
                  <a:pt x="7491" y="6697"/>
                </a:cubicBezTo>
              </a:path>
              <a:path w="12329" h="1241">
                <a:moveTo>
                  <a:pt x="8136" y="6152"/>
                </a:moveTo>
                <a:cubicBezTo>
                  <a:pt x="8191" y="6329"/>
                  <a:pt x="8225" y="6488"/>
                  <a:pt x="8235" y="6672"/>
                </a:cubicBezTo>
              </a:path>
              <a:path w="12329" h="1241">
                <a:moveTo>
                  <a:pt x="8756" y="6127"/>
                </a:moveTo>
                <a:cubicBezTo>
                  <a:pt x="8599" y="6284"/>
                  <a:pt x="8599" y="6433"/>
                  <a:pt x="8607" y="6648"/>
                </a:cubicBezTo>
                <a:cubicBezTo>
                  <a:pt x="8791" y="6696"/>
                  <a:pt x="9053" y="6692"/>
                  <a:pt x="8979" y="6400"/>
                </a:cubicBezTo>
                <a:cubicBezTo>
                  <a:pt x="8940" y="6245"/>
                  <a:pt x="8797" y="6244"/>
                  <a:pt x="8682" y="6226"/>
                </a:cubicBezTo>
              </a:path>
              <a:path w="12329" h="1241">
                <a:moveTo>
                  <a:pt x="9103" y="5978"/>
                </a:moveTo>
                <a:cubicBezTo>
                  <a:pt x="9214" y="6020"/>
                  <a:pt x="9466" y="6115"/>
                  <a:pt x="9277" y="6251"/>
                </a:cubicBezTo>
                <a:cubicBezTo>
                  <a:pt x="9140" y="6305"/>
                  <a:pt x="9086" y="6321"/>
                  <a:pt x="8979" y="6300"/>
                </a:cubicBezTo>
                <a:cubicBezTo>
                  <a:pt x="8963" y="6292"/>
                  <a:pt x="8946" y="6284"/>
                  <a:pt x="8930" y="6276"/>
                </a:cubicBezTo>
                <a:cubicBezTo>
                  <a:pt x="9073" y="6204"/>
                  <a:pt x="9124" y="6253"/>
                  <a:pt x="9277" y="6300"/>
                </a:cubicBezTo>
              </a:path>
              <a:path w="12329" h="1241">
                <a:moveTo>
                  <a:pt x="9475" y="5854"/>
                </a:moveTo>
                <a:cubicBezTo>
                  <a:pt x="9616" y="6069"/>
                  <a:pt x="9865" y="6400"/>
                  <a:pt x="9699" y="6672"/>
                </a:cubicBezTo>
                <a:cubicBezTo>
                  <a:pt x="9571" y="6778"/>
                  <a:pt x="9546" y="6807"/>
                  <a:pt x="9451" y="6846"/>
                </a:cubicBezTo>
              </a:path>
              <a:path w="12329" h="1241">
                <a:moveTo>
                  <a:pt x="10195" y="6127"/>
                </a:moveTo>
                <a:cubicBezTo>
                  <a:pt x="10206" y="6237"/>
                  <a:pt x="10215" y="6339"/>
                  <a:pt x="10220" y="6449"/>
                </a:cubicBezTo>
              </a:path>
              <a:path w="12329" h="1241">
                <a:moveTo>
                  <a:pt x="10096" y="6300"/>
                </a:moveTo>
                <a:cubicBezTo>
                  <a:pt x="10256" y="6293"/>
                  <a:pt x="10408" y="6275"/>
                  <a:pt x="10567" y="6251"/>
                </a:cubicBezTo>
              </a:path>
              <a:path w="12329" h="1241">
                <a:moveTo>
                  <a:pt x="11063" y="5779"/>
                </a:moveTo>
                <a:cubicBezTo>
                  <a:pt x="10862" y="6010"/>
                  <a:pt x="10757" y="6291"/>
                  <a:pt x="10889" y="6598"/>
                </a:cubicBezTo>
                <a:cubicBezTo>
                  <a:pt x="11005" y="6738"/>
                  <a:pt x="11035" y="6783"/>
                  <a:pt x="11162" y="6796"/>
                </a:cubicBezTo>
              </a:path>
              <a:path w="12329" h="1241">
                <a:moveTo>
                  <a:pt x="11311" y="6176"/>
                </a:moveTo>
                <a:cubicBezTo>
                  <a:pt x="11488" y="6144"/>
                  <a:pt x="11837" y="6146"/>
                  <a:pt x="11757" y="6449"/>
                </a:cubicBezTo>
                <a:cubicBezTo>
                  <a:pt x="11696" y="6682"/>
                  <a:pt x="11507" y="6630"/>
                  <a:pt x="11336" y="6623"/>
                </a:cubicBezTo>
                <a:cubicBezTo>
                  <a:pt x="11375" y="6429"/>
                  <a:pt x="11429" y="6410"/>
                  <a:pt x="11609" y="6524"/>
                </a:cubicBezTo>
                <a:cubicBezTo>
                  <a:pt x="11709" y="6599"/>
                  <a:pt x="11743" y="6623"/>
                  <a:pt x="11832" y="6623"/>
                </a:cubicBezTo>
              </a:path>
              <a:path w="12329" h="1241">
                <a:moveTo>
                  <a:pt x="12129" y="6251"/>
                </a:moveTo>
                <a:cubicBezTo>
                  <a:pt x="12257" y="6371"/>
                  <a:pt x="12381" y="6475"/>
                  <a:pt x="12526" y="6573"/>
                </a:cubicBezTo>
              </a:path>
              <a:path w="12329" h="1241">
                <a:moveTo>
                  <a:pt x="12502" y="6152"/>
                </a:moveTo>
                <a:cubicBezTo>
                  <a:pt x="12384" y="6299"/>
                  <a:pt x="12270" y="6449"/>
                  <a:pt x="12154" y="6598"/>
                </a:cubicBezTo>
              </a:path>
              <a:path w="12329" h="1241">
                <a:moveTo>
                  <a:pt x="12898" y="6102"/>
                </a:moveTo>
                <a:cubicBezTo>
                  <a:pt x="12927" y="6288"/>
                  <a:pt x="12985" y="6469"/>
                  <a:pt x="13047" y="6648"/>
                </a:cubicBezTo>
              </a:path>
              <a:path w="12329" h="1241">
                <a:moveTo>
                  <a:pt x="13543" y="6176"/>
                </a:moveTo>
                <a:cubicBezTo>
                  <a:pt x="13363" y="6177"/>
                  <a:pt x="13235" y="6366"/>
                  <a:pt x="13271" y="6573"/>
                </a:cubicBezTo>
                <a:cubicBezTo>
                  <a:pt x="13296" y="6614"/>
                  <a:pt x="13320" y="6656"/>
                  <a:pt x="13345" y="6697"/>
                </a:cubicBezTo>
                <a:cubicBezTo>
                  <a:pt x="13534" y="6697"/>
                  <a:pt x="13882" y="6668"/>
                  <a:pt x="13717" y="6375"/>
                </a:cubicBezTo>
                <a:cubicBezTo>
                  <a:pt x="13597" y="6255"/>
                  <a:pt x="13560" y="6217"/>
                  <a:pt x="13469" y="6152"/>
                </a:cubicBezTo>
              </a:path>
              <a:path w="12329" h="1241">
                <a:moveTo>
                  <a:pt x="13915" y="5854"/>
                </a:moveTo>
                <a:cubicBezTo>
                  <a:pt x="13904" y="5946"/>
                  <a:pt x="13891" y="6030"/>
                  <a:pt x="13891" y="6127"/>
                </a:cubicBezTo>
              </a:path>
              <a:path w="12329" h="1241">
                <a:moveTo>
                  <a:pt x="14213" y="5779"/>
                </a:moveTo>
                <a:cubicBezTo>
                  <a:pt x="14310" y="6006"/>
                  <a:pt x="14525" y="6164"/>
                  <a:pt x="14585" y="6424"/>
                </a:cubicBezTo>
                <a:cubicBezTo>
                  <a:pt x="14652" y="6711"/>
                  <a:pt x="14491" y="6728"/>
                  <a:pt x="14288" y="6821"/>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429160" y="2241720"/>
            <a:ext cx="88920" cy="160200"/>
          </a:xfrm>
          <a:custGeom>
            <a:avLst/>
            <a:gdLst/>
            <a:ahLst/>
            <a:rect l="l" t="t" r="r" b="b"/>
            <a:pathLst>
              <a:path w="249" h="447">
                <a:moveTo>
                  <a:pt x="15180" y="6226"/>
                </a:moveTo>
                <a:cubicBezTo>
                  <a:pt x="15203" y="6375"/>
                  <a:pt x="15225" y="6524"/>
                  <a:pt x="15255" y="6672"/>
                </a:cubicBezTo>
              </a:path>
              <a:path w="249" h="447">
                <a:moveTo>
                  <a:pt x="15081" y="6424"/>
                </a:moveTo>
                <a:cubicBezTo>
                  <a:pt x="15164" y="6432"/>
                  <a:pt x="15246" y="6441"/>
                  <a:pt x="15329" y="644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5697360" y="1973160"/>
            <a:ext cx="1249560" cy="608040"/>
          </a:xfrm>
          <a:custGeom>
            <a:avLst/>
            <a:gdLst/>
            <a:ahLst/>
            <a:rect l="l" t="t" r="r" b="b"/>
            <a:pathLst>
              <a:path w="3474" h="1688">
                <a:moveTo>
                  <a:pt x="16073" y="5829"/>
                </a:moveTo>
                <a:cubicBezTo>
                  <a:pt x="15881" y="5926"/>
                  <a:pt x="15748" y="6243"/>
                  <a:pt x="15825" y="6474"/>
                </a:cubicBezTo>
                <a:cubicBezTo>
                  <a:pt x="15892" y="6677"/>
                  <a:pt x="16105" y="6723"/>
                  <a:pt x="16272" y="6772"/>
                </a:cubicBezTo>
              </a:path>
              <a:path w="3474" h="1688">
                <a:moveTo>
                  <a:pt x="16371" y="5978"/>
                </a:moveTo>
                <a:cubicBezTo>
                  <a:pt x="16262" y="6009"/>
                  <a:pt x="16246" y="6135"/>
                  <a:pt x="16222" y="6251"/>
                </a:cubicBezTo>
                <a:cubicBezTo>
                  <a:pt x="16222" y="6259"/>
                  <a:pt x="16222" y="6268"/>
                  <a:pt x="16222" y="6276"/>
                </a:cubicBezTo>
                <a:cubicBezTo>
                  <a:pt x="16370" y="6262"/>
                  <a:pt x="16600" y="6170"/>
                  <a:pt x="16743" y="6226"/>
                </a:cubicBezTo>
                <a:cubicBezTo>
                  <a:pt x="17011" y="6332"/>
                  <a:pt x="16740" y="6614"/>
                  <a:pt x="16570" y="6623"/>
                </a:cubicBezTo>
                <a:cubicBezTo>
                  <a:pt x="16512" y="6615"/>
                  <a:pt x="16454" y="6606"/>
                  <a:pt x="16396" y="6598"/>
                </a:cubicBezTo>
              </a:path>
              <a:path w="3474" h="1688">
                <a:moveTo>
                  <a:pt x="16966" y="6052"/>
                </a:moveTo>
                <a:cubicBezTo>
                  <a:pt x="17120" y="6201"/>
                  <a:pt x="17271" y="6341"/>
                  <a:pt x="17438" y="6474"/>
                </a:cubicBezTo>
              </a:path>
              <a:path w="3474" h="1688">
                <a:moveTo>
                  <a:pt x="17289" y="6028"/>
                </a:moveTo>
                <a:cubicBezTo>
                  <a:pt x="17209" y="6203"/>
                  <a:pt x="17127" y="6376"/>
                  <a:pt x="17041" y="6548"/>
                </a:cubicBezTo>
              </a:path>
              <a:path w="3474" h="1688">
                <a:moveTo>
                  <a:pt x="17810" y="6102"/>
                </a:moveTo>
                <a:cubicBezTo>
                  <a:pt x="17831" y="6269"/>
                  <a:pt x="17851" y="6433"/>
                  <a:pt x="17884" y="6598"/>
                </a:cubicBezTo>
              </a:path>
              <a:path w="3474" h="1688">
                <a:moveTo>
                  <a:pt x="18380" y="6052"/>
                </a:moveTo>
                <a:cubicBezTo>
                  <a:pt x="18243" y="6162"/>
                  <a:pt x="18059" y="6372"/>
                  <a:pt x="18132" y="6573"/>
                </a:cubicBezTo>
                <a:cubicBezTo>
                  <a:pt x="18213" y="6796"/>
                  <a:pt x="18589" y="6593"/>
                  <a:pt x="18604" y="6424"/>
                </a:cubicBezTo>
                <a:cubicBezTo>
                  <a:pt x="18617" y="6286"/>
                  <a:pt x="18419" y="6214"/>
                  <a:pt x="18331" y="6152"/>
                </a:cubicBezTo>
              </a:path>
              <a:path w="3474" h="1688">
                <a:moveTo>
                  <a:pt x="18703" y="5680"/>
                </a:moveTo>
                <a:cubicBezTo>
                  <a:pt x="18636" y="5794"/>
                  <a:pt x="18578" y="5918"/>
                  <a:pt x="18777" y="5904"/>
                </a:cubicBezTo>
                <a:cubicBezTo>
                  <a:pt x="18915" y="5894"/>
                  <a:pt x="18860" y="5827"/>
                  <a:pt x="18827" y="5755"/>
                </a:cubicBezTo>
              </a:path>
              <a:path w="3474" h="1688">
                <a:moveTo>
                  <a:pt x="16446" y="6003"/>
                </a:moveTo>
                <a:cubicBezTo>
                  <a:pt x="16589" y="5958"/>
                  <a:pt x="16740" y="5940"/>
                  <a:pt x="16892" y="5928"/>
                </a:cubicBezTo>
              </a:path>
              <a:path w="3474" h="1688">
                <a:moveTo>
                  <a:pt x="19000" y="5482"/>
                </a:moveTo>
                <a:cubicBezTo>
                  <a:pt x="19100" y="5767"/>
                  <a:pt x="19255" y="6073"/>
                  <a:pt x="19298" y="6375"/>
                </a:cubicBezTo>
                <a:cubicBezTo>
                  <a:pt x="19357" y="6794"/>
                  <a:pt x="19157" y="6964"/>
                  <a:pt x="18827" y="7144"/>
                </a:cubicBezTo>
                <a:cubicBezTo>
                  <a:pt x="18810" y="7152"/>
                  <a:pt x="18794" y="7161"/>
                  <a:pt x="18777" y="716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3081240" y="2946240"/>
            <a:ext cx="1320840" cy="339840"/>
          </a:xfrm>
          <a:custGeom>
            <a:avLst/>
            <a:gdLst/>
            <a:ahLst/>
            <a:rect l="l" t="t" r="r" b="b"/>
            <a:pathLst>
              <a:path w="3672" h="943">
                <a:moveTo>
                  <a:pt x="8830" y="8210"/>
                </a:moveTo>
                <a:cubicBezTo>
                  <a:pt x="8784" y="8398"/>
                  <a:pt x="8765" y="8546"/>
                  <a:pt x="8582" y="8607"/>
                </a:cubicBezTo>
                <a:cubicBezTo>
                  <a:pt x="8563" y="8443"/>
                  <a:pt x="8752" y="8514"/>
                  <a:pt x="8880" y="8533"/>
                </a:cubicBezTo>
                <a:cubicBezTo>
                  <a:pt x="9012" y="8555"/>
                  <a:pt x="9044" y="8563"/>
                  <a:pt x="9128" y="8558"/>
                </a:cubicBezTo>
              </a:path>
              <a:path w="3672" h="943">
                <a:moveTo>
                  <a:pt x="8979" y="8186"/>
                </a:moveTo>
                <a:cubicBezTo>
                  <a:pt x="8998" y="8392"/>
                  <a:pt x="9040" y="8599"/>
                  <a:pt x="9054" y="8806"/>
                </a:cubicBezTo>
                <a:cubicBezTo>
                  <a:pt x="9054" y="8847"/>
                  <a:pt x="9054" y="8889"/>
                  <a:pt x="9054" y="8930"/>
                </a:cubicBezTo>
              </a:path>
              <a:path w="3672" h="943">
                <a:moveTo>
                  <a:pt x="9475" y="8260"/>
                </a:moveTo>
                <a:cubicBezTo>
                  <a:pt x="9347" y="8389"/>
                  <a:pt x="9274" y="8589"/>
                  <a:pt x="9327" y="8781"/>
                </a:cubicBezTo>
                <a:cubicBezTo>
                  <a:pt x="9394" y="9024"/>
                  <a:pt x="9772" y="8966"/>
                  <a:pt x="9847" y="8756"/>
                </a:cubicBezTo>
                <a:cubicBezTo>
                  <a:pt x="9943" y="8485"/>
                  <a:pt x="9692" y="8309"/>
                  <a:pt x="9475" y="8260"/>
                </a:cubicBezTo>
                <a:cubicBezTo>
                  <a:pt x="9459" y="8260"/>
                  <a:pt x="9442" y="8260"/>
                  <a:pt x="9426" y="8260"/>
                </a:cubicBezTo>
              </a:path>
              <a:path w="3672" h="943">
                <a:moveTo>
                  <a:pt x="9971" y="8905"/>
                </a:moveTo>
                <a:cubicBezTo>
                  <a:pt x="10017" y="9018"/>
                  <a:pt x="10033" y="9048"/>
                  <a:pt x="10021" y="9128"/>
                </a:cubicBezTo>
              </a:path>
              <a:path w="3672" h="943">
                <a:moveTo>
                  <a:pt x="10641" y="8310"/>
                </a:moveTo>
                <a:cubicBezTo>
                  <a:pt x="10499" y="8310"/>
                  <a:pt x="10413" y="8300"/>
                  <a:pt x="10294" y="8384"/>
                </a:cubicBezTo>
                <a:cubicBezTo>
                  <a:pt x="10453" y="8542"/>
                  <a:pt x="10655" y="8646"/>
                  <a:pt x="10815" y="8806"/>
                </a:cubicBezTo>
                <a:cubicBezTo>
                  <a:pt x="10639" y="8904"/>
                  <a:pt x="10433" y="8919"/>
                  <a:pt x="10517" y="8632"/>
                </a:cubicBezTo>
                <a:cubicBezTo>
                  <a:pt x="10559" y="8487"/>
                  <a:pt x="10630" y="8482"/>
                  <a:pt x="10616" y="8359"/>
                </a:cubicBezTo>
              </a:path>
              <a:path w="3672" h="943">
                <a:moveTo>
                  <a:pt x="11038" y="8458"/>
                </a:moveTo>
                <a:cubicBezTo>
                  <a:pt x="11082" y="8245"/>
                  <a:pt x="11043" y="8602"/>
                  <a:pt x="11038" y="8632"/>
                </a:cubicBezTo>
                <a:cubicBezTo>
                  <a:pt x="11018" y="8742"/>
                  <a:pt x="10930" y="8945"/>
                  <a:pt x="11063" y="9029"/>
                </a:cubicBezTo>
                <a:cubicBezTo>
                  <a:pt x="11227" y="9133"/>
                  <a:pt x="11461" y="9017"/>
                  <a:pt x="11534" y="8855"/>
                </a:cubicBezTo>
                <a:cubicBezTo>
                  <a:pt x="11534" y="8822"/>
                  <a:pt x="11534" y="8789"/>
                  <a:pt x="11534" y="8756"/>
                </a:cubicBezTo>
                <a:cubicBezTo>
                  <a:pt x="11401" y="8678"/>
                  <a:pt x="11294" y="8654"/>
                  <a:pt x="11237" y="8855"/>
                </a:cubicBezTo>
                <a:cubicBezTo>
                  <a:pt x="11237" y="8956"/>
                  <a:pt x="11217" y="8987"/>
                  <a:pt x="11286" y="9004"/>
                </a:cubicBezTo>
              </a:path>
              <a:path w="3672" h="943">
                <a:moveTo>
                  <a:pt x="11881" y="8310"/>
                </a:moveTo>
                <a:cubicBezTo>
                  <a:pt x="11739" y="8392"/>
                  <a:pt x="11584" y="8569"/>
                  <a:pt x="11584" y="8756"/>
                </a:cubicBezTo>
                <a:cubicBezTo>
                  <a:pt x="11600" y="8789"/>
                  <a:pt x="11617" y="8822"/>
                  <a:pt x="11633" y="8855"/>
                </a:cubicBezTo>
                <a:cubicBezTo>
                  <a:pt x="11796" y="8877"/>
                  <a:pt x="12417" y="8908"/>
                  <a:pt x="12229" y="8533"/>
                </a:cubicBezTo>
                <a:cubicBezTo>
                  <a:pt x="12051" y="8406"/>
                  <a:pt x="11988" y="8364"/>
                  <a:pt x="11832" y="835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812880" y="3652920"/>
            <a:ext cx="322200" cy="347760"/>
          </a:xfrm>
          <a:custGeom>
            <a:avLst/>
            <a:gdLst/>
            <a:ahLst/>
            <a:rect l="l" t="t" r="r" b="b"/>
            <a:pathLst>
              <a:path w="894" h="968">
                <a:moveTo>
                  <a:pt x="2555" y="10145"/>
                </a:moveTo>
                <a:cubicBezTo>
                  <a:pt x="2438" y="10408"/>
                  <a:pt x="2154" y="10789"/>
                  <a:pt x="2332" y="11063"/>
                </a:cubicBezTo>
                <a:cubicBezTo>
                  <a:pt x="2357" y="11079"/>
                  <a:pt x="2381" y="11096"/>
                  <a:pt x="2406" y="11112"/>
                </a:cubicBezTo>
              </a:path>
              <a:path w="894" h="968">
                <a:moveTo>
                  <a:pt x="2853" y="10269"/>
                </a:moveTo>
                <a:cubicBezTo>
                  <a:pt x="2812" y="10454"/>
                  <a:pt x="2758" y="10532"/>
                  <a:pt x="3001" y="10517"/>
                </a:cubicBezTo>
                <a:cubicBezTo>
                  <a:pt x="3051" y="10509"/>
                  <a:pt x="3100" y="10500"/>
                  <a:pt x="3150" y="10492"/>
                </a:cubicBezTo>
              </a:path>
              <a:path w="894" h="968">
                <a:moveTo>
                  <a:pt x="3101" y="10195"/>
                </a:moveTo>
                <a:cubicBezTo>
                  <a:pt x="3065" y="10411"/>
                  <a:pt x="3056" y="10625"/>
                  <a:pt x="3026" y="10840"/>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268280" y="3679920"/>
            <a:ext cx="133560" cy="231840"/>
          </a:xfrm>
          <a:custGeom>
            <a:avLst/>
            <a:gdLst/>
            <a:ahLst/>
            <a:rect l="l" t="t" r="r" b="b"/>
            <a:pathLst>
              <a:path w="373" h="645">
                <a:moveTo>
                  <a:pt x="3522" y="10269"/>
                </a:moveTo>
                <a:cubicBezTo>
                  <a:pt x="3607" y="10447"/>
                  <a:pt x="3720" y="10596"/>
                  <a:pt x="3820" y="10765"/>
                </a:cubicBezTo>
              </a:path>
              <a:path w="373" h="645">
                <a:moveTo>
                  <a:pt x="3894" y="10220"/>
                </a:moveTo>
                <a:cubicBezTo>
                  <a:pt x="3813" y="10466"/>
                  <a:pt x="3721" y="10654"/>
                  <a:pt x="3572" y="1086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554120" y="3490920"/>
            <a:ext cx="2178000" cy="447840"/>
          </a:xfrm>
          <a:custGeom>
            <a:avLst/>
            <a:gdLst/>
            <a:ahLst/>
            <a:rect l="l" t="t" r="r" b="b"/>
            <a:pathLst>
              <a:path w="6053" h="1241">
                <a:moveTo>
                  <a:pt x="4366" y="10244"/>
                </a:moveTo>
                <a:cubicBezTo>
                  <a:pt x="4336" y="10432"/>
                  <a:pt x="4325" y="10623"/>
                  <a:pt x="4316" y="10815"/>
                </a:cubicBezTo>
              </a:path>
              <a:path w="6053" h="1241">
                <a:moveTo>
                  <a:pt x="4787" y="10344"/>
                </a:moveTo>
                <a:cubicBezTo>
                  <a:pt x="4691" y="10559"/>
                  <a:pt x="4566" y="10719"/>
                  <a:pt x="4638" y="10939"/>
                </a:cubicBezTo>
                <a:cubicBezTo>
                  <a:pt x="4857" y="10901"/>
                  <a:pt x="5099" y="10764"/>
                  <a:pt x="5011" y="10468"/>
                </a:cubicBezTo>
                <a:cubicBezTo>
                  <a:pt x="4916" y="10351"/>
                  <a:pt x="4891" y="10312"/>
                  <a:pt x="4787" y="10294"/>
                </a:cubicBezTo>
              </a:path>
              <a:path w="6053" h="1241">
                <a:moveTo>
                  <a:pt x="5159" y="10071"/>
                </a:moveTo>
                <a:cubicBezTo>
                  <a:pt x="5139" y="10155"/>
                  <a:pt x="5137" y="10174"/>
                  <a:pt x="5110" y="10220"/>
                </a:cubicBezTo>
                <a:cubicBezTo>
                  <a:pt x="5217" y="10220"/>
                  <a:pt x="5325" y="10220"/>
                  <a:pt x="5432" y="10220"/>
                </a:cubicBezTo>
              </a:path>
              <a:path w="6053" h="1241">
                <a:moveTo>
                  <a:pt x="5383" y="10021"/>
                </a:moveTo>
                <a:cubicBezTo>
                  <a:pt x="5378" y="10147"/>
                  <a:pt x="5372" y="10244"/>
                  <a:pt x="5358" y="10368"/>
                </a:cubicBezTo>
              </a:path>
              <a:path w="6053" h="1241">
                <a:moveTo>
                  <a:pt x="5457" y="9773"/>
                </a:moveTo>
                <a:cubicBezTo>
                  <a:pt x="5688" y="9955"/>
                  <a:pt x="5897" y="10158"/>
                  <a:pt x="5854" y="10492"/>
                </a:cubicBezTo>
                <a:cubicBezTo>
                  <a:pt x="5838" y="10619"/>
                  <a:pt x="5718" y="10770"/>
                  <a:pt x="5606" y="10815"/>
                </a:cubicBezTo>
              </a:path>
              <a:path w="6053" h="1241">
                <a:moveTo>
                  <a:pt x="6424" y="10269"/>
                </a:moveTo>
                <a:cubicBezTo>
                  <a:pt x="6398" y="10402"/>
                  <a:pt x="6410" y="10538"/>
                  <a:pt x="6375" y="10666"/>
                </a:cubicBezTo>
              </a:path>
              <a:path w="6053" h="1241">
                <a:moveTo>
                  <a:pt x="6152" y="10443"/>
                </a:moveTo>
                <a:cubicBezTo>
                  <a:pt x="6320" y="10443"/>
                  <a:pt x="6481" y="10428"/>
                  <a:pt x="6648" y="10418"/>
                </a:cubicBezTo>
              </a:path>
              <a:path w="6053" h="1241">
                <a:moveTo>
                  <a:pt x="7119" y="9872"/>
                </a:moveTo>
                <a:cubicBezTo>
                  <a:pt x="6973" y="10086"/>
                  <a:pt x="6807" y="10416"/>
                  <a:pt x="6921" y="10691"/>
                </a:cubicBezTo>
                <a:cubicBezTo>
                  <a:pt x="6969" y="10807"/>
                  <a:pt x="7091" y="10844"/>
                  <a:pt x="7193" y="10864"/>
                </a:cubicBezTo>
              </a:path>
              <a:path w="6053" h="1241">
                <a:moveTo>
                  <a:pt x="7665" y="10220"/>
                </a:moveTo>
                <a:cubicBezTo>
                  <a:pt x="7570" y="10220"/>
                  <a:pt x="7223" y="10210"/>
                  <a:pt x="7218" y="10368"/>
                </a:cubicBezTo>
                <a:cubicBezTo>
                  <a:pt x="7215" y="10457"/>
                  <a:pt x="7609" y="10603"/>
                  <a:pt x="7689" y="10666"/>
                </a:cubicBezTo>
                <a:cubicBezTo>
                  <a:pt x="7526" y="10713"/>
                  <a:pt x="7479" y="10730"/>
                  <a:pt x="7367" y="10716"/>
                </a:cubicBezTo>
                <a:cubicBezTo>
                  <a:pt x="7354" y="10533"/>
                  <a:pt x="7485" y="10466"/>
                  <a:pt x="7615" y="10294"/>
                </a:cubicBezTo>
              </a:path>
              <a:path w="6053" h="1241">
                <a:moveTo>
                  <a:pt x="8037" y="10269"/>
                </a:moveTo>
                <a:cubicBezTo>
                  <a:pt x="8115" y="10416"/>
                  <a:pt x="8215" y="10521"/>
                  <a:pt x="8334" y="10641"/>
                </a:cubicBezTo>
              </a:path>
              <a:path w="6053" h="1241">
                <a:moveTo>
                  <a:pt x="8186" y="10319"/>
                </a:moveTo>
                <a:cubicBezTo>
                  <a:pt x="8077" y="10450"/>
                  <a:pt x="7968" y="10581"/>
                  <a:pt x="7863" y="10716"/>
                </a:cubicBezTo>
              </a:path>
              <a:path w="6053" h="1241">
                <a:moveTo>
                  <a:pt x="8682" y="10269"/>
                </a:moveTo>
                <a:cubicBezTo>
                  <a:pt x="8682" y="10420"/>
                  <a:pt x="8698" y="10566"/>
                  <a:pt x="8706" y="10716"/>
                </a:cubicBezTo>
              </a:path>
              <a:path w="6053" h="1241">
                <a:moveTo>
                  <a:pt x="9029" y="10244"/>
                </a:moveTo>
                <a:cubicBezTo>
                  <a:pt x="8910" y="10389"/>
                  <a:pt x="8832" y="10545"/>
                  <a:pt x="8905" y="10740"/>
                </a:cubicBezTo>
                <a:cubicBezTo>
                  <a:pt x="8930" y="10773"/>
                  <a:pt x="8954" y="10807"/>
                  <a:pt x="8979" y="10840"/>
                </a:cubicBezTo>
                <a:cubicBezTo>
                  <a:pt x="9191" y="10814"/>
                  <a:pt x="9516" y="10755"/>
                  <a:pt x="9426" y="10443"/>
                </a:cubicBezTo>
                <a:cubicBezTo>
                  <a:pt x="9327" y="10319"/>
                  <a:pt x="9295" y="10278"/>
                  <a:pt x="9178" y="10269"/>
                </a:cubicBezTo>
              </a:path>
              <a:path w="6053" h="1241">
                <a:moveTo>
                  <a:pt x="9599" y="9947"/>
                </a:moveTo>
                <a:cubicBezTo>
                  <a:pt x="9674" y="9967"/>
                  <a:pt x="9944" y="10127"/>
                  <a:pt x="9748" y="10244"/>
                </a:cubicBezTo>
                <a:cubicBezTo>
                  <a:pt x="9599" y="10269"/>
                  <a:pt x="9550" y="10277"/>
                  <a:pt x="9451" y="10244"/>
                </a:cubicBezTo>
                <a:cubicBezTo>
                  <a:pt x="9401" y="10220"/>
                  <a:pt x="9384" y="10212"/>
                  <a:pt x="9451" y="10195"/>
                </a:cubicBezTo>
                <a:cubicBezTo>
                  <a:pt x="9589" y="10202"/>
                  <a:pt x="9674" y="10212"/>
                  <a:pt x="9798" y="10269"/>
                </a:cubicBezTo>
              </a:path>
              <a:path w="6053" h="1241">
                <a:moveTo>
                  <a:pt x="9798" y="9699"/>
                </a:moveTo>
                <a:cubicBezTo>
                  <a:pt x="10065" y="9831"/>
                  <a:pt x="10337" y="10062"/>
                  <a:pt x="10368" y="10393"/>
                </a:cubicBezTo>
                <a:cubicBezTo>
                  <a:pt x="10387" y="10592"/>
                  <a:pt x="10203" y="10701"/>
                  <a:pt x="10046" y="10740"/>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902040" y="3697200"/>
            <a:ext cx="98640" cy="108000"/>
          </a:xfrm>
          <a:custGeom>
            <a:avLst/>
            <a:gdLst/>
            <a:ahLst/>
            <a:rect l="l" t="t" r="r" b="b"/>
            <a:pathLst>
              <a:path w="273" h="299">
                <a:moveTo>
                  <a:pt x="10914" y="10269"/>
                </a:moveTo>
                <a:cubicBezTo>
                  <a:pt x="10929" y="10372"/>
                  <a:pt x="10958" y="10465"/>
                  <a:pt x="10988" y="10567"/>
                </a:cubicBezTo>
              </a:path>
              <a:path w="273" h="299">
                <a:moveTo>
                  <a:pt x="10840" y="10319"/>
                </a:moveTo>
                <a:cubicBezTo>
                  <a:pt x="10964" y="10319"/>
                  <a:pt x="11022" y="10315"/>
                  <a:pt x="11112" y="1029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160880" y="3438360"/>
            <a:ext cx="1046160" cy="473400"/>
          </a:xfrm>
          <a:custGeom>
            <a:avLst/>
            <a:gdLst/>
            <a:ahLst/>
            <a:rect l="l" t="t" r="r" b="b"/>
            <a:pathLst>
              <a:path w="2903" h="1315">
                <a:moveTo>
                  <a:pt x="11807" y="9872"/>
                </a:moveTo>
                <a:cubicBezTo>
                  <a:pt x="11669" y="10125"/>
                  <a:pt x="11477" y="10383"/>
                  <a:pt x="11584" y="10691"/>
                </a:cubicBezTo>
                <a:cubicBezTo>
                  <a:pt x="11673" y="10802"/>
                  <a:pt x="11692" y="10837"/>
                  <a:pt x="11782" y="10864"/>
                </a:cubicBezTo>
              </a:path>
              <a:path w="2903" h="1315">
                <a:moveTo>
                  <a:pt x="11981" y="10170"/>
                </a:moveTo>
                <a:cubicBezTo>
                  <a:pt x="11919" y="10285"/>
                  <a:pt x="11769" y="10500"/>
                  <a:pt x="11881" y="10616"/>
                </a:cubicBezTo>
                <a:cubicBezTo>
                  <a:pt x="12052" y="10794"/>
                  <a:pt x="12195" y="10576"/>
                  <a:pt x="12229" y="10443"/>
                </a:cubicBezTo>
                <a:cubicBezTo>
                  <a:pt x="12033" y="10404"/>
                  <a:pt x="11979" y="10473"/>
                  <a:pt x="11906" y="10666"/>
                </a:cubicBezTo>
              </a:path>
              <a:path w="2903" h="1315">
                <a:moveTo>
                  <a:pt x="12502" y="10244"/>
                </a:moveTo>
                <a:cubicBezTo>
                  <a:pt x="12581" y="10355"/>
                  <a:pt x="12664" y="10461"/>
                  <a:pt x="12750" y="10567"/>
                </a:cubicBezTo>
              </a:path>
              <a:path w="2903" h="1315">
                <a:moveTo>
                  <a:pt x="12626" y="10269"/>
                </a:moveTo>
                <a:cubicBezTo>
                  <a:pt x="12578" y="10395"/>
                  <a:pt x="12531" y="10518"/>
                  <a:pt x="12477" y="10641"/>
                </a:cubicBezTo>
              </a:path>
              <a:path w="2903" h="1315">
                <a:moveTo>
                  <a:pt x="12973" y="10220"/>
                </a:moveTo>
                <a:cubicBezTo>
                  <a:pt x="13001" y="10379"/>
                  <a:pt x="13036" y="10533"/>
                  <a:pt x="13072" y="10691"/>
                </a:cubicBezTo>
              </a:path>
              <a:path w="2903" h="1315">
                <a:moveTo>
                  <a:pt x="13395" y="10319"/>
                </a:moveTo>
                <a:cubicBezTo>
                  <a:pt x="13266" y="10548"/>
                  <a:pt x="13252" y="10548"/>
                  <a:pt x="13320" y="10790"/>
                </a:cubicBezTo>
                <a:cubicBezTo>
                  <a:pt x="13519" y="10823"/>
                  <a:pt x="13808" y="10811"/>
                  <a:pt x="13717" y="10492"/>
                </a:cubicBezTo>
                <a:cubicBezTo>
                  <a:pt x="13617" y="10343"/>
                  <a:pt x="13583" y="10294"/>
                  <a:pt x="13444" y="10294"/>
                </a:cubicBezTo>
              </a:path>
              <a:path w="2903" h="1315">
                <a:moveTo>
                  <a:pt x="13767" y="9971"/>
                </a:moveTo>
                <a:cubicBezTo>
                  <a:pt x="13811" y="10082"/>
                  <a:pt x="13818" y="10111"/>
                  <a:pt x="13866" y="10170"/>
                </a:cubicBezTo>
              </a:path>
              <a:path w="2903" h="1315">
                <a:moveTo>
                  <a:pt x="13791" y="9550"/>
                </a:moveTo>
                <a:cubicBezTo>
                  <a:pt x="14040" y="9730"/>
                  <a:pt x="14241" y="9919"/>
                  <a:pt x="14387" y="10195"/>
                </a:cubicBezTo>
                <a:cubicBezTo>
                  <a:pt x="14513" y="10433"/>
                  <a:pt x="14431" y="10611"/>
                  <a:pt x="14238" y="10765"/>
                </a:cubicBezTo>
                <a:cubicBezTo>
                  <a:pt x="14213" y="10782"/>
                  <a:pt x="14188" y="10798"/>
                  <a:pt x="14163" y="10815"/>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340080" y="4357800"/>
            <a:ext cx="1295280" cy="420480"/>
          </a:xfrm>
          <a:custGeom>
            <a:avLst/>
            <a:gdLst/>
            <a:ahLst/>
            <a:rect l="l" t="t" r="r" b="b"/>
            <a:pathLst>
              <a:path w="3598" h="1167">
                <a:moveTo>
                  <a:pt x="9723" y="12452"/>
                </a:moveTo>
                <a:cubicBezTo>
                  <a:pt x="9707" y="12269"/>
                  <a:pt x="9660" y="12222"/>
                  <a:pt x="9525" y="12105"/>
                </a:cubicBezTo>
                <a:cubicBezTo>
                  <a:pt x="9419" y="12158"/>
                  <a:pt x="9104" y="12420"/>
                  <a:pt x="9351" y="12551"/>
                </a:cubicBezTo>
                <a:cubicBezTo>
                  <a:pt x="9526" y="12644"/>
                  <a:pt x="9658" y="12397"/>
                  <a:pt x="9649" y="12278"/>
                </a:cubicBezTo>
                <a:cubicBezTo>
                  <a:pt x="9735" y="12449"/>
                  <a:pt x="9672" y="12737"/>
                  <a:pt x="9649" y="12923"/>
                </a:cubicBezTo>
              </a:path>
              <a:path w="3598" h="1167">
                <a:moveTo>
                  <a:pt x="10071" y="12278"/>
                </a:moveTo>
                <a:cubicBezTo>
                  <a:pt x="9830" y="12428"/>
                  <a:pt x="9823" y="12617"/>
                  <a:pt x="9823" y="12898"/>
                </a:cubicBezTo>
                <a:cubicBezTo>
                  <a:pt x="10024" y="12960"/>
                  <a:pt x="10419" y="12954"/>
                  <a:pt x="10368" y="12601"/>
                </a:cubicBezTo>
                <a:cubicBezTo>
                  <a:pt x="10335" y="12372"/>
                  <a:pt x="10058" y="12285"/>
                  <a:pt x="9872" y="12254"/>
                </a:cubicBezTo>
              </a:path>
              <a:path w="3598" h="1167">
                <a:moveTo>
                  <a:pt x="10765" y="13022"/>
                </a:moveTo>
                <a:cubicBezTo>
                  <a:pt x="10785" y="13126"/>
                  <a:pt x="10795" y="13172"/>
                  <a:pt x="10765" y="13271"/>
                </a:cubicBezTo>
              </a:path>
              <a:path w="3598" h="1167">
                <a:moveTo>
                  <a:pt x="10840" y="12278"/>
                </a:moveTo>
                <a:cubicBezTo>
                  <a:pt x="10988" y="12353"/>
                  <a:pt x="11136" y="12312"/>
                  <a:pt x="11311" y="12303"/>
                </a:cubicBezTo>
                <a:cubicBezTo>
                  <a:pt x="11311" y="12496"/>
                  <a:pt x="11291" y="12687"/>
                  <a:pt x="11311" y="12874"/>
                </a:cubicBezTo>
              </a:path>
              <a:path w="3598" h="1167">
                <a:moveTo>
                  <a:pt x="11857" y="12303"/>
                </a:moveTo>
                <a:cubicBezTo>
                  <a:pt x="11647" y="12416"/>
                  <a:pt x="11633" y="12548"/>
                  <a:pt x="11584" y="12774"/>
                </a:cubicBezTo>
                <a:cubicBezTo>
                  <a:pt x="11730" y="12857"/>
                  <a:pt x="12075" y="12896"/>
                  <a:pt x="12080" y="12601"/>
                </a:cubicBezTo>
                <a:cubicBezTo>
                  <a:pt x="12005" y="12452"/>
                  <a:pt x="11981" y="12403"/>
                  <a:pt x="11857" y="12378"/>
                </a:cubicBezTo>
              </a:path>
              <a:path w="3598" h="1167">
                <a:moveTo>
                  <a:pt x="12303" y="12254"/>
                </a:moveTo>
                <a:cubicBezTo>
                  <a:pt x="12361" y="12243"/>
                  <a:pt x="12688" y="12117"/>
                  <a:pt x="12725" y="12254"/>
                </a:cubicBezTo>
                <a:cubicBezTo>
                  <a:pt x="12762" y="12392"/>
                  <a:pt x="12555" y="12440"/>
                  <a:pt x="12477" y="12477"/>
                </a:cubicBezTo>
                <a:cubicBezTo>
                  <a:pt x="12680" y="12436"/>
                  <a:pt x="12757" y="12520"/>
                  <a:pt x="12874" y="12675"/>
                </a:cubicBezTo>
                <a:cubicBezTo>
                  <a:pt x="12683" y="12841"/>
                  <a:pt x="12581" y="12825"/>
                  <a:pt x="12328" y="1277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965160" y="5037120"/>
            <a:ext cx="285840" cy="401760"/>
          </a:xfrm>
          <a:custGeom>
            <a:avLst/>
            <a:gdLst/>
            <a:ahLst/>
            <a:rect l="l" t="t" r="r" b="b"/>
            <a:pathLst>
              <a:path w="795" h="1117">
                <a:moveTo>
                  <a:pt x="2853" y="13990"/>
                </a:moveTo>
                <a:cubicBezTo>
                  <a:pt x="2728" y="14293"/>
                  <a:pt x="2630" y="14599"/>
                  <a:pt x="2704" y="14932"/>
                </a:cubicBezTo>
                <a:cubicBezTo>
                  <a:pt x="2722" y="15014"/>
                  <a:pt x="2787" y="15079"/>
                  <a:pt x="2853" y="15106"/>
                </a:cubicBezTo>
              </a:path>
              <a:path w="795" h="1117">
                <a:moveTo>
                  <a:pt x="3398" y="14288"/>
                </a:moveTo>
                <a:cubicBezTo>
                  <a:pt x="3416" y="14165"/>
                  <a:pt x="3441" y="14180"/>
                  <a:pt x="3349" y="14114"/>
                </a:cubicBezTo>
                <a:cubicBezTo>
                  <a:pt x="3277" y="14141"/>
                  <a:pt x="2900" y="14426"/>
                  <a:pt x="3150" y="14536"/>
                </a:cubicBezTo>
                <a:cubicBezTo>
                  <a:pt x="3264" y="14586"/>
                  <a:pt x="3363" y="14365"/>
                  <a:pt x="3398" y="14312"/>
                </a:cubicBezTo>
                <a:cubicBezTo>
                  <a:pt x="3406" y="14287"/>
                  <a:pt x="3415" y="14263"/>
                  <a:pt x="3423" y="14238"/>
                </a:cubicBezTo>
                <a:cubicBezTo>
                  <a:pt x="3438" y="14429"/>
                  <a:pt x="3466" y="14616"/>
                  <a:pt x="3473" y="14808"/>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401840" y="5081760"/>
            <a:ext cx="90360" cy="241200"/>
          </a:xfrm>
          <a:custGeom>
            <a:avLst/>
            <a:gdLst/>
            <a:ahLst/>
            <a:rect l="l" t="t" r="r" b="b"/>
            <a:pathLst>
              <a:path w="249" h="671">
                <a:moveTo>
                  <a:pt x="3894" y="14163"/>
                </a:moveTo>
                <a:cubicBezTo>
                  <a:pt x="3950" y="14341"/>
                  <a:pt x="4022" y="14500"/>
                  <a:pt x="4118" y="14660"/>
                </a:cubicBezTo>
              </a:path>
              <a:path w="249" h="671">
                <a:moveTo>
                  <a:pt x="4142" y="14114"/>
                </a:moveTo>
                <a:cubicBezTo>
                  <a:pt x="4073" y="14346"/>
                  <a:pt x="4007" y="14571"/>
                  <a:pt x="3894" y="1478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677960" y="4919760"/>
            <a:ext cx="484200" cy="438120"/>
          </a:xfrm>
          <a:custGeom>
            <a:avLst/>
            <a:gdLst/>
            <a:ahLst/>
            <a:rect l="l" t="t" r="r" b="b"/>
            <a:pathLst>
              <a:path w="1341" h="1217">
                <a:moveTo>
                  <a:pt x="4688" y="14312"/>
                </a:moveTo>
                <a:cubicBezTo>
                  <a:pt x="4683" y="14480"/>
                  <a:pt x="4673" y="14641"/>
                  <a:pt x="4663" y="14808"/>
                </a:cubicBezTo>
              </a:path>
              <a:path w="1341" h="1217">
                <a:moveTo>
                  <a:pt x="5035" y="14213"/>
                </a:moveTo>
                <a:cubicBezTo>
                  <a:pt x="4992" y="14435"/>
                  <a:pt x="4952" y="14637"/>
                  <a:pt x="4961" y="14858"/>
                </a:cubicBezTo>
                <a:cubicBezTo>
                  <a:pt x="5140" y="14858"/>
                  <a:pt x="5461" y="14736"/>
                  <a:pt x="5358" y="14461"/>
                </a:cubicBezTo>
                <a:cubicBezTo>
                  <a:pt x="5234" y="14362"/>
                  <a:pt x="5194" y="14329"/>
                  <a:pt x="5085" y="14312"/>
                </a:cubicBezTo>
              </a:path>
              <a:path w="1341" h="1217">
                <a:moveTo>
                  <a:pt x="5457" y="13965"/>
                </a:moveTo>
                <a:cubicBezTo>
                  <a:pt x="5431" y="14043"/>
                  <a:pt x="5420" y="14070"/>
                  <a:pt x="5383" y="14114"/>
                </a:cubicBezTo>
                <a:cubicBezTo>
                  <a:pt x="5453" y="14128"/>
                  <a:pt x="5505" y="14122"/>
                  <a:pt x="5581" y="14114"/>
                </a:cubicBezTo>
              </a:path>
              <a:path w="1341" h="1217">
                <a:moveTo>
                  <a:pt x="5631" y="13940"/>
                </a:moveTo>
                <a:cubicBezTo>
                  <a:pt x="5614" y="14099"/>
                  <a:pt x="5605" y="14255"/>
                  <a:pt x="5581" y="14412"/>
                </a:cubicBezTo>
              </a:path>
              <a:path w="1341" h="1217">
                <a:moveTo>
                  <a:pt x="5631" y="13667"/>
                </a:moveTo>
                <a:cubicBezTo>
                  <a:pt x="5863" y="13962"/>
                  <a:pt x="6082" y="14230"/>
                  <a:pt x="5978" y="14635"/>
                </a:cubicBezTo>
                <a:cubicBezTo>
                  <a:pt x="5888" y="14792"/>
                  <a:pt x="5871" y="14841"/>
                  <a:pt x="5755" y="1488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347920" y="5054760"/>
            <a:ext cx="135000" cy="152280"/>
          </a:xfrm>
          <a:custGeom>
            <a:avLst/>
            <a:gdLst/>
            <a:ahLst/>
            <a:rect l="l" t="t" r="r" b="b"/>
            <a:pathLst>
              <a:path w="373" h="423">
                <a:moveTo>
                  <a:pt x="6648" y="14039"/>
                </a:moveTo>
                <a:cubicBezTo>
                  <a:pt x="6665" y="14182"/>
                  <a:pt x="6675" y="14321"/>
                  <a:pt x="6697" y="14461"/>
                </a:cubicBezTo>
              </a:path>
              <a:path w="373" h="423">
                <a:moveTo>
                  <a:pt x="6524" y="14263"/>
                </a:moveTo>
                <a:cubicBezTo>
                  <a:pt x="6655" y="14224"/>
                  <a:pt x="6761" y="14197"/>
                  <a:pt x="6896" y="14188"/>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660760" y="4929120"/>
            <a:ext cx="250560" cy="357120"/>
          </a:xfrm>
          <a:custGeom>
            <a:avLst/>
            <a:gdLst/>
            <a:ahLst/>
            <a:rect l="l" t="t" r="r" b="b"/>
            <a:pathLst>
              <a:path w="695" h="993">
                <a:moveTo>
                  <a:pt x="7491" y="13692"/>
                </a:moveTo>
                <a:cubicBezTo>
                  <a:pt x="7409" y="13982"/>
                  <a:pt x="7290" y="14366"/>
                  <a:pt x="7516" y="14635"/>
                </a:cubicBezTo>
                <a:cubicBezTo>
                  <a:pt x="7549" y="14651"/>
                  <a:pt x="7582" y="14668"/>
                  <a:pt x="7615" y="14684"/>
                </a:cubicBezTo>
              </a:path>
              <a:path w="695" h="993">
                <a:moveTo>
                  <a:pt x="7640" y="13965"/>
                </a:moveTo>
                <a:cubicBezTo>
                  <a:pt x="7725" y="13976"/>
                  <a:pt x="7976" y="13954"/>
                  <a:pt x="8037" y="14015"/>
                </a:cubicBezTo>
                <a:cubicBezTo>
                  <a:pt x="8156" y="14135"/>
                  <a:pt x="8048" y="14401"/>
                  <a:pt x="8012" y="14536"/>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089160" y="5054760"/>
            <a:ext cx="125640" cy="196560"/>
          </a:xfrm>
          <a:custGeom>
            <a:avLst/>
            <a:gdLst/>
            <a:ahLst/>
            <a:rect l="l" t="t" r="r" b="b"/>
            <a:pathLst>
              <a:path w="349" h="547">
                <a:moveTo>
                  <a:pt x="8582" y="14039"/>
                </a:moveTo>
                <a:cubicBezTo>
                  <a:pt x="8690" y="14226"/>
                  <a:pt x="8821" y="14398"/>
                  <a:pt x="8930" y="14585"/>
                </a:cubicBezTo>
              </a:path>
              <a:path w="349" h="547">
                <a:moveTo>
                  <a:pt x="8830" y="14213"/>
                </a:moveTo>
                <a:cubicBezTo>
                  <a:pt x="8692" y="14399"/>
                  <a:pt x="8650" y="14452"/>
                  <a:pt x="8582" y="14585"/>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402000" y="4857840"/>
            <a:ext cx="590400" cy="473040"/>
          </a:xfrm>
          <a:custGeom>
            <a:avLst/>
            <a:gdLst/>
            <a:ahLst/>
            <a:rect l="l" t="t" r="r" b="b"/>
            <a:pathLst>
              <a:path w="1638" h="1315">
                <a:moveTo>
                  <a:pt x="9451" y="14039"/>
                </a:moveTo>
                <a:cubicBezTo>
                  <a:pt x="9466" y="14246"/>
                  <a:pt x="9491" y="14452"/>
                  <a:pt x="9500" y="14660"/>
                </a:cubicBezTo>
              </a:path>
              <a:path w="1638" h="1315">
                <a:moveTo>
                  <a:pt x="9798" y="14064"/>
                </a:moveTo>
                <a:cubicBezTo>
                  <a:pt x="9678" y="14291"/>
                  <a:pt x="9618" y="14417"/>
                  <a:pt x="9773" y="14610"/>
                </a:cubicBezTo>
                <a:cubicBezTo>
                  <a:pt x="9985" y="14539"/>
                  <a:pt x="10355" y="14299"/>
                  <a:pt x="9996" y="14064"/>
                </a:cubicBezTo>
                <a:cubicBezTo>
                  <a:pt x="9938" y="14056"/>
                  <a:pt x="9881" y="14047"/>
                  <a:pt x="9823" y="14039"/>
                </a:cubicBezTo>
              </a:path>
              <a:path w="1638" h="1315">
                <a:moveTo>
                  <a:pt x="10269" y="13618"/>
                </a:moveTo>
                <a:cubicBezTo>
                  <a:pt x="10356" y="13650"/>
                  <a:pt x="10697" y="13828"/>
                  <a:pt x="10443" y="13940"/>
                </a:cubicBezTo>
                <a:cubicBezTo>
                  <a:pt x="10283" y="13963"/>
                  <a:pt x="10238" y="13977"/>
                  <a:pt x="10145" y="13915"/>
                </a:cubicBezTo>
                <a:cubicBezTo>
                  <a:pt x="10122" y="13778"/>
                  <a:pt x="10370" y="13909"/>
                  <a:pt x="10468" y="13940"/>
                </a:cubicBezTo>
              </a:path>
              <a:path w="1638" h="1315">
                <a:moveTo>
                  <a:pt x="10616" y="13494"/>
                </a:moveTo>
                <a:cubicBezTo>
                  <a:pt x="10836" y="13797"/>
                  <a:pt x="11190" y="14170"/>
                  <a:pt x="11088" y="14585"/>
                </a:cubicBezTo>
                <a:cubicBezTo>
                  <a:pt x="11039" y="14785"/>
                  <a:pt x="10910" y="14794"/>
                  <a:pt x="10765" y="1478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187880" y="5062680"/>
            <a:ext cx="117360" cy="161640"/>
          </a:xfrm>
          <a:custGeom>
            <a:avLst/>
            <a:gdLst/>
            <a:ahLst/>
            <a:rect l="l" t="t" r="r" b="b"/>
            <a:pathLst>
              <a:path w="324" h="448">
                <a:moveTo>
                  <a:pt x="11708" y="14064"/>
                </a:moveTo>
                <a:cubicBezTo>
                  <a:pt x="11809" y="14191"/>
                  <a:pt x="11821" y="14339"/>
                  <a:pt x="11832" y="14511"/>
                </a:cubicBezTo>
              </a:path>
              <a:path w="324" h="448">
                <a:moveTo>
                  <a:pt x="11633" y="14288"/>
                </a:moveTo>
                <a:cubicBezTo>
                  <a:pt x="11783" y="14288"/>
                  <a:pt x="11849" y="14285"/>
                  <a:pt x="11956" y="1426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518000" y="4830840"/>
            <a:ext cx="1135080" cy="492120"/>
          </a:xfrm>
          <a:custGeom>
            <a:avLst/>
            <a:gdLst/>
            <a:ahLst/>
            <a:rect l="l" t="t" r="r" b="b"/>
            <a:pathLst>
              <a:path w="3151" h="1366">
                <a:moveTo>
                  <a:pt x="12675" y="13667"/>
                </a:moveTo>
                <a:cubicBezTo>
                  <a:pt x="12559" y="14026"/>
                  <a:pt x="12454" y="14375"/>
                  <a:pt x="12750" y="14684"/>
                </a:cubicBezTo>
                <a:cubicBezTo>
                  <a:pt x="12862" y="14801"/>
                  <a:pt x="12949" y="14726"/>
                  <a:pt x="13022" y="14660"/>
                </a:cubicBezTo>
              </a:path>
              <a:path w="3151" h="1366">
                <a:moveTo>
                  <a:pt x="12923" y="13990"/>
                </a:moveTo>
                <a:cubicBezTo>
                  <a:pt x="13018" y="13964"/>
                  <a:pt x="13325" y="13892"/>
                  <a:pt x="13370" y="14039"/>
                </a:cubicBezTo>
                <a:cubicBezTo>
                  <a:pt x="13412" y="14175"/>
                  <a:pt x="13089" y="14238"/>
                  <a:pt x="13022" y="14263"/>
                </a:cubicBezTo>
                <a:cubicBezTo>
                  <a:pt x="12958" y="14230"/>
                  <a:pt x="12954" y="14210"/>
                  <a:pt x="13047" y="14163"/>
                </a:cubicBezTo>
                <a:cubicBezTo>
                  <a:pt x="13148" y="14184"/>
                  <a:pt x="13586" y="14326"/>
                  <a:pt x="13395" y="14536"/>
                </a:cubicBezTo>
                <a:cubicBezTo>
                  <a:pt x="13234" y="14616"/>
                  <a:pt x="13172" y="14637"/>
                  <a:pt x="13047" y="14560"/>
                </a:cubicBezTo>
              </a:path>
              <a:path w="3151" h="1366">
                <a:moveTo>
                  <a:pt x="13717" y="14039"/>
                </a:moveTo>
                <a:cubicBezTo>
                  <a:pt x="13848" y="14214"/>
                  <a:pt x="13979" y="14388"/>
                  <a:pt x="14114" y="14560"/>
                </a:cubicBezTo>
              </a:path>
              <a:path w="3151" h="1366">
                <a:moveTo>
                  <a:pt x="14064" y="14089"/>
                </a:moveTo>
                <a:cubicBezTo>
                  <a:pt x="13934" y="14268"/>
                  <a:pt x="13810" y="14444"/>
                  <a:pt x="13667" y="14610"/>
                </a:cubicBezTo>
              </a:path>
              <a:path w="3151" h="1366">
                <a:moveTo>
                  <a:pt x="14362" y="13940"/>
                </a:moveTo>
                <a:cubicBezTo>
                  <a:pt x="14421" y="14194"/>
                  <a:pt x="14448" y="14447"/>
                  <a:pt x="14461" y="14709"/>
                </a:cubicBezTo>
              </a:path>
              <a:path w="3151" h="1366">
                <a:moveTo>
                  <a:pt x="14858" y="13990"/>
                </a:moveTo>
                <a:cubicBezTo>
                  <a:pt x="14701" y="14210"/>
                  <a:pt x="14649" y="14323"/>
                  <a:pt x="14610" y="14585"/>
                </a:cubicBezTo>
                <a:cubicBezTo>
                  <a:pt x="14776" y="14693"/>
                  <a:pt x="15174" y="14823"/>
                  <a:pt x="15180" y="14436"/>
                </a:cubicBezTo>
                <a:cubicBezTo>
                  <a:pt x="15106" y="14213"/>
                  <a:pt x="15082" y="14139"/>
                  <a:pt x="14908" y="14089"/>
                </a:cubicBezTo>
              </a:path>
              <a:path w="3151" h="1366">
                <a:moveTo>
                  <a:pt x="15180" y="13667"/>
                </a:moveTo>
                <a:cubicBezTo>
                  <a:pt x="15097" y="13723"/>
                  <a:pt x="15065" y="13749"/>
                  <a:pt x="15032" y="13816"/>
                </a:cubicBezTo>
                <a:cubicBezTo>
                  <a:pt x="15098" y="13892"/>
                  <a:pt x="15281" y="14003"/>
                  <a:pt x="15304" y="13816"/>
                </a:cubicBezTo>
                <a:cubicBezTo>
                  <a:pt x="15277" y="13731"/>
                  <a:pt x="15258" y="13701"/>
                  <a:pt x="15180" y="13692"/>
                </a:cubicBezTo>
              </a:path>
              <a:path w="3151" h="1366">
                <a:moveTo>
                  <a:pt x="15255" y="13419"/>
                </a:moveTo>
                <a:cubicBezTo>
                  <a:pt x="15476" y="13560"/>
                  <a:pt x="15650" y="13798"/>
                  <a:pt x="15701" y="14064"/>
                </a:cubicBezTo>
                <a:cubicBezTo>
                  <a:pt x="15768" y="14415"/>
                  <a:pt x="15677" y="14609"/>
                  <a:pt x="15404" y="14759"/>
                </a:cubicBezTo>
                <a:cubicBezTo>
                  <a:pt x="15396" y="14767"/>
                  <a:pt x="15387" y="14776"/>
                  <a:pt x="15379" y="1478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251920" y="133200"/>
            <a:ext cx="534960" cy="733680"/>
          </a:xfrm>
          <a:custGeom>
            <a:avLst/>
            <a:gdLst/>
            <a:ahLst/>
            <a:rect l="l" t="t" r="r" b="b"/>
            <a:pathLst>
              <a:path w="1489" h="2035">
                <a:moveTo>
                  <a:pt x="23540" y="521"/>
                </a:moveTo>
                <a:cubicBezTo>
                  <a:pt x="23530" y="590"/>
                  <a:pt x="23511" y="652"/>
                  <a:pt x="23490" y="719"/>
                </a:cubicBezTo>
                <a:cubicBezTo>
                  <a:pt x="23621" y="747"/>
                  <a:pt x="23715" y="754"/>
                  <a:pt x="23837" y="695"/>
                </a:cubicBezTo>
              </a:path>
              <a:path w="1489" h="2035">
                <a:moveTo>
                  <a:pt x="23763" y="521"/>
                </a:moveTo>
                <a:cubicBezTo>
                  <a:pt x="23775" y="621"/>
                  <a:pt x="23783" y="883"/>
                  <a:pt x="23812" y="893"/>
                </a:cubicBezTo>
              </a:path>
              <a:path w="1489" h="2035">
                <a:moveTo>
                  <a:pt x="24011" y="595"/>
                </a:moveTo>
                <a:cubicBezTo>
                  <a:pt x="23979" y="550"/>
                  <a:pt x="23844" y="316"/>
                  <a:pt x="23887" y="546"/>
                </a:cubicBezTo>
                <a:cubicBezTo>
                  <a:pt x="23899" y="610"/>
                  <a:pt x="24009" y="593"/>
                  <a:pt x="24036" y="595"/>
                </a:cubicBezTo>
                <a:cubicBezTo>
                  <a:pt x="23827" y="550"/>
                  <a:pt x="23980" y="586"/>
                  <a:pt x="24036" y="595"/>
                </a:cubicBezTo>
              </a:path>
              <a:path w="1489" h="2035">
                <a:moveTo>
                  <a:pt x="23912" y="769"/>
                </a:moveTo>
                <a:cubicBezTo>
                  <a:pt x="23891" y="684"/>
                  <a:pt x="23888" y="698"/>
                  <a:pt x="23961" y="645"/>
                </a:cubicBezTo>
                <a:cubicBezTo>
                  <a:pt x="23975" y="770"/>
                  <a:pt x="23998" y="793"/>
                  <a:pt x="24110" y="843"/>
                </a:cubicBezTo>
                <a:cubicBezTo>
                  <a:pt x="24129" y="711"/>
                  <a:pt x="24129" y="713"/>
                  <a:pt x="24036" y="620"/>
                </a:cubicBezTo>
                <a:cubicBezTo>
                  <a:pt x="24046" y="743"/>
                  <a:pt x="24087" y="851"/>
                  <a:pt x="24110" y="967"/>
                </a:cubicBezTo>
                <a:cubicBezTo>
                  <a:pt x="24110" y="1017"/>
                  <a:pt x="24110" y="1034"/>
                  <a:pt x="24110" y="1067"/>
                </a:cubicBezTo>
              </a:path>
              <a:path w="1489" h="2035">
                <a:moveTo>
                  <a:pt x="24011" y="1240"/>
                </a:moveTo>
                <a:cubicBezTo>
                  <a:pt x="24107" y="1233"/>
                  <a:pt x="24191" y="1217"/>
                  <a:pt x="24284" y="1191"/>
                </a:cubicBezTo>
                <a:cubicBezTo>
                  <a:pt x="24265" y="1315"/>
                  <a:pt x="24225" y="1441"/>
                  <a:pt x="24185" y="1563"/>
                </a:cubicBezTo>
              </a:path>
              <a:path w="1489" h="2035">
                <a:moveTo>
                  <a:pt x="23391" y="1885"/>
                </a:moveTo>
                <a:cubicBezTo>
                  <a:pt x="23711" y="1823"/>
                  <a:pt x="24033" y="1754"/>
                  <a:pt x="24358" y="1736"/>
                </a:cubicBezTo>
                <a:cubicBezTo>
                  <a:pt x="24375" y="1736"/>
                  <a:pt x="24391" y="1736"/>
                  <a:pt x="24408" y="1736"/>
                </a:cubicBezTo>
              </a:path>
              <a:path w="1489" h="2035">
                <a:moveTo>
                  <a:pt x="24160" y="1935"/>
                </a:moveTo>
                <a:cubicBezTo>
                  <a:pt x="24162" y="1930"/>
                  <a:pt x="24396" y="1746"/>
                  <a:pt x="24358" y="1984"/>
                </a:cubicBezTo>
                <a:cubicBezTo>
                  <a:pt x="24304" y="2039"/>
                  <a:pt x="24285" y="2061"/>
                  <a:pt x="24259" y="2108"/>
                </a:cubicBezTo>
                <a:cubicBezTo>
                  <a:pt x="24242" y="2108"/>
                  <a:pt x="24226" y="2108"/>
                  <a:pt x="24209" y="2108"/>
                </a:cubicBezTo>
                <a:cubicBezTo>
                  <a:pt x="24316" y="2063"/>
                  <a:pt x="24386" y="2016"/>
                  <a:pt x="24408" y="2158"/>
                </a:cubicBezTo>
                <a:cubicBezTo>
                  <a:pt x="24421" y="2245"/>
                  <a:pt x="24301" y="2295"/>
                  <a:pt x="24234" y="2307"/>
                </a:cubicBezTo>
                <a:cubicBezTo>
                  <a:pt x="24166" y="2307"/>
                  <a:pt x="24147" y="2310"/>
                  <a:pt x="24110" y="2282"/>
                </a:cubicBezTo>
              </a:path>
              <a:path w="1489" h="2035">
                <a:moveTo>
                  <a:pt x="22994" y="372"/>
                </a:moveTo>
                <a:cubicBezTo>
                  <a:pt x="22977" y="435"/>
                  <a:pt x="22889" y="637"/>
                  <a:pt x="22944" y="670"/>
                </a:cubicBezTo>
                <a:cubicBezTo>
                  <a:pt x="23015" y="712"/>
                  <a:pt x="23031" y="697"/>
                  <a:pt x="23093" y="670"/>
                </a:cubicBezTo>
                <a:cubicBezTo>
                  <a:pt x="23093" y="538"/>
                  <a:pt x="23014" y="729"/>
                  <a:pt x="22994" y="769"/>
                </a:cubicBezTo>
              </a:path>
              <a:path w="1489" h="2035">
                <a:moveTo>
                  <a:pt x="23192" y="2059"/>
                </a:moveTo>
                <a:cubicBezTo>
                  <a:pt x="23263" y="2035"/>
                  <a:pt x="23422" y="1941"/>
                  <a:pt x="23440" y="2084"/>
                </a:cubicBezTo>
                <a:cubicBezTo>
                  <a:pt x="23450" y="2158"/>
                  <a:pt x="23384" y="2174"/>
                  <a:pt x="23341" y="2208"/>
                </a:cubicBezTo>
                <a:cubicBezTo>
                  <a:pt x="23459" y="2200"/>
                  <a:pt x="23479" y="2202"/>
                  <a:pt x="23589" y="2257"/>
                </a:cubicBezTo>
                <a:cubicBezTo>
                  <a:pt x="23517" y="2384"/>
                  <a:pt x="23439" y="2430"/>
                  <a:pt x="23292" y="2381"/>
                </a:cubicBezTo>
                <a:cubicBezTo>
                  <a:pt x="23284" y="2373"/>
                  <a:pt x="23275" y="2364"/>
                  <a:pt x="23267" y="2356"/>
                </a:cubicBezTo>
              </a:path>
              <a:path w="1489" h="2035">
                <a:moveTo>
                  <a:pt x="23688" y="2034"/>
                </a:moveTo>
                <a:cubicBezTo>
                  <a:pt x="23716" y="2186"/>
                  <a:pt x="23764" y="2178"/>
                  <a:pt x="23912" y="2158"/>
                </a:cubicBezTo>
              </a:path>
              <a:path w="1489" h="2035">
                <a:moveTo>
                  <a:pt x="23887" y="1910"/>
                </a:moveTo>
                <a:cubicBezTo>
                  <a:pt x="23870" y="2060"/>
                  <a:pt x="23871" y="2161"/>
                  <a:pt x="23887" y="2307"/>
                </a:cubicBezTo>
                <a:cubicBezTo>
                  <a:pt x="23887" y="2323"/>
                  <a:pt x="23887" y="2340"/>
                  <a:pt x="23887" y="2356"/>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411200" y="6402240"/>
            <a:ext cx="1800" cy="1800"/>
          </a:xfrm>
          <a:custGeom>
            <a:avLst/>
            <a:gdLst/>
            <a:ahLst/>
            <a:rect l="l" t="t" r="r" b="b"/>
            <a:pathLst>
              <a:path w="1" h="1">
                <a:moveTo>
                  <a:pt x="3919" y="17785"/>
                </a:moveTo>
                <a:lnTo>
                  <a:pt x="3919" y="17785"/>
                </a:lnTo>
              </a:path>
            </a:pathLst>
          </a:custGeom>
          <a:noFill/>
          <a:ln cap="rnd" w="34920">
            <a:solidFill>
              <a:srgbClr val="ff00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60" y="838080"/>
            <a:ext cx="8001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t 2 </a:t>
            </a:r>
            <a:r>
              <a:rPr b="0" lang="en-US" sz="3600" spc="-1" strike="noStrike">
                <a:solidFill>
                  <a:srgbClr val="f6fcac"/>
                </a:solidFill>
                <a:latin typeface="Times New Roman"/>
              </a:rPr>
              <a:t>	</a:t>
            </a:r>
            <a:endParaRPr b="0" lang="en-US" sz="3600" spc="-1" strike="noStrike">
              <a:solidFill>
                <a:srgbClr val="000000"/>
              </a:solidFill>
              <a:latin typeface="Times New Roman"/>
            </a:endParaRPr>
          </a:p>
        </p:txBody>
      </p:sp>
      <p:sp>
        <p:nvSpPr>
          <p:cNvPr id="67" name="PlaceHolder 2"/>
          <p:cNvSpPr>
            <a:spLocks noGrp="1"/>
          </p:cNvSpPr>
          <p:nvPr>
            <p:ph type="subTitle"/>
          </p:nvPr>
        </p:nvSpPr>
        <p:spPr>
          <a:xfrm>
            <a:off x="2765160" y="3941640"/>
            <a:ext cx="4995720" cy="11304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ff"/>
                </a:solidFill>
                <a:latin typeface="Times New Roman"/>
              </a:rPr>
              <a:t>Section 2.4 –</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Equivalent Forms</a:t>
            </a:r>
            <a:endParaRPr b="0" lang="en-US" sz="3600" spc="-1" strike="noStrike">
              <a:solidFill>
                <a:srgbClr val="000000"/>
              </a:solidFill>
              <a:latin typeface="Times New Roman"/>
            </a:endParaRPr>
          </a:p>
        </p:txBody>
      </p:sp>
      <p:sp>
        <p:nvSpPr>
          <p:cNvPr id="68" name=""/>
          <p:cNvSpPr/>
          <p:nvPr/>
        </p:nvSpPr>
        <p:spPr>
          <a:xfrm>
            <a:off x="6935760" y="4603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7"/>
                                        </p:tgtEl>
                                        <p:attrNameLst>
                                          <p:attrName>style.visibility</p:attrName>
                                        </p:attrNameLst>
                                      </p:cBhvr>
                                      <p:to>
                                        <p:strVal val="visible"/>
                                      </p:to>
                                    </p:set>
                                    <p:animEffect filter="dissolve" transition="in">
                                      <p:cBhvr additive="repl">
                                        <p:cTn id="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600"/>
            <a:ext cx="86104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ive :  </a:t>
            </a:r>
            <a:r>
              <a:rPr b="0" i="1" lang="en-US" sz="2000" spc="-1" strike="noStrike">
                <a:solidFill>
                  <a:srgbClr val="000000"/>
                </a:solidFill>
                <a:latin typeface="Times New Roman"/>
              </a:rPr>
              <a:t>to write fractions as decimals and percents, and vice versa.</a:t>
            </a:r>
            <a:endParaRPr b="0" lang="en-US" sz="2000" spc="-1" strike="noStrike">
              <a:solidFill>
                <a:srgbClr val="000000"/>
              </a:solidFill>
              <a:latin typeface="Times New Roman"/>
            </a:endParaRPr>
          </a:p>
        </p:txBody>
      </p:sp>
      <p:graphicFrame>
        <p:nvGraphicFramePr>
          <p:cNvPr id="70" name=""/>
          <p:cNvGraphicFramePr/>
          <p:nvPr/>
        </p:nvGraphicFramePr>
        <p:xfrm>
          <a:off x="4114800" y="5562720"/>
          <a:ext cx="550800" cy="1066680"/>
        </p:xfrm>
        <a:graphic>
          <a:graphicData uri="http://schemas.openxmlformats.org/presentationml/2006/ole">
            <p:oleObj r:id="rId1" spid="">
              <p:embed/>
              <p:pic>
                <p:nvPicPr>
                  <p:cNvPr id="71" name="" descr=""/>
                  <p:cNvPicPr/>
                  <p:nvPr/>
                </p:nvPicPr>
                <p:blipFill>
                  <a:blip r:embed="rId2"/>
                  <a:stretch/>
                </p:blipFill>
                <p:spPr>
                  <a:xfrm>
                    <a:off x="4114800" y="5562720"/>
                    <a:ext cx="550800" cy="1066680"/>
                  </a:xfrm>
                  <a:prstGeom prst="rect">
                    <a:avLst/>
                  </a:prstGeom>
                  <a:ln w="0">
                    <a:noFill/>
                  </a:ln>
                </p:spPr>
              </p:pic>
            </p:oleObj>
          </a:graphicData>
        </a:graphic>
      </p:graphicFrame>
      <p:graphicFrame>
        <p:nvGraphicFramePr>
          <p:cNvPr id="72" name=""/>
          <p:cNvGraphicFramePr/>
          <p:nvPr/>
        </p:nvGraphicFramePr>
        <p:xfrm>
          <a:off x="6095880" y="5562720"/>
          <a:ext cx="735120" cy="1035000"/>
        </p:xfrm>
        <a:graphic>
          <a:graphicData uri="http://schemas.openxmlformats.org/presentationml/2006/ole">
            <p:oleObj r:id="rId3" spid="">
              <p:embed/>
              <p:pic>
                <p:nvPicPr>
                  <p:cNvPr id="73" name="" descr=""/>
                  <p:cNvPicPr/>
                  <p:nvPr/>
                </p:nvPicPr>
                <p:blipFill>
                  <a:blip r:embed="rId4"/>
                  <a:stretch/>
                </p:blipFill>
                <p:spPr>
                  <a:xfrm>
                    <a:off x="6095880" y="5562720"/>
                    <a:ext cx="735120" cy="1035000"/>
                  </a:xfrm>
                  <a:prstGeom prst="rect">
                    <a:avLst/>
                  </a:prstGeom>
                  <a:ln w="0">
                    <a:noFill/>
                  </a:ln>
                </p:spPr>
              </p:pic>
            </p:oleObj>
          </a:graphicData>
        </a:graphic>
      </p:graphicFrame>
      <p:sp>
        <p:nvSpPr>
          <p:cNvPr id="74" name=""/>
          <p:cNvSpPr/>
          <p:nvPr/>
        </p:nvSpPr>
        <p:spPr>
          <a:xfrm>
            <a:off x="304920" y="1600200"/>
            <a:ext cx="8229600" cy="4648320"/>
          </a:xfrm>
          <a:prstGeom prst="rect">
            <a:avLst/>
          </a:prstGeom>
          <a:noFill/>
          <a:ln w="0">
            <a:noFill/>
          </a:ln>
        </p:spPr>
        <p:style>
          <a:lnRef idx="0"/>
          <a:fillRef idx="0"/>
          <a:effectRef idx="0"/>
          <a:fontRef idx="minor"/>
        </p:style>
        <p:txBody>
          <a:bodyPr lIns="90000" rIns="90000" tIns="46800" bIns="46800" anchor="t">
            <a:normAutofit/>
          </a:bodyPr>
          <a:p>
            <a:pPr lvl="4" marL="2057400" indent="-228600">
              <a:lnSpc>
                <a:spcPct val="90000"/>
              </a:lnSpc>
              <a:spcBef>
                <a:spcPts val="7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5" name=""/>
          <p:cNvGraphicFramePr/>
          <p:nvPr/>
        </p:nvGraphicFramePr>
        <p:xfrm>
          <a:off x="4114800" y="5562720"/>
          <a:ext cx="550800" cy="1066680"/>
        </p:xfrm>
        <a:graphic>
          <a:graphicData uri="http://schemas.openxmlformats.org/presentationml/2006/ole">
            <p:oleObj r:id="rId5" spid="">
              <p:embed/>
              <p:pic>
                <p:nvPicPr>
                  <p:cNvPr id="76" name="" descr=""/>
                  <p:cNvPicPr/>
                  <p:nvPr/>
                </p:nvPicPr>
                <p:blipFill>
                  <a:blip r:embed="rId6"/>
                  <a:stretch/>
                </p:blipFill>
                <p:spPr>
                  <a:xfrm>
                    <a:off x="4114800" y="5562720"/>
                    <a:ext cx="550800" cy="1066680"/>
                  </a:xfrm>
                  <a:prstGeom prst="rect">
                    <a:avLst/>
                  </a:prstGeom>
                  <a:ln w="0">
                    <a:noFill/>
                  </a:ln>
                </p:spPr>
              </p:pic>
            </p:oleObj>
          </a:graphicData>
        </a:graphic>
      </p:graphicFrame>
      <p:graphicFrame>
        <p:nvGraphicFramePr>
          <p:cNvPr id="77" name=""/>
          <p:cNvGraphicFramePr/>
          <p:nvPr/>
        </p:nvGraphicFramePr>
        <p:xfrm>
          <a:off x="6095880" y="5562720"/>
          <a:ext cx="735120" cy="1035000"/>
        </p:xfrm>
        <a:graphic>
          <a:graphicData uri="http://schemas.openxmlformats.org/presentationml/2006/ole">
            <p:oleObj r:id="rId7" spid="">
              <p:embed/>
              <p:pic>
                <p:nvPicPr>
                  <p:cNvPr id="78" name="" descr=""/>
                  <p:cNvPicPr/>
                  <p:nvPr/>
                </p:nvPicPr>
                <p:blipFill>
                  <a:blip r:embed="rId8"/>
                  <a:stretch/>
                </p:blipFill>
                <p:spPr>
                  <a:xfrm>
                    <a:off x="6095880" y="5562720"/>
                    <a:ext cx="735120" cy="1035000"/>
                  </a:xfrm>
                  <a:prstGeom prst="rect">
                    <a:avLst/>
                  </a:prstGeom>
                  <a:ln w="0">
                    <a:noFill/>
                  </a:ln>
                </p:spPr>
              </p:pic>
            </p:oleObj>
          </a:graphicData>
        </a:graphic>
      </p:graphicFrame>
      <p:sp>
        <p:nvSpPr>
          <p:cNvPr id="79" name=""/>
          <p:cNvSpPr/>
          <p:nvPr/>
        </p:nvSpPr>
        <p:spPr>
          <a:xfrm>
            <a:off x="304920" y="1752480"/>
            <a:ext cx="822960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0" name=""/>
          <p:cNvGraphicFramePr/>
          <p:nvPr/>
        </p:nvGraphicFramePr>
        <p:xfrm>
          <a:off x="4114800" y="5562720"/>
          <a:ext cx="550800" cy="1066680"/>
        </p:xfrm>
        <a:graphic>
          <a:graphicData uri="http://schemas.openxmlformats.org/presentationml/2006/ole">
            <p:oleObj r:id="rId9" spid="">
              <p:embed/>
              <p:pic>
                <p:nvPicPr>
                  <p:cNvPr id="81" name="" descr=""/>
                  <p:cNvPicPr/>
                  <p:nvPr/>
                </p:nvPicPr>
                <p:blipFill>
                  <a:blip r:embed="rId10"/>
                  <a:stretch/>
                </p:blipFill>
                <p:spPr>
                  <a:xfrm>
                    <a:off x="4114800" y="5562720"/>
                    <a:ext cx="550800" cy="1066680"/>
                  </a:xfrm>
                  <a:prstGeom prst="rect">
                    <a:avLst/>
                  </a:prstGeom>
                  <a:ln w="0">
                    <a:noFill/>
                  </a:ln>
                </p:spPr>
              </p:pic>
            </p:oleObj>
          </a:graphicData>
        </a:graphic>
      </p:graphicFrame>
      <p:sp>
        <p:nvSpPr>
          <p:cNvPr id="82" name="PlaceHolder 2"/>
          <p:cNvSpPr>
            <a:spLocks noGrp="1"/>
          </p:cNvSpPr>
          <p:nvPr>
            <p:ph/>
          </p:nvPr>
        </p:nvSpPr>
        <p:spPr>
          <a:xfrm>
            <a:off x="380520" y="837720"/>
            <a:ext cx="7620120" cy="541044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of what we have learned so far…</a:t>
            </a:r>
            <a:endParaRPr b="0" lang="en-US" sz="28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2/5 as a decimal.</a:t>
            </a:r>
            <a:endParaRPr b="0" lang="en-US" sz="28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28 as a fraction.</a:t>
            </a:r>
            <a:endParaRPr b="0" lang="en-US" sz="2800" spc="-1" strike="noStrike">
              <a:solidFill>
                <a:srgbClr val="000000"/>
              </a:solidFill>
              <a:latin typeface="Times New Roman"/>
            </a:endParaRPr>
          </a:p>
        </p:txBody>
      </p:sp>
      <p:sp>
        <p:nvSpPr>
          <p:cNvPr id="83" name=""/>
          <p:cNvSpPr/>
          <p:nvPr/>
        </p:nvSpPr>
        <p:spPr>
          <a:xfrm>
            <a:off x="8613720" y="74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4" name=""/>
          <p:cNvSpPr/>
          <p:nvPr/>
        </p:nvSpPr>
        <p:spPr>
          <a:xfrm>
            <a:off x="1428840" y="1857240"/>
            <a:ext cx="973080" cy="785880"/>
          </a:xfrm>
          <a:custGeom>
            <a:avLst/>
            <a:gdLst/>
            <a:ahLst/>
            <a:rect l="l" t="t" r="r" b="b"/>
            <a:pathLst>
              <a:path w="2704" h="2184">
                <a:moveTo>
                  <a:pt x="4514" y="5283"/>
                </a:moveTo>
                <a:cubicBezTo>
                  <a:pt x="4575" y="5104"/>
                  <a:pt x="4695" y="5175"/>
                  <a:pt x="4837" y="5209"/>
                </a:cubicBezTo>
                <a:cubicBezTo>
                  <a:pt x="4957" y="5462"/>
                  <a:pt x="4801" y="5661"/>
                  <a:pt x="4490" y="5755"/>
                </a:cubicBezTo>
                <a:cubicBezTo>
                  <a:pt x="4440" y="5755"/>
                  <a:pt x="4391" y="5755"/>
                  <a:pt x="4341" y="5755"/>
                </a:cubicBezTo>
                <a:cubicBezTo>
                  <a:pt x="4354" y="5557"/>
                  <a:pt x="4427" y="5482"/>
                  <a:pt x="4663" y="5531"/>
                </a:cubicBezTo>
                <a:cubicBezTo>
                  <a:pt x="4854" y="5571"/>
                  <a:pt x="4899" y="5681"/>
                  <a:pt x="4986" y="5829"/>
                </a:cubicBezTo>
              </a:path>
              <a:path w="2704" h="2184">
                <a:moveTo>
                  <a:pt x="3969" y="6300"/>
                </a:moveTo>
                <a:cubicBezTo>
                  <a:pt x="4366" y="6247"/>
                  <a:pt x="4759" y="6192"/>
                  <a:pt x="5159" y="6176"/>
                </a:cubicBezTo>
              </a:path>
              <a:path w="2704" h="2184">
                <a:moveTo>
                  <a:pt x="4688" y="6598"/>
                </a:moveTo>
                <a:cubicBezTo>
                  <a:pt x="4591" y="6618"/>
                  <a:pt x="4412" y="6617"/>
                  <a:pt x="4341" y="6697"/>
                </a:cubicBezTo>
                <a:cubicBezTo>
                  <a:pt x="4266" y="6782"/>
                  <a:pt x="4232" y="6867"/>
                  <a:pt x="4192" y="6970"/>
                </a:cubicBezTo>
                <a:cubicBezTo>
                  <a:pt x="4337" y="6953"/>
                  <a:pt x="4505" y="6846"/>
                  <a:pt x="4638" y="6945"/>
                </a:cubicBezTo>
                <a:cubicBezTo>
                  <a:pt x="4854" y="7105"/>
                  <a:pt x="4488" y="7291"/>
                  <a:pt x="4390" y="7317"/>
                </a:cubicBezTo>
                <a:cubicBezTo>
                  <a:pt x="4206" y="7340"/>
                  <a:pt x="4154" y="7353"/>
                  <a:pt x="4043" y="7293"/>
                </a:cubicBezTo>
              </a:path>
              <a:path w="2704" h="2184">
                <a:moveTo>
                  <a:pt x="5531" y="6226"/>
                </a:moveTo>
                <a:cubicBezTo>
                  <a:pt x="5537" y="6351"/>
                  <a:pt x="5548" y="6474"/>
                  <a:pt x="5556" y="6598"/>
                </a:cubicBezTo>
              </a:path>
              <a:path w="2704" h="2184">
                <a:moveTo>
                  <a:pt x="5680" y="6300"/>
                </a:moveTo>
                <a:cubicBezTo>
                  <a:pt x="5584" y="6412"/>
                  <a:pt x="5497" y="6530"/>
                  <a:pt x="5407" y="6648"/>
                </a:cubicBezTo>
              </a:path>
              <a:path w="2704" h="2184">
                <a:moveTo>
                  <a:pt x="6052" y="6300"/>
                </a:moveTo>
                <a:cubicBezTo>
                  <a:pt x="6154" y="6275"/>
                  <a:pt x="6190" y="6269"/>
                  <a:pt x="6251" y="6325"/>
                </a:cubicBezTo>
                <a:cubicBezTo>
                  <a:pt x="6265" y="6564"/>
                  <a:pt x="6159" y="6638"/>
                  <a:pt x="5904" y="6623"/>
                </a:cubicBezTo>
                <a:cubicBezTo>
                  <a:pt x="5887" y="6615"/>
                  <a:pt x="5871" y="6606"/>
                  <a:pt x="5854" y="6598"/>
                </a:cubicBezTo>
                <a:cubicBezTo>
                  <a:pt x="6013" y="6479"/>
                  <a:pt x="6019" y="6482"/>
                  <a:pt x="6201" y="6573"/>
                </a:cubicBezTo>
              </a:path>
              <a:path w="2704" h="2184">
                <a:moveTo>
                  <a:pt x="6474" y="6350"/>
                </a:moveTo>
                <a:cubicBezTo>
                  <a:pt x="6410" y="6436"/>
                  <a:pt x="6385" y="6453"/>
                  <a:pt x="6400" y="6524"/>
                </a:cubicBezTo>
                <a:cubicBezTo>
                  <a:pt x="6526" y="6546"/>
                  <a:pt x="6566" y="6557"/>
                  <a:pt x="6672" y="6499"/>
                </a:cubicBezTo>
                <a:cubicBezTo>
                  <a:pt x="6635" y="6364"/>
                  <a:pt x="6624" y="6392"/>
                  <a:pt x="6474" y="6350"/>
                </a:cubicBezTo>
              </a:path>
              <a:path w="2704" h="2184">
                <a:moveTo>
                  <a:pt x="6003" y="6127"/>
                </a:moveTo>
                <a:cubicBezTo>
                  <a:pt x="6219" y="6111"/>
                  <a:pt x="6431" y="6083"/>
                  <a:pt x="6648" y="6077"/>
                </a:cubicBezTo>
                <a:cubicBezTo>
                  <a:pt x="6656" y="6077"/>
                  <a:pt x="6664" y="6077"/>
                  <a:pt x="6672" y="6077"/>
                </a:cubicBezTo>
              </a:path>
              <a:path w="2704" h="2184">
                <a:moveTo>
                  <a:pt x="6052" y="5680"/>
                </a:moveTo>
                <a:cubicBezTo>
                  <a:pt x="5924" y="5788"/>
                  <a:pt x="6018" y="5714"/>
                  <a:pt x="6102" y="5705"/>
                </a:cubicBezTo>
                <a:cubicBezTo>
                  <a:pt x="6093" y="5933"/>
                  <a:pt x="6074" y="6025"/>
                  <a:pt x="5829" y="6077"/>
                </a:cubicBezTo>
                <a:cubicBezTo>
                  <a:pt x="5858" y="5963"/>
                  <a:pt x="5955" y="5920"/>
                  <a:pt x="6077" y="5978"/>
                </a:cubicBezTo>
                <a:cubicBezTo>
                  <a:pt x="6158" y="6038"/>
                  <a:pt x="6181" y="6043"/>
                  <a:pt x="6201" y="6102"/>
                </a:cubicBezTo>
              </a:path>
              <a:path w="2704" h="2184">
                <a:moveTo>
                  <a:pt x="6424" y="5755"/>
                </a:moveTo>
                <a:cubicBezTo>
                  <a:pt x="6308" y="5838"/>
                  <a:pt x="6298" y="5835"/>
                  <a:pt x="6276" y="5978"/>
                </a:cubicBezTo>
                <a:cubicBezTo>
                  <a:pt x="6345" y="6000"/>
                  <a:pt x="6683" y="6013"/>
                  <a:pt x="6524" y="5829"/>
                </a:cubicBezTo>
                <a:cubicBezTo>
                  <a:pt x="6428" y="5781"/>
                  <a:pt x="6399" y="5764"/>
                  <a:pt x="6325" y="577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741760" y="1751040"/>
            <a:ext cx="1884240" cy="741240"/>
          </a:xfrm>
          <a:custGeom>
            <a:avLst/>
            <a:gdLst/>
            <a:ahLst/>
            <a:rect l="l" t="t" r="r" b="b"/>
            <a:pathLst>
              <a:path w="5235" h="2060">
                <a:moveTo>
                  <a:pt x="7615" y="6300"/>
                </a:moveTo>
                <a:cubicBezTo>
                  <a:pt x="7740" y="6300"/>
                  <a:pt x="7782" y="6300"/>
                  <a:pt x="7863" y="6276"/>
                </a:cubicBezTo>
              </a:path>
              <a:path w="5235" h="2060">
                <a:moveTo>
                  <a:pt x="7640" y="6524"/>
                </a:moveTo>
                <a:cubicBezTo>
                  <a:pt x="7764" y="6499"/>
                  <a:pt x="7805" y="6491"/>
                  <a:pt x="7888" y="6474"/>
                </a:cubicBezTo>
              </a:path>
              <a:path w="5235" h="2060">
                <a:moveTo>
                  <a:pt x="8384" y="6300"/>
                </a:moveTo>
                <a:cubicBezTo>
                  <a:pt x="8358" y="6510"/>
                  <a:pt x="8277" y="6680"/>
                  <a:pt x="8186" y="6871"/>
                </a:cubicBezTo>
              </a:path>
              <a:path w="5235" h="2060">
                <a:moveTo>
                  <a:pt x="8930" y="6350"/>
                </a:moveTo>
                <a:cubicBezTo>
                  <a:pt x="8791" y="6510"/>
                  <a:pt x="8738" y="6594"/>
                  <a:pt x="8682" y="6796"/>
                </a:cubicBezTo>
                <a:cubicBezTo>
                  <a:pt x="8831" y="6853"/>
                  <a:pt x="9083" y="6873"/>
                  <a:pt x="9103" y="6623"/>
                </a:cubicBezTo>
                <a:cubicBezTo>
                  <a:pt x="9049" y="6514"/>
                  <a:pt x="9023" y="6475"/>
                  <a:pt x="8930" y="6449"/>
                </a:cubicBezTo>
              </a:path>
              <a:path w="5235" h="2060">
                <a:moveTo>
                  <a:pt x="9500" y="6499"/>
                </a:moveTo>
                <a:cubicBezTo>
                  <a:pt x="9391" y="6608"/>
                  <a:pt x="9352" y="6671"/>
                  <a:pt x="9302" y="6821"/>
                </a:cubicBezTo>
                <a:cubicBezTo>
                  <a:pt x="9430" y="6847"/>
                  <a:pt x="9722" y="6878"/>
                  <a:pt x="9748" y="6672"/>
                </a:cubicBezTo>
                <a:cubicBezTo>
                  <a:pt x="9698" y="6545"/>
                  <a:pt x="9678" y="6501"/>
                  <a:pt x="9575" y="6474"/>
                </a:cubicBezTo>
              </a:path>
              <a:path w="5235" h="2060">
                <a:moveTo>
                  <a:pt x="8310" y="6176"/>
                </a:moveTo>
                <a:cubicBezTo>
                  <a:pt x="8642" y="6176"/>
                  <a:pt x="8971" y="6173"/>
                  <a:pt x="9302" y="6201"/>
                </a:cubicBezTo>
                <a:cubicBezTo>
                  <a:pt x="9483" y="6221"/>
                  <a:pt x="9516" y="6230"/>
                  <a:pt x="9624" y="6226"/>
                </a:cubicBezTo>
              </a:path>
              <a:path w="5235" h="2060">
                <a:moveTo>
                  <a:pt x="8855" y="5482"/>
                </a:moveTo>
                <a:cubicBezTo>
                  <a:pt x="8819" y="5554"/>
                  <a:pt x="8703" y="5668"/>
                  <a:pt x="8806" y="5730"/>
                </a:cubicBezTo>
                <a:cubicBezTo>
                  <a:pt x="8894" y="5783"/>
                  <a:pt x="8991" y="5750"/>
                  <a:pt x="9079" y="5730"/>
                </a:cubicBezTo>
              </a:path>
              <a:path w="5235" h="2060">
                <a:moveTo>
                  <a:pt x="9029" y="5308"/>
                </a:moveTo>
                <a:cubicBezTo>
                  <a:pt x="8963" y="5532"/>
                  <a:pt x="8894" y="5758"/>
                  <a:pt x="8830" y="5978"/>
                </a:cubicBezTo>
                <a:cubicBezTo>
                  <a:pt x="8830" y="5995"/>
                  <a:pt x="8830" y="6011"/>
                  <a:pt x="8830" y="6028"/>
                </a:cubicBezTo>
              </a:path>
              <a:path w="5235" h="2060">
                <a:moveTo>
                  <a:pt x="9327" y="5432"/>
                </a:moveTo>
                <a:cubicBezTo>
                  <a:pt x="9172" y="5548"/>
                  <a:pt x="8991" y="5729"/>
                  <a:pt x="9079" y="5953"/>
                </a:cubicBezTo>
                <a:cubicBezTo>
                  <a:pt x="9104" y="5978"/>
                  <a:pt x="9128" y="6003"/>
                  <a:pt x="9153" y="6028"/>
                </a:cubicBezTo>
                <a:cubicBezTo>
                  <a:pt x="9392" y="5952"/>
                  <a:pt x="9441" y="5869"/>
                  <a:pt x="9401" y="5606"/>
                </a:cubicBezTo>
                <a:cubicBezTo>
                  <a:pt x="9379" y="5539"/>
                  <a:pt x="9378" y="5517"/>
                  <a:pt x="9327" y="5507"/>
                </a:cubicBezTo>
              </a:path>
              <a:path w="5235" h="2060">
                <a:moveTo>
                  <a:pt x="9971" y="6052"/>
                </a:moveTo>
                <a:cubicBezTo>
                  <a:pt x="10113" y="6026"/>
                  <a:pt x="10251" y="6028"/>
                  <a:pt x="10393" y="6003"/>
                </a:cubicBezTo>
              </a:path>
              <a:path w="5235" h="2060">
                <a:moveTo>
                  <a:pt x="10071" y="6276"/>
                </a:moveTo>
                <a:cubicBezTo>
                  <a:pt x="10205" y="6267"/>
                  <a:pt x="10335" y="6238"/>
                  <a:pt x="10468" y="6226"/>
                </a:cubicBezTo>
              </a:path>
              <a:path w="5235" h="2060">
                <a:moveTo>
                  <a:pt x="11162" y="6375"/>
                </a:moveTo>
                <a:cubicBezTo>
                  <a:pt x="11156" y="6330"/>
                  <a:pt x="11155" y="6209"/>
                  <a:pt x="11088" y="6276"/>
                </a:cubicBezTo>
                <a:cubicBezTo>
                  <a:pt x="11007" y="6356"/>
                  <a:pt x="11097" y="6354"/>
                  <a:pt x="11137" y="6300"/>
                </a:cubicBezTo>
              </a:path>
              <a:path w="5235" h="2060">
                <a:moveTo>
                  <a:pt x="11385" y="5779"/>
                </a:moveTo>
                <a:cubicBezTo>
                  <a:pt x="11385" y="5897"/>
                  <a:pt x="11324" y="6073"/>
                  <a:pt x="11485" y="6077"/>
                </a:cubicBezTo>
                <a:cubicBezTo>
                  <a:pt x="11610" y="6056"/>
                  <a:pt x="11636" y="6055"/>
                  <a:pt x="11708" y="6028"/>
                </a:cubicBezTo>
              </a:path>
              <a:path w="5235" h="2060">
                <a:moveTo>
                  <a:pt x="11633" y="5680"/>
                </a:moveTo>
                <a:cubicBezTo>
                  <a:pt x="11633" y="5897"/>
                  <a:pt x="11622" y="6109"/>
                  <a:pt x="11609" y="6325"/>
                </a:cubicBezTo>
              </a:path>
              <a:path w="5235" h="2060">
                <a:moveTo>
                  <a:pt x="11956" y="5730"/>
                </a:moveTo>
                <a:cubicBezTo>
                  <a:pt x="11847" y="5899"/>
                  <a:pt x="11749" y="6040"/>
                  <a:pt x="11807" y="6251"/>
                </a:cubicBezTo>
                <a:cubicBezTo>
                  <a:pt x="11824" y="6276"/>
                  <a:pt x="11840" y="6300"/>
                  <a:pt x="11857" y="6325"/>
                </a:cubicBezTo>
                <a:cubicBezTo>
                  <a:pt x="12052" y="6302"/>
                  <a:pt x="12205" y="6234"/>
                  <a:pt x="12229" y="6003"/>
                </a:cubicBezTo>
                <a:cubicBezTo>
                  <a:pt x="12244" y="5856"/>
                  <a:pt x="12120" y="5780"/>
                  <a:pt x="12005" y="5755"/>
                </a:cubicBezTo>
              </a:path>
              <a:path w="5235" h="2060">
                <a:moveTo>
                  <a:pt x="11088" y="6722"/>
                </a:moveTo>
                <a:cubicBezTo>
                  <a:pt x="11360" y="6754"/>
                  <a:pt x="11550" y="6731"/>
                  <a:pt x="11832" y="6648"/>
                </a:cubicBezTo>
                <a:cubicBezTo>
                  <a:pt x="12172" y="6548"/>
                  <a:pt x="12574" y="6392"/>
                  <a:pt x="12774" y="6077"/>
                </a:cubicBezTo>
                <a:cubicBezTo>
                  <a:pt x="12931" y="5828"/>
                  <a:pt x="12855" y="5516"/>
                  <a:pt x="12725" y="5283"/>
                </a:cubicBezTo>
                <a:cubicBezTo>
                  <a:pt x="12597" y="5055"/>
                  <a:pt x="12395" y="4891"/>
                  <a:pt x="12129" y="4862"/>
                </a:cubicBezTo>
                <a:cubicBezTo>
                  <a:pt x="11738" y="4819"/>
                  <a:pt x="11310" y="4935"/>
                  <a:pt x="10988" y="5159"/>
                </a:cubicBezTo>
                <a:cubicBezTo>
                  <a:pt x="10665" y="5384"/>
                  <a:pt x="10464" y="5732"/>
                  <a:pt x="10492" y="6127"/>
                </a:cubicBezTo>
                <a:cubicBezTo>
                  <a:pt x="10504" y="6304"/>
                  <a:pt x="10606" y="6728"/>
                  <a:pt x="10765" y="6846"/>
                </a:cubicBezTo>
                <a:cubicBezTo>
                  <a:pt x="10929" y="6967"/>
                  <a:pt x="11159" y="6905"/>
                  <a:pt x="11336" y="6871"/>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330200" y="3375000"/>
            <a:ext cx="438120" cy="36360"/>
          </a:xfrm>
          <a:custGeom>
            <a:avLst/>
            <a:gdLst/>
            <a:ahLst/>
            <a:rect l="l" t="t" r="r" b="b"/>
            <a:pathLst>
              <a:path w="1216" h="100">
                <a:moveTo>
                  <a:pt x="3696" y="9451"/>
                </a:moveTo>
                <a:cubicBezTo>
                  <a:pt x="3754" y="9475"/>
                  <a:pt x="3782" y="9475"/>
                  <a:pt x="3845" y="9475"/>
                </a:cubicBezTo>
                <a:cubicBezTo>
                  <a:pt x="3967" y="9475"/>
                  <a:pt x="4074" y="9467"/>
                  <a:pt x="4192" y="9451"/>
                </a:cubicBezTo>
                <a:cubicBezTo>
                  <a:pt x="4262" y="9441"/>
                  <a:pt x="4317" y="9426"/>
                  <a:pt x="4390" y="9426"/>
                </a:cubicBezTo>
                <a:cubicBezTo>
                  <a:pt x="4460" y="9426"/>
                  <a:pt x="4518" y="9401"/>
                  <a:pt x="4589" y="9401"/>
                </a:cubicBezTo>
                <a:cubicBezTo>
                  <a:pt x="4663" y="9401"/>
                  <a:pt x="4717" y="9381"/>
                  <a:pt x="4787" y="9376"/>
                </a:cubicBezTo>
                <a:cubicBezTo>
                  <a:pt x="4841" y="9372"/>
                  <a:pt x="4867" y="9390"/>
                  <a:pt x="4911" y="9401"/>
                </a:cubicBezTo>
              </a:path>
            </a:pathLst>
          </a:custGeom>
          <a:noFill/>
          <a:ln cap="rnd" w="34920">
            <a:solidFill>
              <a:srgbClr val="ff00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 name=""/>
          <p:cNvSpPr/>
          <p:nvPr/>
        </p:nvSpPr>
        <p:spPr>
          <a:xfrm>
            <a:off x="2633760" y="3089160"/>
            <a:ext cx="4073400" cy="1519200"/>
          </a:xfrm>
          <a:custGeom>
            <a:avLst/>
            <a:gdLst/>
            <a:ahLst/>
            <a:rect l="l" t="t" r="r" b="b"/>
            <a:pathLst>
              <a:path w="11312" h="4218">
                <a:moveTo>
                  <a:pt x="8111" y="9922"/>
                </a:moveTo>
                <a:cubicBezTo>
                  <a:pt x="8136" y="9822"/>
                  <a:pt x="8145" y="9788"/>
                  <a:pt x="8210" y="9748"/>
                </a:cubicBezTo>
                <a:cubicBezTo>
                  <a:pt x="8492" y="9897"/>
                  <a:pt x="8508" y="10158"/>
                  <a:pt x="8260" y="10418"/>
                </a:cubicBezTo>
                <a:cubicBezTo>
                  <a:pt x="8064" y="10624"/>
                  <a:pt x="7926" y="10598"/>
                  <a:pt x="7714" y="10517"/>
                </a:cubicBezTo>
                <a:cubicBezTo>
                  <a:pt x="7829" y="10266"/>
                  <a:pt x="8044" y="10158"/>
                  <a:pt x="8334" y="10344"/>
                </a:cubicBezTo>
                <a:cubicBezTo>
                  <a:pt x="8415" y="10445"/>
                  <a:pt x="8427" y="10465"/>
                  <a:pt x="8483" y="10517"/>
                </a:cubicBezTo>
              </a:path>
              <a:path w="11312" h="4218">
                <a:moveTo>
                  <a:pt x="8806" y="9773"/>
                </a:moveTo>
                <a:cubicBezTo>
                  <a:pt x="8697" y="9844"/>
                  <a:pt x="8613" y="9896"/>
                  <a:pt x="8533" y="9996"/>
                </a:cubicBezTo>
                <a:cubicBezTo>
                  <a:pt x="8654" y="10087"/>
                  <a:pt x="9025" y="10204"/>
                  <a:pt x="9029" y="10393"/>
                </a:cubicBezTo>
                <a:cubicBezTo>
                  <a:pt x="8952" y="10520"/>
                  <a:pt x="8923" y="10563"/>
                  <a:pt x="8806" y="10567"/>
                </a:cubicBezTo>
                <a:cubicBezTo>
                  <a:pt x="8694" y="10276"/>
                  <a:pt x="8952" y="10107"/>
                  <a:pt x="8905" y="9847"/>
                </a:cubicBezTo>
                <a:cubicBezTo>
                  <a:pt x="8880" y="9847"/>
                  <a:pt x="8855" y="9847"/>
                  <a:pt x="8830" y="9847"/>
                </a:cubicBezTo>
              </a:path>
              <a:path w="11312" h="4218">
                <a:moveTo>
                  <a:pt x="7317" y="11063"/>
                </a:moveTo>
                <a:cubicBezTo>
                  <a:pt x="7749" y="10929"/>
                  <a:pt x="8188" y="10827"/>
                  <a:pt x="8632" y="10740"/>
                </a:cubicBezTo>
                <a:cubicBezTo>
                  <a:pt x="8920" y="10684"/>
                  <a:pt x="9184" y="10652"/>
                  <a:pt x="9475" y="10641"/>
                </a:cubicBezTo>
              </a:path>
              <a:path w="11312" h="4218">
                <a:moveTo>
                  <a:pt x="7888" y="11137"/>
                </a:moveTo>
                <a:cubicBezTo>
                  <a:pt x="7850" y="11325"/>
                  <a:pt x="7786" y="11551"/>
                  <a:pt x="7714" y="11733"/>
                </a:cubicBezTo>
                <a:cubicBezTo>
                  <a:pt x="7640" y="11882"/>
                  <a:pt x="7631" y="11898"/>
                  <a:pt x="7590" y="11981"/>
                </a:cubicBezTo>
              </a:path>
              <a:path w="11312" h="4218">
                <a:moveTo>
                  <a:pt x="8310" y="11162"/>
                </a:moveTo>
                <a:cubicBezTo>
                  <a:pt x="8221" y="11360"/>
                  <a:pt x="8063" y="11632"/>
                  <a:pt x="8086" y="11857"/>
                </a:cubicBezTo>
                <a:cubicBezTo>
                  <a:pt x="8103" y="11873"/>
                  <a:pt x="8119" y="11890"/>
                  <a:pt x="8136" y="11906"/>
                </a:cubicBezTo>
                <a:cubicBezTo>
                  <a:pt x="8311" y="11798"/>
                  <a:pt x="8606" y="11589"/>
                  <a:pt x="8434" y="11336"/>
                </a:cubicBezTo>
                <a:cubicBezTo>
                  <a:pt x="8329" y="11272"/>
                  <a:pt x="8309" y="11254"/>
                  <a:pt x="8235" y="11237"/>
                </a:cubicBezTo>
              </a:path>
              <a:path w="11312" h="4218">
                <a:moveTo>
                  <a:pt x="8880" y="11137"/>
                </a:moveTo>
                <a:cubicBezTo>
                  <a:pt x="8727" y="11233"/>
                  <a:pt x="8647" y="11429"/>
                  <a:pt x="8632" y="11609"/>
                </a:cubicBezTo>
                <a:cubicBezTo>
                  <a:pt x="8655" y="11744"/>
                  <a:pt x="8651" y="11788"/>
                  <a:pt x="8756" y="11807"/>
                </a:cubicBezTo>
                <a:cubicBezTo>
                  <a:pt x="8958" y="11690"/>
                  <a:pt x="9136" y="11478"/>
                  <a:pt x="8930" y="11237"/>
                </a:cubicBezTo>
                <a:cubicBezTo>
                  <a:pt x="8897" y="11229"/>
                  <a:pt x="8863" y="11220"/>
                  <a:pt x="8830" y="11212"/>
                </a:cubicBezTo>
              </a:path>
              <a:path w="11312" h="4218">
                <a:moveTo>
                  <a:pt x="9699" y="10765"/>
                </a:moveTo>
                <a:cubicBezTo>
                  <a:pt x="9800" y="10757"/>
                  <a:pt x="9893" y="10740"/>
                  <a:pt x="9996" y="10740"/>
                </a:cubicBezTo>
              </a:path>
              <a:path w="11312" h="4218">
                <a:moveTo>
                  <a:pt x="9798" y="10492"/>
                </a:moveTo>
                <a:lnTo>
                  <a:pt x="9798" y="10492"/>
                </a:lnTo>
              </a:path>
              <a:path w="11312" h="4218">
                <a:moveTo>
                  <a:pt x="9823" y="11088"/>
                </a:moveTo>
                <a:lnTo>
                  <a:pt x="9823" y="11088"/>
                </a:lnTo>
              </a:path>
              <a:path w="11312" h="4218">
                <a:moveTo>
                  <a:pt x="10567" y="10120"/>
                </a:moveTo>
                <a:cubicBezTo>
                  <a:pt x="10642" y="10052"/>
                  <a:pt x="10694" y="9963"/>
                  <a:pt x="10790" y="10021"/>
                </a:cubicBezTo>
                <a:cubicBezTo>
                  <a:pt x="10702" y="10213"/>
                  <a:pt x="10618" y="10342"/>
                  <a:pt x="10468" y="10492"/>
                </a:cubicBezTo>
                <a:cubicBezTo>
                  <a:pt x="10593" y="10435"/>
                  <a:pt x="10709" y="10387"/>
                  <a:pt x="10840" y="10344"/>
                </a:cubicBezTo>
              </a:path>
              <a:path w="11312" h="4218">
                <a:moveTo>
                  <a:pt x="10368" y="10691"/>
                </a:moveTo>
                <a:cubicBezTo>
                  <a:pt x="10576" y="10614"/>
                  <a:pt x="10765" y="10557"/>
                  <a:pt x="10988" y="10542"/>
                </a:cubicBezTo>
              </a:path>
              <a:path w="11312" h="4218">
                <a:moveTo>
                  <a:pt x="10517" y="10864"/>
                </a:moveTo>
                <a:cubicBezTo>
                  <a:pt x="10618" y="10838"/>
                  <a:pt x="10711" y="10822"/>
                  <a:pt x="10815" y="10815"/>
                </a:cubicBezTo>
                <a:cubicBezTo>
                  <a:pt x="10757" y="10950"/>
                  <a:pt x="10618" y="11074"/>
                  <a:pt x="10517" y="11187"/>
                </a:cubicBezTo>
                <a:cubicBezTo>
                  <a:pt x="10501" y="11204"/>
                  <a:pt x="10484" y="11220"/>
                  <a:pt x="10468" y="11237"/>
                </a:cubicBezTo>
                <a:cubicBezTo>
                  <a:pt x="10612" y="11263"/>
                  <a:pt x="10743" y="11203"/>
                  <a:pt x="10889" y="11162"/>
                </a:cubicBezTo>
              </a:path>
              <a:path w="11312" h="4218">
                <a:moveTo>
                  <a:pt x="11361" y="10592"/>
                </a:moveTo>
                <a:cubicBezTo>
                  <a:pt x="11472" y="10572"/>
                  <a:pt x="11569" y="10567"/>
                  <a:pt x="11683" y="10567"/>
                </a:cubicBezTo>
              </a:path>
              <a:path w="11312" h="4218">
                <a:moveTo>
                  <a:pt x="11435" y="10740"/>
                </a:moveTo>
                <a:cubicBezTo>
                  <a:pt x="11530" y="10729"/>
                  <a:pt x="11612" y="10721"/>
                  <a:pt x="11708" y="10716"/>
                </a:cubicBezTo>
              </a:path>
              <a:path w="11312" h="4218">
                <a:moveTo>
                  <a:pt x="12179" y="9748"/>
                </a:moveTo>
                <a:cubicBezTo>
                  <a:pt x="12179" y="9930"/>
                  <a:pt x="12179" y="10112"/>
                  <a:pt x="12179" y="10294"/>
                </a:cubicBezTo>
              </a:path>
              <a:path w="11312" h="4218">
                <a:moveTo>
                  <a:pt x="12626" y="9649"/>
                </a:moveTo>
                <a:cubicBezTo>
                  <a:pt x="12599" y="9770"/>
                  <a:pt x="12578" y="9859"/>
                  <a:pt x="12526" y="9971"/>
                </a:cubicBezTo>
                <a:cubicBezTo>
                  <a:pt x="12642" y="9979"/>
                  <a:pt x="12730" y="9955"/>
                  <a:pt x="12849" y="9922"/>
                </a:cubicBezTo>
              </a:path>
              <a:path w="11312" h="4218">
                <a:moveTo>
                  <a:pt x="12874" y="9475"/>
                </a:moveTo>
                <a:cubicBezTo>
                  <a:pt x="12833" y="9721"/>
                  <a:pt x="12785" y="9969"/>
                  <a:pt x="12750" y="10220"/>
                </a:cubicBezTo>
                <a:cubicBezTo>
                  <a:pt x="12731" y="10335"/>
                  <a:pt x="12722" y="10351"/>
                  <a:pt x="12725" y="10418"/>
                </a:cubicBezTo>
              </a:path>
              <a:path w="11312" h="4218">
                <a:moveTo>
                  <a:pt x="11857" y="10492"/>
                </a:moveTo>
                <a:cubicBezTo>
                  <a:pt x="12220" y="10442"/>
                  <a:pt x="12582" y="10370"/>
                  <a:pt x="12948" y="10344"/>
                </a:cubicBezTo>
                <a:cubicBezTo>
                  <a:pt x="12989" y="10344"/>
                  <a:pt x="13031" y="10344"/>
                  <a:pt x="13072" y="10344"/>
                </a:cubicBezTo>
              </a:path>
              <a:path w="11312" h="4218">
                <a:moveTo>
                  <a:pt x="12378" y="10790"/>
                </a:moveTo>
                <a:cubicBezTo>
                  <a:pt x="12418" y="10747"/>
                  <a:pt x="12138" y="10769"/>
                  <a:pt x="12080" y="10815"/>
                </a:cubicBezTo>
                <a:cubicBezTo>
                  <a:pt x="12029" y="10856"/>
                  <a:pt x="12055" y="10982"/>
                  <a:pt x="12055" y="11038"/>
                </a:cubicBezTo>
                <a:cubicBezTo>
                  <a:pt x="12159" y="11015"/>
                  <a:pt x="12456" y="10910"/>
                  <a:pt x="12502" y="11088"/>
                </a:cubicBezTo>
                <a:cubicBezTo>
                  <a:pt x="12559" y="11310"/>
                  <a:pt x="12206" y="11410"/>
                  <a:pt x="12055" y="11410"/>
                </a:cubicBezTo>
                <a:cubicBezTo>
                  <a:pt x="11957" y="11385"/>
                  <a:pt x="11924" y="11378"/>
                  <a:pt x="11956" y="11286"/>
                </a:cubicBezTo>
              </a:path>
              <a:path w="11312" h="4218">
                <a:moveTo>
                  <a:pt x="12774" y="10889"/>
                </a:moveTo>
                <a:cubicBezTo>
                  <a:pt x="12682" y="10973"/>
                  <a:pt x="12555" y="11138"/>
                  <a:pt x="12700" y="11261"/>
                </a:cubicBezTo>
                <a:cubicBezTo>
                  <a:pt x="12831" y="11372"/>
                  <a:pt x="13053" y="11199"/>
                  <a:pt x="13072" y="11063"/>
                </a:cubicBezTo>
                <a:cubicBezTo>
                  <a:pt x="13101" y="10851"/>
                  <a:pt x="12803" y="10851"/>
                  <a:pt x="12675" y="10864"/>
                </a:cubicBezTo>
                <a:cubicBezTo>
                  <a:pt x="12650" y="10872"/>
                  <a:pt x="12626" y="10881"/>
                  <a:pt x="12601" y="10889"/>
                </a:cubicBezTo>
              </a:path>
              <a:path w="11312" h="4218">
                <a:moveTo>
                  <a:pt x="13395" y="10468"/>
                </a:moveTo>
                <a:cubicBezTo>
                  <a:pt x="13519" y="10461"/>
                  <a:pt x="13635" y="10455"/>
                  <a:pt x="13742" y="10393"/>
                </a:cubicBezTo>
              </a:path>
              <a:path w="11312" h="4218">
                <a:moveTo>
                  <a:pt x="13519" y="10220"/>
                </a:moveTo>
                <a:lnTo>
                  <a:pt x="13519" y="10220"/>
                </a:lnTo>
              </a:path>
              <a:path w="11312" h="4218">
                <a:moveTo>
                  <a:pt x="13618" y="10740"/>
                </a:moveTo>
                <a:lnTo>
                  <a:pt x="13618" y="10740"/>
                </a:lnTo>
              </a:path>
              <a:path w="11312" h="4218">
                <a:moveTo>
                  <a:pt x="13965" y="10269"/>
                </a:moveTo>
                <a:cubicBezTo>
                  <a:pt x="14159" y="10227"/>
                  <a:pt x="14105" y="10253"/>
                  <a:pt x="13990" y="10368"/>
                </a:cubicBezTo>
                <a:cubicBezTo>
                  <a:pt x="14092" y="10368"/>
                  <a:pt x="14143" y="10359"/>
                  <a:pt x="14213" y="10319"/>
                </a:cubicBezTo>
              </a:path>
              <a:path w="11312" h="4218">
                <a:moveTo>
                  <a:pt x="14015" y="10542"/>
                </a:moveTo>
                <a:cubicBezTo>
                  <a:pt x="14130" y="10513"/>
                  <a:pt x="14179" y="10502"/>
                  <a:pt x="14263" y="10492"/>
                </a:cubicBezTo>
              </a:path>
              <a:path w="11312" h="4218">
                <a:moveTo>
                  <a:pt x="14139" y="10716"/>
                </a:moveTo>
                <a:cubicBezTo>
                  <a:pt x="14274" y="10673"/>
                  <a:pt x="14464" y="10589"/>
                  <a:pt x="14288" y="10815"/>
                </a:cubicBezTo>
                <a:cubicBezTo>
                  <a:pt x="14183" y="10950"/>
                  <a:pt x="14160" y="10934"/>
                  <a:pt x="14362" y="10889"/>
                </a:cubicBezTo>
              </a:path>
              <a:path w="11312" h="4218">
                <a:moveTo>
                  <a:pt x="14660" y="10319"/>
                </a:moveTo>
                <a:cubicBezTo>
                  <a:pt x="14693" y="10302"/>
                  <a:pt x="14726" y="10286"/>
                  <a:pt x="14759" y="10269"/>
                </a:cubicBezTo>
              </a:path>
              <a:path w="11312" h="4218">
                <a:moveTo>
                  <a:pt x="14635" y="10542"/>
                </a:moveTo>
                <a:cubicBezTo>
                  <a:pt x="14685" y="10525"/>
                  <a:pt x="14734" y="10509"/>
                  <a:pt x="14784" y="10492"/>
                </a:cubicBezTo>
              </a:path>
              <a:path w="11312" h="4218">
                <a:moveTo>
                  <a:pt x="15354" y="10294"/>
                </a:moveTo>
                <a:cubicBezTo>
                  <a:pt x="15676" y="10315"/>
                  <a:pt x="15996" y="10276"/>
                  <a:pt x="16321" y="10269"/>
                </a:cubicBezTo>
                <a:cubicBezTo>
                  <a:pt x="16338" y="10269"/>
                  <a:pt x="16354" y="10269"/>
                  <a:pt x="16371" y="10269"/>
                </a:cubicBezTo>
              </a:path>
              <a:path w="11312" h="4218">
                <a:moveTo>
                  <a:pt x="15131" y="9624"/>
                </a:moveTo>
                <a:cubicBezTo>
                  <a:pt x="15336" y="9585"/>
                  <a:pt x="15550" y="9556"/>
                  <a:pt x="15751" y="9500"/>
                </a:cubicBezTo>
                <a:cubicBezTo>
                  <a:pt x="15868" y="9467"/>
                  <a:pt x="15643" y="9983"/>
                  <a:pt x="15602" y="10096"/>
                </a:cubicBezTo>
              </a:path>
              <a:path w="11312" h="4218">
                <a:moveTo>
                  <a:pt x="15478" y="10616"/>
                </a:moveTo>
                <a:cubicBezTo>
                  <a:pt x="15613" y="10583"/>
                  <a:pt x="15817" y="10670"/>
                  <a:pt x="15776" y="10864"/>
                </a:cubicBezTo>
                <a:cubicBezTo>
                  <a:pt x="15721" y="11129"/>
                  <a:pt x="15436" y="11239"/>
                  <a:pt x="15230" y="11187"/>
                </a:cubicBezTo>
                <a:cubicBezTo>
                  <a:pt x="15341" y="11058"/>
                  <a:pt x="15519" y="10950"/>
                  <a:pt x="15701" y="11088"/>
                </a:cubicBezTo>
                <a:cubicBezTo>
                  <a:pt x="15701" y="11104"/>
                  <a:pt x="15701" y="11121"/>
                  <a:pt x="15701" y="11137"/>
                </a:cubicBezTo>
              </a:path>
              <a:path w="11312" h="4218">
                <a:moveTo>
                  <a:pt x="16222" y="10592"/>
                </a:moveTo>
                <a:cubicBezTo>
                  <a:pt x="16047" y="10592"/>
                  <a:pt x="16007" y="10541"/>
                  <a:pt x="15974" y="10691"/>
                </a:cubicBezTo>
                <a:cubicBezTo>
                  <a:pt x="15966" y="10724"/>
                  <a:pt x="15957" y="10757"/>
                  <a:pt x="15949" y="10790"/>
                </a:cubicBezTo>
                <a:cubicBezTo>
                  <a:pt x="16065" y="10807"/>
                  <a:pt x="16192" y="10704"/>
                  <a:pt x="16346" y="10765"/>
                </a:cubicBezTo>
                <a:cubicBezTo>
                  <a:pt x="16656" y="10888"/>
                  <a:pt x="16254" y="11056"/>
                  <a:pt x="16148" y="11088"/>
                </a:cubicBezTo>
              </a:path>
              <a:path w="11312" h="4218">
                <a:moveTo>
                  <a:pt x="14610" y="11658"/>
                </a:moveTo>
                <a:cubicBezTo>
                  <a:pt x="14935" y="11699"/>
                  <a:pt x="15228" y="11653"/>
                  <a:pt x="15553" y="11609"/>
                </a:cubicBezTo>
                <a:cubicBezTo>
                  <a:pt x="16019" y="11546"/>
                  <a:pt x="16490" y="11464"/>
                  <a:pt x="16818" y="11088"/>
                </a:cubicBezTo>
                <a:cubicBezTo>
                  <a:pt x="17091" y="10775"/>
                  <a:pt x="17189" y="10189"/>
                  <a:pt x="17041" y="9798"/>
                </a:cubicBezTo>
                <a:cubicBezTo>
                  <a:pt x="16912" y="9456"/>
                  <a:pt x="16651" y="9285"/>
                  <a:pt x="16321" y="9178"/>
                </a:cubicBezTo>
                <a:cubicBezTo>
                  <a:pt x="16018" y="9080"/>
                  <a:pt x="15694" y="9043"/>
                  <a:pt x="15379" y="9103"/>
                </a:cubicBezTo>
                <a:cubicBezTo>
                  <a:pt x="15197" y="9138"/>
                  <a:pt x="14896" y="9239"/>
                  <a:pt x="14784" y="9401"/>
                </a:cubicBezTo>
                <a:cubicBezTo>
                  <a:pt x="14661" y="9578"/>
                  <a:pt x="14615" y="9761"/>
                  <a:pt x="14610" y="9971"/>
                </a:cubicBezTo>
                <a:cubicBezTo>
                  <a:pt x="14605" y="10198"/>
                  <a:pt x="14715" y="10377"/>
                  <a:pt x="14734" y="10592"/>
                </a:cubicBezTo>
                <a:cubicBezTo>
                  <a:pt x="14751" y="10777"/>
                  <a:pt x="14776" y="10954"/>
                  <a:pt x="14808" y="11137"/>
                </a:cubicBezTo>
                <a:cubicBezTo>
                  <a:pt x="14825" y="11235"/>
                  <a:pt x="14817" y="11337"/>
                  <a:pt x="14833" y="11435"/>
                </a:cubicBezTo>
                <a:cubicBezTo>
                  <a:pt x="14856" y="11570"/>
                  <a:pt x="14939" y="11607"/>
                  <a:pt x="15056" y="11633"/>
                </a:cubicBezTo>
                <a:cubicBezTo>
                  <a:pt x="15143" y="11652"/>
                  <a:pt x="15224" y="11623"/>
                  <a:pt x="15304" y="11609"/>
                </a:cubicBezTo>
              </a:path>
              <a:path w="11312" h="4218">
                <a:moveTo>
                  <a:pt x="18231" y="8582"/>
                </a:moveTo>
                <a:cubicBezTo>
                  <a:pt x="18146" y="8779"/>
                  <a:pt x="17897" y="9135"/>
                  <a:pt x="18058" y="9351"/>
                </a:cubicBezTo>
                <a:cubicBezTo>
                  <a:pt x="18412" y="9826"/>
                  <a:pt x="18799" y="9672"/>
                  <a:pt x="18455" y="10393"/>
                </a:cubicBezTo>
                <a:cubicBezTo>
                  <a:pt x="18155" y="11022"/>
                  <a:pt x="18071" y="10964"/>
                  <a:pt x="18355" y="11559"/>
                </a:cubicBezTo>
                <a:cubicBezTo>
                  <a:pt x="18565" y="12000"/>
                  <a:pt x="18062" y="12026"/>
                  <a:pt x="17959" y="12378"/>
                </a:cubicBezTo>
                <a:cubicBezTo>
                  <a:pt x="17911" y="12541"/>
                  <a:pt x="18241" y="12632"/>
                  <a:pt x="18331" y="12675"/>
                </a:cubicBezTo>
                <a:cubicBezTo>
                  <a:pt x="18298" y="12710"/>
                  <a:pt x="18256" y="12772"/>
                  <a:pt x="18231" y="1279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045200" y="2982960"/>
            <a:ext cx="1438560" cy="1170000"/>
          </a:xfrm>
          <a:custGeom>
            <a:avLst/>
            <a:gdLst/>
            <a:ahLst/>
            <a:rect l="l" t="t" r="r" b="b"/>
            <a:pathLst>
              <a:path w="3994" h="3250">
                <a:moveTo>
                  <a:pt x="20042" y="9897"/>
                </a:moveTo>
                <a:cubicBezTo>
                  <a:pt x="20149" y="9829"/>
                  <a:pt x="20208" y="9829"/>
                  <a:pt x="20340" y="9823"/>
                </a:cubicBezTo>
                <a:cubicBezTo>
                  <a:pt x="20395" y="10102"/>
                  <a:pt x="20132" y="10182"/>
                  <a:pt x="19918" y="10344"/>
                </a:cubicBezTo>
                <a:cubicBezTo>
                  <a:pt x="19902" y="10360"/>
                  <a:pt x="19885" y="10377"/>
                  <a:pt x="19869" y="10393"/>
                </a:cubicBezTo>
                <a:cubicBezTo>
                  <a:pt x="20087" y="10315"/>
                  <a:pt x="20262" y="10302"/>
                  <a:pt x="20489" y="10319"/>
                </a:cubicBezTo>
              </a:path>
              <a:path w="3994" h="3250">
                <a:moveTo>
                  <a:pt x="19695" y="10641"/>
                </a:moveTo>
                <a:cubicBezTo>
                  <a:pt x="20001" y="10599"/>
                  <a:pt x="20309" y="10538"/>
                  <a:pt x="20613" y="10567"/>
                </a:cubicBezTo>
              </a:path>
              <a:path w="3994" h="3250">
                <a:moveTo>
                  <a:pt x="19819" y="10864"/>
                </a:moveTo>
                <a:cubicBezTo>
                  <a:pt x="19736" y="11087"/>
                  <a:pt x="19650" y="11310"/>
                  <a:pt x="19571" y="11534"/>
                </a:cubicBezTo>
              </a:path>
              <a:path w="3994" h="3250">
                <a:moveTo>
                  <a:pt x="20191" y="11063"/>
                </a:moveTo>
                <a:cubicBezTo>
                  <a:pt x="20107" y="11266"/>
                  <a:pt x="20083" y="11272"/>
                  <a:pt x="20166" y="11460"/>
                </a:cubicBezTo>
                <a:cubicBezTo>
                  <a:pt x="20409" y="11348"/>
                  <a:pt x="20565" y="11275"/>
                  <a:pt x="20389" y="11038"/>
                </a:cubicBezTo>
              </a:path>
              <a:path w="3994" h="3250">
                <a:moveTo>
                  <a:pt x="19645" y="8979"/>
                </a:moveTo>
                <a:cubicBezTo>
                  <a:pt x="19629" y="8987"/>
                  <a:pt x="19612" y="8996"/>
                  <a:pt x="19596" y="9004"/>
                </a:cubicBezTo>
                <a:cubicBezTo>
                  <a:pt x="19643" y="8998"/>
                  <a:pt x="19801" y="8930"/>
                  <a:pt x="19670" y="8954"/>
                </a:cubicBezTo>
              </a:path>
              <a:path w="3994" h="3250">
                <a:moveTo>
                  <a:pt x="20141" y="8632"/>
                </a:moveTo>
                <a:cubicBezTo>
                  <a:pt x="20133" y="8607"/>
                  <a:pt x="20125" y="8583"/>
                  <a:pt x="20117" y="8558"/>
                </a:cubicBezTo>
                <a:cubicBezTo>
                  <a:pt x="20213" y="8517"/>
                  <a:pt x="20408" y="8509"/>
                  <a:pt x="20365" y="8706"/>
                </a:cubicBezTo>
                <a:cubicBezTo>
                  <a:pt x="20319" y="8918"/>
                  <a:pt x="20083" y="8921"/>
                  <a:pt x="19918" y="8930"/>
                </a:cubicBezTo>
                <a:cubicBezTo>
                  <a:pt x="20051" y="8797"/>
                  <a:pt x="20111" y="8773"/>
                  <a:pt x="20290" y="8855"/>
                </a:cubicBezTo>
                <a:cubicBezTo>
                  <a:pt x="20307" y="8863"/>
                  <a:pt x="20323" y="8872"/>
                  <a:pt x="20340" y="8880"/>
                </a:cubicBezTo>
              </a:path>
              <a:path w="3994" h="3250">
                <a:moveTo>
                  <a:pt x="20712" y="8533"/>
                </a:moveTo>
                <a:cubicBezTo>
                  <a:pt x="20615" y="8654"/>
                  <a:pt x="20591" y="8729"/>
                  <a:pt x="20613" y="8880"/>
                </a:cubicBezTo>
                <a:cubicBezTo>
                  <a:pt x="20752" y="8895"/>
                  <a:pt x="20937" y="8908"/>
                  <a:pt x="20960" y="8706"/>
                </a:cubicBezTo>
                <a:cubicBezTo>
                  <a:pt x="20976" y="8562"/>
                  <a:pt x="20864" y="8538"/>
                  <a:pt x="20762" y="8508"/>
                </a:cubicBezTo>
              </a:path>
              <a:path w="3994" h="3250">
                <a:moveTo>
                  <a:pt x="20811" y="8384"/>
                </a:moveTo>
                <a:cubicBezTo>
                  <a:pt x="20804" y="8390"/>
                  <a:pt x="20717" y="8947"/>
                  <a:pt x="20687" y="9128"/>
                </a:cubicBezTo>
                <a:cubicBezTo>
                  <a:pt x="20679" y="9178"/>
                  <a:pt x="20670" y="9227"/>
                  <a:pt x="20662" y="9277"/>
                </a:cubicBezTo>
                <a:cubicBezTo>
                  <a:pt x="20723" y="8983"/>
                  <a:pt x="20790" y="8680"/>
                  <a:pt x="20836" y="8384"/>
                </a:cubicBezTo>
                <a:cubicBezTo>
                  <a:pt x="20836" y="8351"/>
                  <a:pt x="20836" y="8318"/>
                  <a:pt x="20836" y="8285"/>
                </a:cubicBezTo>
              </a:path>
              <a:path w="3994" h="3250">
                <a:moveTo>
                  <a:pt x="20762" y="10294"/>
                </a:moveTo>
                <a:cubicBezTo>
                  <a:pt x="20820" y="10431"/>
                  <a:pt x="20900" y="10544"/>
                  <a:pt x="20985" y="10666"/>
                </a:cubicBezTo>
              </a:path>
              <a:path w="3994" h="3250">
                <a:moveTo>
                  <a:pt x="20960" y="10319"/>
                </a:moveTo>
                <a:cubicBezTo>
                  <a:pt x="20879" y="10444"/>
                  <a:pt x="20791" y="10566"/>
                  <a:pt x="20712" y="10691"/>
                </a:cubicBezTo>
              </a:path>
              <a:path w="3994" h="3250">
                <a:moveTo>
                  <a:pt x="21382" y="10418"/>
                </a:moveTo>
                <a:cubicBezTo>
                  <a:pt x="21402" y="10548"/>
                  <a:pt x="21405" y="10612"/>
                  <a:pt x="21382" y="10740"/>
                </a:cubicBezTo>
              </a:path>
              <a:path w="3994" h="3250">
                <a:moveTo>
                  <a:pt x="21654" y="10393"/>
                </a:moveTo>
                <a:cubicBezTo>
                  <a:pt x="21651" y="10419"/>
                  <a:pt x="21627" y="10755"/>
                  <a:pt x="21779" y="10592"/>
                </a:cubicBezTo>
                <a:cubicBezTo>
                  <a:pt x="21803" y="10519"/>
                  <a:pt x="21811" y="10495"/>
                  <a:pt x="21803" y="10443"/>
                </a:cubicBezTo>
                <a:cubicBezTo>
                  <a:pt x="21721" y="10426"/>
                  <a:pt x="21647" y="10437"/>
                  <a:pt x="21555" y="10443"/>
                </a:cubicBezTo>
              </a:path>
              <a:path w="3994" h="3250">
                <a:moveTo>
                  <a:pt x="21158" y="10319"/>
                </a:moveTo>
                <a:cubicBezTo>
                  <a:pt x="21312" y="10283"/>
                  <a:pt x="21447" y="10269"/>
                  <a:pt x="21605" y="10269"/>
                </a:cubicBezTo>
              </a:path>
              <a:path w="3994" h="3250">
                <a:moveTo>
                  <a:pt x="21208" y="10071"/>
                </a:moveTo>
                <a:cubicBezTo>
                  <a:pt x="21208" y="10147"/>
                  <a:pt x="21209" y="10173"/>
                  <a:pt x="21233" y="10220"/>
                </a:cubicBezTo>
              </a:path>
              <a:path w="3994" h="3250">
                <a:moveTo>
                  <a:pt x="21456" y="9897"/>
                </a:moveTo>
                <a:cubicBezTo>
                  <a:pt x="21443" y="9963"/>
                  <a:pt x="21369" y="10177"/>
                  <a:pt x="21530" y="10120"/>
                </a:cubicBezTo>
                <a:cubicBezTo>
                  <a:pt x="21650" y="10077"/>
                  <a:pt x="21611" y="10043"/>
                  <a:pt x="21555" y="9996"/>
                </a:cubicBezTo>
              </a:path>
              <a:path w="3994" h="3250">
                <a:moveTo>
                  <a:pt x="22200" y="10368"/>
                </a:moveTo>
                <a:cubicBezTo>
                  <a:pt x="22257" y="10340"/>
                  <a:pt x="22288" y="10327"/>
                  <a:pt x="22349" y="10319"/>
                </a:cubicBezTo>
              </a:path>
              <a:path w="3994" h="3250">
                <a:moveTo>
                  <a:pt x="22151" y="10492"/>
                </a:moveTo>
                <a:cubicBezTo>
                  <a:pt x="22201" y="10492"/>
                  <a:pt x="22235" y="10486"/>
                  <a:pt x="22275" y="10468"/>
                </a:cubicBezTo>
              </a:path>
              <a:path w="3994" h="3250">
                <a:moveTo>
                  <a:pt x="22597" y="9971"/>
                </a:moveTo>
                <a:cubicBezTo>
                  <a:pt x="22774" y="9986"/>
                  <a:pt x="22927" y="10024"/>
                  <a:pt x="22845" y="10244"/>
                </a:cubicBezTo>
                <a:cubicBezTo>
                  <a:pt x="22797" y="10373"/>
                  <a:pt x="22603" y="10404"/>
                  <a:pt x="22622" y="10269"/>
                </a:cubicBezTo>
                <a:cubicBezTo>
                  <a:pt x="22745" y="10276"/>
                  <a:pt x="22811" y="10290"/>
                  <a:pt x="22920" y="10344"/>
                </a:cubicBezTo>
              </a:path>
              <a:path w="3994" h="3250">
                <a:moveTo>
                  <a:pt x="23192" y="9947"/>
                </a:moveTo>
                <a:cubicBezTo>
                  <a:pt x="23129" y="10030"/>
                  <a:pt x="22945" y="10357"/>
                  <a:pt x="23242" y="10269"/>
                </a:cubicBezTo>
                <a:cubicBezTo>
                  <a:pt x="23443" y="10210"/>
                  <a:pt x="23400" y="10093"/>
                  <a:pt x="23242" y="10071"/>
                </a:cubicBezTo>
              </a:path>
              <a:path w="3994" h="3250">
                <a:moveTo>
                  <a:pt x="22473" y="10592"/>
                </a:moveTo>
                <a:cubicBezTo>
                  <a:pt x="22764" y="10512"/>
                  <a:pt x="23045" y="10404"/>
                  <a:pt x="23341" y="10344"/>
                </a:cubicBezTo>
                <a:cubicBezTo>
                  <a:pt x="23358" y="10344"/>
                  <a:pt x="23374" y="10344"/>
                  <a:pt x="23391" y="10344"/>
                </a:cubicBezTo>
              </a:path>
              <a:path w="3994" h="3250">
                <a:moveTo>
                  <a:pt x="22374" y="10790"/>
                </a:moveTo>
                <a:cubicBezTo>
                  <a:pt x="22361" y="10957"/>
                  <a:pt x="22332" y="11078"/>
                  <a:pt x="22275" y="11237"/>
                </a:cubicBezTo>
              </a:path>
              <a:path w="3994" h="3250">
                <a:moveTo>
                  <a:pt x="22845" y="10790"/>
                </a:moveTo>
                <a:cubicBezTo>
                  <a:pt x="22762" y="10914"/>
                  <a:pt x="22721" y="10972"/>
                  <a:pt x="22721" y="11112"/>
                </a:cubicBezTo>
                <a:cubicBezTo>
                  <a:pt x="22835" y="11112"/>
                  <a:pt x="23133" y="11042"/>
                  <a:pt x="22994" y="10840"/>
                </a:cubicBezTo>
                <a:cubicBezTo>
                  <a:pt x="22891" y="10788"/>
                  <a:pt x="22854" y="10771"/>
                  <a:pt x="22771" y="10790"/>
                </a:cubicBezTo>
              </a:path>
              <a:path w="3994" h="3250">
                <a:moveTo>
                  <a:pt x="23267" y="10716"/>
                </a:moveTo>
                <a:cubicBezTo>
                  <a:pt x="23196" y="10834"/>
                  <a:pt x="23171" y="10868"/>
                  <a:pt x="23192" y="10964"/>
                </a:cubicBezTo>
                <a:cubicBezTo>
                  <a:pt x="23303" y="11045"/>
                  <a:pt x="23564" y="11108"/>
                  <a:pt x="23564" y="10840"/>
                </a:cubicBezTo>
                <a:cubicBezTo>
                  <a:pt x="23509" y="10728"/>
                  <a:pt x="23480" y="10693"/>
                  <a:pt x="23366" y="10716"/>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661080" y="2098800"/>
            <a:ext cx="250920" cy="295200"/>
          </a:xfrm>
          <a:custGeom>
            <a:avLst/>
            <a:gdLst/>
            <a:ahLst/>
            <a:rect l="l" t="t" r="r" b="b"/>
            <a:pathLst>
              <a:path w="696" h="820">
                <a:moveTo>
                  <a:pt x="18628" y="5978"/>
                </a:moveTo>
                <a:cubicBezTo>
                  <a:pt x="18699" y="5820"/>
                  <a:pt x="18945" y="5758"/>
                  <a:pt x="19100" y="5904"/>
                </a:cubicBezTo>
                <a:cubicBezTo>
                  <a:pt x="19431" y="6215"/>
                  <a:pt x="18952" y="6585"/>
                  <a:pt x="18678" y="6648"/>
                </a:cubicBezTo>
                <a:cubicBezTo>
                  <a:pt x="18620" y="6640"/>
                  <a:pt x="18562" y="6631"/>
                  <a:pt x="18504" y="6623"/>
                </a:cubicBezTo>
                <a:cubicBezTo>
                  <a:pt x="18573" y="6417"/>
                  <a:pt x="18747" y="6227"/>
                  <a:pt x="19000" y="6375"/>
                </a:cubicBezTo>
                <a:cubicBezTo>
                  <a:pt x="19071" y="6468"/>
                  <a:pt x="19094" y="6494"/>
                  <a:pt x="19100" y="657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545160" y="1901880"/>
            <a:ext cx="884520" cy="615960"/>
          </a:xfrm>
          <a:custGeom>
            <a:avLst/>
            <a:gdLst/>
            <a:ahLst/>
            <a:rect l="l" t="t" r="r" b="b"/>
            <a:pathLst>
              <a:path w="2457" h="1713">
                <a:moveTo>
                  <a:pt x="18479" y="6995"/>
                </a:moveTo>
                <a:cubicBezTo>
                  <a:pt x="18427" y="6689"/>
                  <a:pt x="18382" y="6372"/>
                  <a:pt x="18281" y="6077"/>
                </a:cubicBezTo>
                <a:cubicBezTo>
                  <a:pt x="18250" y="5987"/>
                  <a:pt x="18229" y="5949"/>
                  <a:pt x="18182" y="5879"/>
                </a:cubicBezTo>
                <a:cubicBezTo>
                  <a:pt x="18428" y="5666"/>
                  <a:pt x="18877" y="5581"/>
                  <a:pt x="19199" y="5507"/>
                </a:cubicBezTo>
                <a:cubicBezTo>
                  <a:pt x="19676" y="5397"/>
                  <a:pt x="20154" y="5340"/>
                  <a:pt x="20638" y="528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188040" y="2170080"/>
            <a:ext cx="241200" cy="330120"/>
          </a:xfrm>
          <a:custGeom>
            <a:avLst/>
            <a:gdLst/>
            <a:ahLst/>
            <a:rect l="l" t="t" r="r" b="b"/>
            <a:pathLst>
              <a:path w="670" h="918">
                <a:moveTo>
                  <a:pt x="17661" y="6028"/>
                </a:moveTo>
                <a:cubicBezTo>
                  <a:pt x="17532" y="6044"/>
                  <a:pt x="17384" y="6075"/>
                  <a:pt x="17264" y="6127"/>
                </a:cubicBezTo>
                <a:cubicBezTo>
                  <a:pt x="17224" y="6145"/>
                  <a:pt x="17264" y="6460"/>
                  <a:pt x="17264" y="6524"/>
                </a:cubicBezTo>
                <a:cubicBezTo>
                  <a:pt x="17417" y="6478"/>
                  <a:pt x="17550" y="6346"/>
                  <a:pt x="17735" y="6424"/>
                </a:cubicBezTo>
                <a:cubicBezTo>
                  <a:pt x="18108" y="6582"/>
                  <a:pt x="17680" y="6898"/>
                  <a:pt x="17487" y="6945"/>
                </a:cubicBezTo>
                <a:cubicBezTo>
                  <a:pt x="17322" y="6945"/>
                  <a:pt x="17289" y="6945"/>
                  <a:pt x="17190" y="6945"/>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983280" y="2330280"/>
            <a:ext cx="17640" cy="19080"/>
          </a:xfrm>
          <a:custGeom>
            <a:avLst/>
            <a:gdLst/>
            <a:ahLst/>
            <a:rect l="l" t="t" r="r" b="b"/>
            <a:pathLst>
              <a:path w="51" h="51">
                <a:moveTo>
                  <a:pt x="19447" y="6499"/>
                </a:moveTo>
                <a:cubicBezTo>
                  <a:pt x="19398" y="6524"/>
                  <a:pt x="19478" y="6506"/>
                  <a:pt x="19397" y="6474"/>
                </a:cubicBezTo>
              </a:path>
            </a:pathLst>
          </a:custGeom>
          <a:noFill/>
          <a:ln cap="rnd" w="34920">
            <a:solidFill>
              <a:srgbClr val="ff00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 name=""/>
          <p:cNvSpPr/>
          <p:nvPr/>
        </p:nvSpPr>
        <p:spPr>
          <a:xfrm>
            <a:off x="6867360" y="1857240"/>
            <a:ext cx="54000" cy="63720"/>
          </a:xfrm>
          <a:custGeom>
            <a:avLst/>
            <a:gdLst/>
            <a:ahLst/>
            <a:rect l="l" t="t" r="r" b="b"/>
            <a:pathLst>
              <a:path w="150" h="175">
                <a:moveTo>
                  <a:pt x="19199" y="5159"/>
                </a:moveTo>
                <a:cubicBezTo>
                  <a:pt x="19142" y="5187"/>
                  <a:pt x="19123" y="5203"/>
                  <a:pt x="19124" y="5259"/>
                </a:cubicBezTo>
                <a:cubicBezTo>
                  <a:pt x="19219" y="5398"/>
                  <a:pt x="19237" y="5165"/>
                  <a:pt x="19224" y="5159"/>
                </a:cubicBezTo>
                <a:cubicBezTo>
                  <a:pt x="19018" y="5056"/>
                  <a:pt x="19094" y="5515"/>
                  <a:pt x="19199" y="5259"/>
                </a:cubicBezTo>
                <a:cubicBezTo>
                  <a:pt x="19263" y="5103"/>
                  <a:pt x="19123" y="5231"/>
                  <a:pt x="19100" y="5259"/>
                </a:cubicBezTo>
              </a:path>
            </a:pathLst>
          </a:custGeom>
          <a:noFill/>
          <a:ln cap="rnd" w="34920">
            <a:solidFill>
              <a:srgbClr val="ff00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4" name=""/>
          <p:cNvSpPr/>
          <p:nvPr/>
        </p:nvSpPr>
        <p:spPr>
          <a:xfrm>
            <a:off x="7054920" y="2071800"/>
            <a:ext cx="187200" cy="285480"/>
          </a:xfrm>
          <a:custGeom>
            <a:avLst/>
            <a:gdLst/>
            <a:ahLst/>
            <a:rect l="l" t="t" r="r" b="b"/>
            <a:pathLst>
              <a:path w="522" h="794">
                <a:moveTo>
                  <a:pt x="19893" y="5804"/>
                </a:moveTo>
                <a:cubicBezTo>
                  <a:pt x="19754" y="5772"/>
                  <a:pt x="19737" y="5762"/>
                  <a:pt x="19670" y="5904"/>
                </a:cubicBezTo>
                <a:cubicBezTo>
                  <a:pt x="19577" y="6102"/>
                  <a:pt x="19569" y="6292"/>
                  <a:pt x="19695" y="6474"/>
                </a:cubicBezTo>
                <a:cubicBezTo>
                  <a:pt x="19809" y="6639"/>
                  <a:pt x="20000" y="6480"/>
                  <a:pt x="20067" y="6350"/>
                </a:cubicBezTo>
                <a:cubicBezTo>
                  <a:pt x="20148" y="6191"/>
                  <a:pt x="20140" y="5969"/>
                  <a:pt x="20017" y="5829"/>
                </a:cubicBezTo>
                <a:cubicBezTo>
                  <a:pt x="19920" y="5719"/>
                  <a:pt x="19880" y="5767"/>
                  <a:pt x="19769" y="580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966000" y="1704960"/>
            <a:ext cx="133200" cy="125280"/>
          </a:xfrm>
          <a:custGeom>
            <a:avLst/>
            <a:gdLst/>
            <a:ahLst/>
            <a:rect l="l" t="t" r="r" b="b"/>
            <a:pathLst>
              <a:path w="373" h="348">
                <a:moveTo>
                  <a:pt x="19372" y="4738"/>
                </a:moveTo>
                <a:cubicBezTo>
                  <a:pt x="19474" y="4788"/>
                  <a:pt x="19378" y="4940"/>
                  <a:pt x="19348" y="5060"/>
                </a:cubicBezTo>
                <a:cubicBezTo>
                  <a:pt x="19504" y="5070"/>
                  <a:pt x="19577" y="5032"/>
                  <a:pt x="19720" y="4961"/>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054920" y="1589040"/>
            <a:ext cx="44280" cy="312840"/>
          </a:xfrm>
          <a:custGeom>
            <a:avLst/>
            <a:gdLst/>
            <a:ahLst/>
            <a:rect l="l" t="t" r="r" b="b"/>
            <a:pathLst>
              <a:path w="125" h="869">
                <a:moveTo>
                  <a:pt x="19596" y="4415"/>
                </a:moveTo>
                <a:cubicBezTo>
                  <a:pt x="19616" y="4671"/>
                  <a:pt x="19651" y="4931"/>
                  <a:pt x="19695" y="5184"/>
                </a:cubicBezTo>
                <a:cubicBezTo>
                  <a:pt x="19703" y="5217"/>
                  <a:pt x="19712" y="5250"/>
                  <a:pt x="19720" y="528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813720" y="2428920"/>
            <a:ext cx="214200" cy="187200"/>
          </a:xfrm>
          <a:custGeom>
            <a:avLst/>
            <a:gdLst/>
            <a:ahLst/>
            <a:rect l="l" t="t" r="r" b="b"/>
            <a:pathLst>
              <a:path w="596" h="522">
                <a:moveTo>
                  <a:pt x="18951" y="6846"/>
                </a:moveTo>
                <a:cubicBezTo>
                  <a:pt x="19167" y="6701"/>
                  <a:pt x="19224" y="6757"/>
                  <a:pt x="19397" y="6921"/>
                </a:cubicBezTo>
                <a:cubicBezTo>
                  <a:pt x="19297" y="7176"/>
                  <a:pt x="19207" y="7243"/>
                  <a:pt x="18926" y="7243"/>
                </a:cubicBezTo>
                <a:cubicBezTo>
                  <a:pt x="18986" y="7062"/>
                  <a:pt x="19173" y="7035"/>
                  <a:pt x="19372" y="7069"/>
                </a:cubicBezTo>
                <a:cubicBezTo>
                  <a:pt x="19472" y="7109"/>
                  <a:pt x="19502" y="7103"/>
                  <a:pt x="19521" y="716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116840" y="2419200"/>
            <a:ext cx="162000" cy="144720"/>
          </a:xfrm>
          <a:custGeom>
            <a:avLst/>
            <a:gdLst/>
            <a:ahLst/>
            <a:rect l="l" t="t" r="r" b="b"/>
            <a:pathLst>
              <a:path w="448" h="398">
                <a:moveTo>
                  <a:pt x="19893" y="6722"/>
                </a:moveTo>
                <a:cubicBezTo>
                  <a:pt x="19833" y="6803"/>
                  <a:pt x="19658" y="7046"/>
                  <a:pt x="19844" y="7119"/>
                </a:cubicBezTo>
                <a:cubicBezTo>
                  <a:pt x="19965" y="7166"/>
                  <a:pt x="20354" y="6901"/>
                  <a:pt x="20191" y="6772"/>
                </a:cubicBezTo>
                <a:cubicBezTo>
                  <a:pt x="20141" y="6764"/>
                  <a:pt x="20092" y="6755"/>
                  <a:pt x="20042" y="6747"/>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572160" y="2608200"/>
            <a:ext cx="142920" cy="54000"/>
          </a:xfrm>
          <a:custGeom>
            <a:avLst/>
            <a:gdLst/>
            <a:ahLst/>
            <a:rect l="l" t="t" r="r" b="b"/>
            <a:pathLst>
              <a:path w="398" h="150">
                <a:moveTo>
                  <a:pt x="18256" y="7392"/>
                </a:moveTo>
                <a:cubicBezTo>
                  <a:pt x="18432" y="7303"/>
                  <a:pt x="18511" y="7269"/>
                  <a:pt x="18653" y="7243"/>
                </a:cubicBezTo>
              </a:path>
            </a:pathLst>
          </a:custGeom>
          <a:noFill/>
          <a:ln cap="rnd" w="34920">
            <a:solidFill>
              <a:srgbClr val="ff00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 name=""/>
          <p:cNvSpPr/>
          <p:nvPr/>
        </p:nvSpPr>
        <p:spPr>
          <a:xfrm>
            <a:off x="6616800" y="2652840"/>
            <a:ext cx="687240" cy="133200"/>
          </a:xfrm>
          <a:custGeom>
            <a:avLst/>
            <a:gdLst/>
            <a:ahLst/>
            <a:rect l="l" t="t" r="r" b="b"/>
            <a:pathLst>
              <a:path w="1911" h="373">
                <a:moveTo>
                  <a:pt x="18380" y="7739"/>
                </a:moveTo>
                <a:cubicBezTo>
                  <a:pt x="19000" y="7563"/>
                  <a:pt x="19597" y="7428"/>
                  <a:pt x="20241" y="7367"/>
                </a:cubicBezTo>
                <a:cubicBezTo>
                  <a:pt x="20257" y="7367"/>
                  <a:pt x="20274" y="7367"/>
                  <a:pt x="20290" y="7367"/>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072200" y="2776680"/>
            <a:ext cx="223920" cy="161640"/>
          </a:xfrm>
          <a:custGeom>
            <a:avLst/>
            <a:gdLst/>
            <a:ahLst/>
            <a:rect l="l" t="t" r="r" b="b"/>
            <a:pathLst>
              <a:path w="621" h="448">
                <a:moveTo>
                  <a:pt x="19769" y="7739"/>
                </a:moveTo>
                <a:cubicBezTo>
                  <a:pt x="19675" y="7876"/>
                  <a:pt x="19664" y="7950"/>
                  <a:pt x="19645" y="8111"/>
                </a:cubicBezTo>
                <a:cubicBezTo>
                  <a:pt x="19735" y="8122"/>
                  <a:pt x="20458" y="8024"/>
                  <a:pt x="20265" y="7764"/>
                </a:cubicBezTo>
                <a:cubicBezTo>
                  <a:pt x="20199" y="7747"/>
                  <a:pt x="20133" y="7731"/>
                  <a:pt x="20067" y="771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680160" y="1374840"/>
            <a:ext cx="830160" cy="679320"/>
          </a:xfrm>
          <a:custGeom>
            <a:avLst/>
            <a:gdLst/>
            <a:ahLst/>
            <a:rect l="l" t="t" r="r" b="b"/>
            <a:pathLst>
              <a:path w="2308" h="1886">
                <a:moveTo>
                  <a:pt x="18554" y="5308"/>
                </a:moveTo>
                <a:cubicBezTo>
                  <a:pt x="18804" y="5613"/>
                  <a:pt x="19062" y="5749"/>
                  <a:pt x="19472" y="5705"/>
                </a:cubicBezTo>
                <a:cubicBezTo>
                  <a:pt x="19868" y="5662"/>
                  <a:pt x="20353" y="5473"/>
                  <a:pt x="20638" y="5184"/>
                </a:cubicBezTo>
                <a:cubicBezTo>
                  <a:pt x="20880" y="4938"/>
                  <a:pt x="20964" y="4446"/>
                  <a:pt x="20737" y="4167"/>
                </a:cubicBezTo>
                <a:cubicBezTo>
                  <a:pt x="20506" y="3883"/>
                  <a:pt x="20055" y="3841"/>
                  <a:pt x="19720" y="3820"/>
                </a:cubicBezTo>
                <a:cubicBezTo>
                  <a:pt x="19377" y="3799"/>
                  <a:pt x="19131" y="3884"/>
                  <a:pt x="18901" y="4142"/>
                </a:cubicBezTo>
                <a:cubicBezTo>
                  <a:pt x="18646" y="4427"/>
                  <a:pt x="18538" y="4729"/>
                  <a:pt x="18554" y="5110"/>
                </a:cubicBezTo>
                <a:cubicBezTo>
                  <a:pt x="18563" y="5325"/>
                  <a:pt x="18621" y="5344"/>
                  <a:pt x="18777" y="5457"/>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ive :  </a:t>
            </a:r>
            <a:r>
              <a:rPr b="0" i="1" lang="en-US" sz="2000" spc="-1" strike="noStrike">
                <a:solidFill>
                  <a:srgbClr val="000000"/>
                </a:solidFill>
                <a:latin typeface="Times New Roman"/>
              </a:rPr>
              <a:t>to write fractions as decimals and percents, and vice versa.</a:t>
            </a:r>
            <a:endParaRPr b="0" lang="en-US" sz="2000" spc="-1" strike="noStrike">
              <a:solidFill>
                <a:srgbClr val="000000"/>
              </a:solidFill>
              <a:latin typeface="Times New Roman"/>
            </a:endParaRPr>
          </a:p>
        </p:txBody>
      </p:sp>
      <p:sp>
        <p:nvSpPr>
          <p:cNvPr id="104" name="PlaceHolder 2"/>
          <p:cNvSpPr>
            <a:spLocks noGrp="1"/>
          </p:cNvSpPr>
          <p:nvPr>
            <p:ph type="subTitle"/>
          </p:nvPr>
        </p:nvSpPr>
        <p:spPr>
          <a:xfrm>
            <a:off x="533520" y="1371240"/>
            <a:ext cx="7238880" cy="4267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fractions as a percen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a percent is parts of 100, fractions with 100 as a denominator can be easily converted      </a:t>
            </a:r>
            <a:endParaRPr b="0" lang="en-US" sz="32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2895480" y="3073320"/>
                <a:ext cx="1371600" cy="711360"/>
              </a:xfrm>
              <a:prstGeom prst="rect">
                <a:avLst/>
              </a:prstGeom>
            </p:spPr>
            <p:txBody>
              <a:bodyPr/>
              <a:p>
                <a14:m>
                  <m:oMath xmlns:m="http://schemas.openxmlformats.org/officeDocument/2006/math">
                    <m:f>
                      <m:num>
                        <m:r>
                          <m:rPr>
                            <m:lit/>
                            <m:nor/>
                          </m:rPr>
                          <m:t xml:space="preserve">13</m:t>
                        </m:r>
                      </m:num>
                      <m:den>
                        <m:r>
                          <m:rPr>
                            <m:lit/>
                            <m:nor/>
                          </m:rPr>
                          <m:t xml:space="preserve">100</m:t>
                        </m:r>
                      </m:den>
                    </m:f>
                    <m:r>
                      <m:t xml:space="preserve">=</m:t>
                    </m:r>
                    <m:r>
                      <m:rPr>
                        <m:lit/>
                        <m:nor/>
                      </m:rPr>
                      <m:t xml:space="preserve">13</m:t>
                    </m:r>
                    <m:r>
                      <m:rPr>
                        <m:lit/>
                        <m:nor/>
                      </m:rPr>
                      <m:t xml:space="preserve">%</m:t>
                    </m:r>
                  </m:oMath>
                </a14:m>
              </a:p>
            </p:txBody>
          </p:sp>
        </mc:Choice>
        <mc:Fallback/>
      </mc:AlternateContent>
      <p:sp>
        <p:nvSpPr>
          <p:cNvPr id="106" name=""/>
          <p:cNvSpPr/>
          <p:nvPr/>
        </p:nvSpPr>
        <p:spPr>
          <a:xfrm>
            <a:off x="1143000" y="1397160"/>
            <a:ext cx="685800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98400" y="43210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8" name=""/>
          <p:cNvSpPr/>
          <p:nvPr/>
        </p:nvSpPr>
        <p:spPr>
          <a:xfrm>
            <a:off x="3751200" y="3554280"/>
            <a:ext cx="463680" cy="61920"/>
          </a:xfrm>
          <a:custGeom>
            <a:avLst/>
            <a:gdLst/>
            <a:ahLst/>
            <a:rect l="l" t="t" r="r" b="b"/>
            <a:pathLst>
              <a:path w="1291" h="175">
                <a:moveTo>
                  <a:pt x="10443" y="10046"/>
                </a:moveTo>
                <a:cubicBezTo>
                  <a:pt x="10476" y="10001"/>
                  <a:pt x="10736" y="9978"/>
                  <a:pt x="10864" y="9971"/>
                </a:cubicBezTo>
                <a:cubicBezTo>
                  <a:pt x="11049" y="9962"/>
                  <a:pt x="11206" y="9974"/>
                  <a:pt x="11385" y="9922"/>
                </a:cubicBezTo>
                <a:cubicBezTo>
                  <a:pt x="11463" y="9899"/>
                  <a:pt x="11553" y="9877"/>
                  <a:pt x="11633" y="9872"/>
                </a:cubicBezTo>
                <a:cubicBezTo>
                  <a:pt x="11675" y="9872"/>
                  <a:pt x="11683" y="9872"/>
                  <a:pt x="11708" y="9872"/>
                </a:cubicBezTo>
              </a:path>
            </a:pathLst>
          </a:custGeom>
          <a:noFill/>
          <a:ln cap="rnd" w="34920">
            <a:solidFill>
              <a:srgbClr val="ff00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9" name=""/>
          <p:cNvSpPr/>
          <p:nvPr/>
        </p:nvSpPr>
        <p:spPr>
          <a:xfrm>
            <a:off x="2089080" y="4313160"/>
            <a:ext cx="689040" cy="411120"/>
          </a:xfrm>
          <a:custGeom>
            <a:avLst/>
            <a:gdLst/>
            <a:ahLst/>
            <a:rect l="l" t="t" r="r" b="b"/>
            <a:pathLst>
              <a:path w="1911" h="1142">
                <a:moveTo>
                  <a:pt x="6548" y="12030"/>
                </a:moveTo>
                <a:cubicBezTo>
                  <a:pt x="6497" y="12215"/>
                  <a:pt x="6450" y="12304"/>
                  <a:pt x="6325" y="12452"/>
                </a:cubicBezTo>
                <a:cubicBezTo>
                  <a:pt x="6459" y="12391"/>
                  <a:pt x="6565" y="12452"/>
                  <a:pt x="6722" y="12477"/>
                </a:cubicBezTo>
                <a:cubicBezTo>
                  <a:pt x="6739" y="12477"/>
                  <a:pt x="6755" y="12477"/>
                  <a:pt x="6772" y="12477"/>
                </a:cubicBezTo>
              </a:path>
              <a:path w="1911" h="1142">
                <a:moveTo>
                  <a:pt x="6697" y="11981"/>
                </a:moveTo>
                <a:cubicBezTo>
                  <a:pt x="6697" y="12237"/>
                  <a:pt x="6697" y="12494"/>
                  <a:pt x="6697" y="12750"/>
                </a:cubicBezTo>
              </a:path>
              <a:path w="1911" h="1142">
                <a:moveTo>
                  <a:pt x="6921" y="12105"/>
                </a:moveTo>
                <a:cubicBezTo>
                  <a:pt x="7079" y="12086"/>
                  <a:pt x="7233" y="12041"/>
                  <a:pt x="7392" y="12005"/>
                </a:cubicBezTo>
                <a:cubicBezTo>
                  <a:pt x="7331" y="12258"/>
                  <a:pt x="7247" y="12495"/>
                  <a:pt x="7218" y="12750"/>
                </a:cubicBezTo>
              </a:path>
              <a:path w="1911" h="1142">
                <a:moveTo>
                  <a:pt x="5804" y="13122"/>
                </a:moveTo>
                <a:cubicBezTo>
                  <a:pt x="6268" y="13041"/>
                  <a:pt x="6727" y="12964"/>
                  <a:pt x="7193" y="12898"/>
                </a:cubicBezTo>
                <a:cubicBezTo>
                  <a:pt x="7423" y="12865"/>
                  <a:pt x="7507" y="12860"/>
                  <a:pt x="7714" y="1284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09760" y="3759120"/>
            <a:ext cx="1009440" cy="1251000"/>
          </a:xfrm>
          <a:custGeom>
            <a:avLst/>
            <a:gdLst/>
            <a:ahLst/>
            <a:rect l="l" t="t" r="r" b="b"/>
            <a:pathLst>
              <a:path w="2804" h="3473">
                <a:moveTo>
                  <a:pt x="1786" y="12179"/>
                </a:moveTo>
                <a:cubicBezTo>
                  <a:pt x="2116" y="12150"/>
                  <a:pt x="2446" y="12154"/>
                  <a:pt x="2778" y="12154"/>
                </a:cubicBezTo>
                <a:cubicBezTo>
                  <a:pt x="2803" y="12154"/>
                  <a:pt x="2828" y="12154"/>
                  <a:pt x="2853" y="12154"/>
                </a:cubicBezTo>
              </a:path>
              <a:path w="2804" h="3473">
                <a:moveTo>
                  <a:pt x="2034" y="11733"/>
                </a:moveTo>
                <a:cubicBezTo>
                  <a:pt x="2066" y="11668"/>
                  <a:pt x="2086" y="11640"/>
                  <a:pt x="2133" y="11609"/>
                </a:cubicBezTo>
                <a:cubicBezTo>
                  <a:pt x="2332" y="11723"/>
                  <a:pt x="2297" y="11859"/>
                  <a:pt x="2108" y="12005"/>
                </a:cubicBezTo>
                <a:cubicBezTo>
                  <a:pt x="1962" y="12117"/>
                  <a:pt x="1915" y="12108"/>
                  <a:pt x="1836" y="12005"/>
                </a:cubicBezTo>
                <a:cubicBezTo>
                  <a:pt x="1914" y="11902"/>
                  <a:pt x="2071" y="11965"/>
                  <a:pt x="2183" y="12005"/>
                </a:cubicBezTo>
                <a:cubicBezTo>
                  <a:pt x="2199" y="12013"/>
                  <a:pt x="2216" y="12022"/>
                  <a:pt x="2232" y="12030"/>
                </a:cubicBezTo>
              </a:path>
              <a:path w="2804" h="3473">
                <a:moveTo>
                  <a:pt x="2381" y="11658"/>
                </a:moveTo>
                <a:cubicBezTo>
                  <a:pt x="2515" y="11599"/>
                  <a:pt x="2609" y="11573"/>
                  <a:pt x="2753" y="11559"/>
                </a:cubicBezTo>
                <a:cubicBezTo>
                  <a:pt x="2740" y="11726"/>
                  <a:pt x="2712" y="11846"/>
                  <a:pt x="2654" y="12005"/>
                </a:cubicBezTo>
              </a:path>
              <a:path w="2804" h="3473">
                <a:moveTo>
                  <a:pt x="2034" y="12502"/>
                </a:moveTo>
                <a:cubicBezTo>
                  <a:pt x="2153" y="12478"/>
                  <a:pt x="2189" y="12467"/>
                  <a:pt x="2257" y="12526"/>
                </a:cubicBezTo>
                <a:cubicBezTo>
                  <a:pt x="2273" y="12737"/>
                  <a:pt x="2142" y="12811"/>
                  <a:pt x="1935" y="12874"/>
                </a:cubicBezTo>
                <a:cubicBezTo>
                  <a:pt x="1910" y="12874"/>
                  <a:pt x="1885" y="12874"/>
                  <a:pt x="1860" y="12874"/>
                </a:cubicBezTo>
                <a:cubicBezTo>
                  <a:pt x="1944" y="12734"/>
                  <a:pt x="2052" y="12754"/>
                  <a:pt x="2208" y="12824"/>
                </a:cubicBezTo>
                <a:cubicBezTo>
                  <a:pt x="2241" y="12859"/>
                  <a:pt x="2263" y="12867"/>
                  <a:pt x="2307" y="12849"/>
                </a:cubicBezTo>
              </a:path>
              <a:path w="2804" h="3473">
                <a:moveTo>
                  <a:pt x="2654" y="12526"/>
                </a:moveTo>
                <a:cubicBezTo>
                  <a:pt x="2535" y="12499"/>
                  <a:pt x="2515" y="12501"/>
                  <a:pt x="2406" y="12551"/>
                </a:cubicBezTo>
                <a:cubicBezTo>
                  <a:pt x="2469" y="12636"/>
                  <a:pt x="2628" y="12658"/>
                  <a:pt x="2654" y="12750"/>
                </a:cubicBezTo>
                <a:cubicBezTo>
                  <a:pt x="2654" y="12842"/>
                  <a:pt x="2661" y="12873"/>
                  <a:pt x="2580" y="12874"/>
                </a:cubicBezTo>
                <a:cubicBezTo>
                  <a:pt x="2461" y="12854"/>
                  <a:pt x="2557" y="12749"/>
                  <a:pt x="2604" y="12675"/>
                </a:cubicBezTo>
                <a:cubicBezTo>
                  <a:pt x="2652" y="12599"/>
                  <a:pt x="2654" y="12604"/>
                  <a:pt x="2654" y="12526"/>
                </a:cubicBezTo>
              </a:path>
              <a:path w="2804" h="3473">
                <a:moveTo>
                  <a:pt x="2034" y="13667"/>
                </a:moveTo>
                <a:cubicBezTo>
                  <a:pt x="2240" y="13734"/>
                  <a:pt x="2367" y="13759"/>
                  <a:pt x="2604" y="13717"/>
                </a:cubicBezTo>
                <a:cubicBezTo>
                  <a:pt x="2928" y="13660"/>
                  <a:pt x="3256" y="13536"/>
                  <a:pt x="3522" y="13345"/>
                </a:cubicBezTo>
                <a:cubicBezTo>
                  <a:pt x="3748" y="13182"/>
                  <a:pt x="3934" y="12931"/>
                  <a:pt x="4043" y="12675"/>
                </a:cubicBezTo>
                <a:cubicBezTo>
                  <a:pt x="4125" y="12484"/>
                  <a:pt x="4201" y="12238"/>
                  <a:pt x="4217" y="12030"/>
                </a:cubicBezTo>
                <a:cubicBezTo>
                  <a:pt x="4238" y="11758"/>
                  <a:pt x="4181" y="11490"/>
                  <a:pt x="4093" y="11237"/>
                </a:cubicBezTo>
                <a:cubicBezTo>
                  <a:pt x="3998" y="10963"/>
                  <a:pt x="3842" y="10683"/>
                  <a:pt x="3572" y="10542"/>
                </a:cubicBezTo>
                <a:cubicBezTo>
                  <a:pt x="3374" y="10439"/>
                  <a:pt x="3114" y="10445"/>
                  <a:pt x="2902" y="10468"/>
                </a:cubicBezTo>
                <a:cubicBezTo>
                  <a:pt x="2644" y="10496"/>
                  <a:pt x="2401" y="10565"/>
                  <a:pt x="2158" y="10641"/>
                </a:cubicBezTo>
                <a:cubicBezTo>
                  <a:pt x="1936" y="10710"/>
                  <a:pt x="1725" y="10817"/>
                  <a:pt x="1588" y="11013"/>
                </a:cubicBezTo>
                <a:cubicBezTo>
                  <a:pt x="1491" y="11151"/>
                  <a:pt x="1492" y="11396"/>
                  <a:pt x="1488" y="11559"/>
                </a:cubicBezTo>
                <a:cubicBezTo>
                  <a:pt x="1484" y="11734"/>
                  <a:pt x="1450" y="11906"/>
                  <a:pt x="1439" y="12080"/>
                </a:cubicBezTo>
                <a:cubicBezTo>
                  <a:pt x="1431" y="12211"/>
                  <a:pt x="1400" y="12345"/>
                  <a:pt x="1414" y="12477"/>
                </a:cubicBezTo>
                <a:cubicBezTo>
                  <a:pt x="1430" y="12629"/>
                  <a:pt x="1425" y="12748"/>
                  <a:pt x="1414" y="12898"/>
                </a:cubicBezTo>
                <a:cubicBezTo>
                  <a:pt x="1402" y="13066"/>
                  <a:pt x="1415" y="13231"/>
                  <a:pt x="1439" y="13395"/>
                </a:cubicBezTo>
                <a:cubicBezTo>
                  <a:pt x="1456" y="13513"/>
                  <a:pt x="1482" y="13589"/>
                  <a:pt x="1538" y="13692"/>
                </a:cubicBezTo>
                <a:cubicBezTo>
                  <a:pt x="1603" y="13811"/>
                  <a:pt x="1604" y="13846"/>
                  <a:pt x="1736" y="13891"/>
                </a:cubicBezTo>
                <a:cubicBezTo>
                  <a:pt x="1877" y="13938"/>
                  <a:pt x="2037" y="13915"/>
                  <a:pt x="2183" y="13915"/>
                </a:cubicBezTo>
                <a:cubicBezTo>
                  <a:pt x="2199" y="13915"/>
                  <a:pt x="2216" y="13915"/>
                  <a:pt x="2232" y="13915"/>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197080" y="4295880"/>
            <a:ext cx="1973160" cy="758880"/>
          </a:xfrm>
          <a:custGeom>
            <a:avLst/>
            <a:gdLst/>
            <a:ahLst/>
            <a:rect l="l" t="t" r="r" b="b"/>
            <a:pathLst>
              <a:path w="5483" h="2109">
                <a:moveTo>
                  <a:pt x="6350" y="13345"/>
                </a:moveTo>
                <a:cubicBezTo>
                  <a:pt x="6315" y="13603"/>
                  <a:pt x="6208" y="13804"/>
                  <a:pt x="6102" y="14039"/>
                </a:cubicBezTo>
              </a:path>
              <a:path w="5483" h="2109">
                <a:moveTo>
                  <a:pt x="6747" y="13370"/>
                </a:moveTo>
                <a:cubicBezTo>
                  <a:pt x="6716" y="13507"/>
                  <a:pt x="6604" y="13661"/>
                  <a:pt x="6623" y="13816"/>
                </a:cubicBezTo>
                <a:cubicBezTo>
                  <a:pt x="6639" y="13841"/>
                  <a:pt x="6656" y="13866"/>
                  <a:pt x="6672" y="13891"/>
                </a:cubicBezTo>
                <a:cubicBezTo>
                  <a:pt x="6814" y="13848"/>
                  <a:pt x="7236" y="13730"/>
                  <a:pt x="7020" y="13494"/>
                </a:cubicBezTo>
                <a:cubicBezTo>
                  <a:pt x="6883" y="13425"/>
                  <a:pt x="6847" y="13397"/>
                  <a:pt x="6747" y="13444"/>
                </a:cubicBezTo>
              </a:path>
              <a:path w="5483" h="2109">
                <a:moveTo>
                  <a:pt x="7243" y="13271"/>
                </a:moveTo>
                <a:cubicBezTo>
                  <a:pt x="7165" y="13494"/>
                  <a:pt x="7145" y="13620"/>
                  <a:pt x="7268" y="13816"/>
                </a:cubicBezTo>
                <a:cubicBezTo>
                  <a:pt x="7366" y="13746"/>
                  <a:pt x="7789" y="13460"/>
                  <a:pt x="7516" y="13320"/>
                </a:cubicBezTo>
                <a:cubicBezTo>
                  <a:pt x="7391" y="13320"/>
                  <a:pt x="7363" y="13328"/>
                  <a:pt x="7293" y="13295"/>
                </a:cubicBezTo>
              </a:path>
              <a:path w="5483" h="2109">
                <a:moveTo>
                  <a:pt x="8260" y="12824"/>
                </a:moveTo>
                <a:cubicBezTo>
                  <a:pt x="8419" y="12766"/>
                  <a:pt x="8589" y="12754"/>
                  <a:pt x="8756" y="12725"/>
                </a:cubicBezTo>
              </a:path>
              <a:path w="5483" h="2109">
                <a:moveTo>
                  <a:pt x="8260" y="13072"/>
                </a:moveTo>
                <a:cubicBezTo>
                  <a:pt x="8418" y="13045"/>
                  <a:pt x="8477" y="13034"/>
                  <a:pt x="8582" y="12998"/>
                </a:cubicBezTo>
              </a:path>
              <a:path w="5483" h="2109">
                <a:moveTo>
                  <a:pt x="9475" y="12353"/>
                </a:moveTo>
                <a:cubicBezTo>
                  <a:pt x="9522" y="12571"/>
                  <a:pt x="9446" y="12637"/>
                  <a:pt x="9302" y="12799"/>
                </a:cubicBezTo>
                <a:cubicBezTo>
                  <a:pt x="9493" y="12695"/>
                  <a:pt x="9582" y="12671"/>
                  <a:pt x="9798" y="12650"/>
                </a:cubicBezTo>
              </a:path>
              <a:path w="5483" h="2109">
                <a:moveTo>
                  <a:pt x="9723" y="12278"/>
                </a:moveTo>
                <a:cubicBezTo>
                  <a:pt x="9705" y="12552"/>
                  <a:pt x="9728" y="12822"/>
                  <a:pt x="9699" y="13097"/>
                </a:cubicBezTo>
              </a:path>
              <a:path w="5483" h="2109">
                <a:moveTo>
                  <a:pt x="9971" y="12328"/>
                </a:moveTo>
                <a:cubicBezTo>
                  <a:pt x="10053" y="12309"/>
                  <a:pt x="10406" y="12111"/>
                  <a:pt x="10468" y="12254"/>
                </a:cubicBezTo>
                <a:cubicBezTo>
                  <a:pt x="10555" y="12455"/>
                  <a:pt x="10180" y="12784"/>
                  <a:pt x="10368" y="12898"/>
                </a:cubicBezTo>
                <a:cubicBezTo>
                  <a:pt x="10385" y="12882"/>
                  <a:pt x="10401" y="12865"/>
                  <a:pt x="10418" y="12849"/>
                </a:cubicBezTo>
              </a:path>
              <a:path w="5483" h="2109">
                <a:moveTo>
                  <a:pt x="10864" y="12030"/>
                </a:moveTo>
                <a:cubicBezTo>
                  <a:pt x="10706" y="12180"/>
                  <a:pt x="10699" y="12193"/>
                  <a:pt x="10691" y="12402"/>
                </a:cubicBezTo>
                <a:cubicBezTo>
                  <a:pt x="10818" y="12368"/>
                  <a:pt x="11148" y="12159"/>
                  <a:pt x="10889" y="12005"/>
                </a:cubicBezTo>
                <a:cubicBezTo>
                  <a:pt x="10818" y="11963"/>
                  <a:pt x="10637" y="12057"/>
                  <a:pt x="10740" y="11981"/>
                </a:cubicBezTo>
              </a:path>
              <a:path w="5483" h="2109">
                <a:moveTo>
                  <a:pt x="11336" y="11931"/>
                </a:moveTo>
                <a:cubicBezTo>
                  <a:pt x="11449" y="12179"/>
                  <a:pt x="11301" y="12376"/>
                  <a:pt x="11162" y="12601"/>
                </a:cubicBezTo>
                <a:cubicBezTo>
                  <a:pt x="11018" y="12806"/>
                  <a:pt x="10987" y="12843"/>
                  <a:pt x="10914" y="12973"/>
                </a:cubicBezTo>
              </a:path>
              <a:path w="5483" h="2109">
                <a:moveTo>
                  <a:pt x="11509" y="12576"/>
                </a:moveTo>
                <a:cubicBezTo>
                  <a:pt x="11437" y="12699"/>
                  <a:pt x="11392" y="12716"/>
                  <a:pt x="11460" y="12824"/>
                </a:cubicBezTo>
                <a:cubicBezTo>
                  <a:pt x="11569" y="12724"/>
                  <a:pt x="11601" y="12741"/>
                  <a:pt x="11509" y="12650"/>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483160" y="3571920"/>
            <a:ext cx="1268640" cy="803160"/>
          </a:xfrm>
          <a:custGeom>
            <a:avLst/>
            <a:gdLst/>
            <a:ahLst/>
            <a:rect l="l" t="t" r="r" b="b"/>
            <a:pathLst>
              <a:path w="3523" h="2233">
                <a:moveTo>
                  <a:pt x="16718" y="9922"/>
                </a:moveTo>
                <a:cubicBezTo>
                  <a:pt x="16664" y="9931"/>
                  <a:pt x="16161" y="10041"/>
                  <a:pt x="16272" y="10195"/>
                </a:cubicBezTo>
                <a:cubicBezTo>
                  <a:pt x="16352" y="10306"/>
                  <a:pt x="16587" y="10386"/>
                  <a:pt x="16694" y="10492"/>
                </a:cubicBezTo>
                <a:cubicBezTo>
                  <a:pt x="16608" y="10578"/>
                  <a:pt x="16569" y="10605"/>
                  <a:pt x="16470" y="10592"/>
                </a:cubicBezTo>
                <a:cubicBezTo>
                  <a:pt x="16394" y="10329"/>
                  <a:pt x="16521" y="10198"/>
                  <a:pt x="16669" y="9971"/>
                </a:cubicBezTo>
              </a:path>
              <a:path w="3523" h="2233">
                <a:moveTo>
                  <a:pt x="15230" y="11088"/>
                </a:moveTo>
                <a:cubicBezTo>
                  <a:pt x="15789" y="10975"/>
                  <a:pt x="16351" y="10866"/>
                  <a:pt x="16917" y="10790"/>
                </a:cubicBezTo>
                <a:cubicBezTo>
                  <a:pt x="17297" y="10750"/>
                  <a:pt x="17364" y="10744"/>
                  <a:pt x="17587" y="10716"/>
                </a:cubicBezTo>
              </a:path>
              <a:path w="3523" h="2233">
                <a:moveTo>
                  <a:pt x="15726" y="11435"/>
                </a:moveTo>
                <a:cubicBezTo>
                  <a:pt x="15899" y="11461"/>
                  <a:pt x="15631" y="11878"/>
                  <a:pt x="15478" y="12105"/>
                </a:cubicBezTo>
                <a:cubicBezTo>
                  <a:pt x="15462" y="12121"/>
                  <a:pt x="15445" y="12138"/>
                  <a:pt x="15429" y="12154"/>
                </a:cubicBezTo>
              </a:path>
              <a:path w="3523" h="2233">
                <a:moveTo>
                  <a:pt x="16173" y="11435"/>
                </a:moveTo>
                <a:cubicBezTo>
                  <a:pt x="16070" y="11614"/>
                  <a:pt x="15972" y="11771"/>
                  <a:pt x="16049" y="11956"/>
                </a:cubicBezTo>
                <a:cubicBezTo>
                  <a:pt x="16156" y="11874"/>
                  <a:pt x="16555" y="11589"/>
                  <a:pt x="16297" y="11435"/>
                </a:cubicBezTo>
                <a:cubicBezTo>
                  <a:pt x="16256" y="11435"/>
                  <a:pt x="16214" y="11435"/>
                  <a:pt x="16173" y="11435"/>
                </a:cubicBezTo>
              </a:path>
              <a:path w="3523" h="2233">
                <a:moveTo>
                  <a:pt x="16768" y="11286"/>
                </a:moveTo>
                <a:cubicBezTo>
                  <a:pt x="16612" y="11521"/>
                  <a:pt x="16594" y="11633"/>
                  <a:pt x="16718" y="11881"/>
                </a:cubicBezTo>
                <a:cubicBezTo>
                  <a:pt x="16880" y="11797"/>
                  <a:pt x="17227" y="11523"/>
                  <a:pt x="16942" y="11311"/>
                </a:cubicBezTo>
                <a:cubicBezTo>
                  <a:pt x="16884" y="11303"/>
                  <a:pt x="16826" y="11294"/>
                  <a:pt x="16768" y="11286"/>
                </a:cubicBezTo>
              </a:path>
              <a:path w="3523" h="2233">
                <a:moveTo>
                  <a:pt x="18132" y="10964"/>
                </a:moveTo>
                <a:cubicBezTo>
                  <a:pt x="18283" y="10940"/>
                  <a:pt x="18427" y="10921"/>
                  <a:pt x="18579" y="10914"/>
                </a:cubicBezTo>
              </a:path>
              <a:path w="3523" h="2233">
                <a:moveTo>
                  <a:pt x="18281" y="11212"/>
                </a:moveTo>
                <a:lnTo>
                  <a:pt x="18281" y="11212"/>
                </a:lnTo>
              </a:path>
              <a:path w="3523" h="2233">
                <a:moveTo>
                  <a:pt x="18207" y="11261"/>
                </a:moveTo>
                <a:cubicBezTo>
                  <a:pt x="18395" y="11252"/>
                  <a:pt x="18568" y="11207"/>
                  <a:pt x="18752" y="11187"/>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375680" y="3438360"/>
            <a:ext cx="465120" cy="357480"/>
          </a:xfrm>
          <a:custGeom>
            <a:avLst/>
            <a:gdLst/>
            <a:ahLst/>
            <a:rect l="l" t="t" r="r" b="b"/>
            <a:pathLst>
              <a:path w="1291" h="993">
                <a:moveTo>
                  <a:pt x="20960" y="9723"/>
                </a:moveTo>
                <a:cubicBezTo>
                  <a:pt x="20891" y="9761"/>
                  <a:pt x="20417" y="9980"/>
                  <a:pt x="20513" y="10120"/>
                </a:cubicBezTo>
                <a:cubicBezTo>
                  <a:pt x="20623" y="10280"/>
                  <a:pt x="20747" y="10230"/>
                  <a:pt x="20811" y="10443"/>
                </a:cubicBezTo>
                <a:cubicBezTo>
                  <a:pt x="20695" y="10535"/>
                  <a:pt x="20665" y="10570"/>
                  <a:pt x="20563" y="10517"/>
                </a:cubicBezTo>
                <a:cubicBezTo>
                  <a:pt x="20464" y="10219"/>
                  <a:pt x="20628" y="10030"/>
                  <a:pt x="20786" y="9748"/>
                </a:cubicBezTo>
              </a:path>
              <a:path w="1291" h="993">
                <a:moveTo>
                  <a:pt x="21208" y="9550"/>
                </a:moveTo>
                <a:cubicBezTo>
                  <a:pt x="21127" y="9622"/>
                  <a:pt x="21106" y="9669"/>
                  <a:pt x="21084" y="9773"/>
                </a:cubicBezTo>
                <a:cubicBezTo>
                  <a:pt x="21216" y="9733"/>
                  <a:pt x="21138" y="9647"/>
                  <a:pt x="21258" y="9575"/>
                </a:cubicBezTo>
                <a:cubicBezTo>
                  <a:pt x="21541" y="9405"/>
                  <a:pt x="21581" y="9800"/>
                  <a:pt x="21506" y="9971"/>
                </a:cubicBezTo>
                <a:cubicBezTo>
                  <a:pt x="21438" y="10125"/>
                  <a:pt x="21271" y="10292"/>
                  <a:pt x="21158" y="10418"/>
                </a:cubicBezTo>
              </a:path>
              <a:path w="1291" h="993">
                <a:moveTo>
                  <a:pt x="21605" y="10170"/>
                </a:moveTo>
                <a:cubicBezTo>
                  <a:pt x="21534" y="10263"/>
                  <a:pt x="21511" y="10289"/>
                  <a:pt x="21506" y="10368"/>
                </a:cubicBezTo>
                <a:cubicBezTo>
                  <a:pt x="21701" y="10383"/>
                  <a:pt x="21783" y="10339"/>
                  <a:pt x="21704" y="10170"/>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500200" y="5599080"/>
            <a:ext cx="669960" cy="411120"/>
          </a:xfrm>
          <a:custGeom>
            <a:avLst/>
            <a:gdLst/>
            <a:ahLst/>
            <a:rect l="l" t="t" r="r" b="b"/>
            <a:pathLst>
              <a:path w="1862" h="1142">
                <a:moveTo>
                  <a:pt x="7516" y="15602"/>
                </a:moveTo>
                <a:cubicBezTo>
                  <a:pt x="7500" y="15851"/>
                  <a:pt x="7472" y="16107"/>
                  <a:pt x="7392" y="16346"/>
                </a:cubicBezTo>
                <a:cubicBezTo>
                  <a:pt x="7384" y="16354"/>
                  <a:pt x="7375" y="16363"/>
                  <a:pt x="7367" y="16371"/>
                </a:cubicBezTo>
              </a:path>
              <a:path w="1862" h="1142">
                <a:moveTo>
                  <a:pt x="7689" y="15627"/>
                </a:moveTo>
                <a:cubicBezTo>
                  <a:pt x="7815" y="15599"/>
                  <a:pt x="8057" y="15488"/>
                  <a:pt x="8186" y="15553"/>
                </a:cubicBezTo>
                <a:cubicBezTo>
                  <a:pt x="8286" y="15603"/>
                  <a:pt x="8081" y="15910"/>
                  <a:pt x="8062" y="15974"/>
                </a:cubicBezTo>
                <a:cubicBezTo>
                  <a:pt x="8062" y="15991"/>
                  <a:pt x="8062" y="16007"/>
                  <a:pt x="8062" y="16024"/>
                </a:cubicBezTo>
              </a:path>
              <a:path w="1862" h="1142">
                <a:moveTo>
                  <a:pt x="6945" y="16694"/>
                </a:moveTo>
                <a:cubicBezTo>
                  <a:pt x="7435" y="16470"/>
                  <a:pt x="7924" y="16290"/>
                  <a:pt x="8458" y="16197"/>
                </a:cubicBezTo>
                <a:cubicBezTo>
                  <a:pt x="8657" y="16178"/>
                  <a:pt x="8689" y="16170"/>
                  <a:pt x="8806" y="1617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598840" y="5983200"/>
            <a:ext cx="490320" cy="276480"/>
          </a:xfrm>
          <a:custGeom>
            <a:avLst/>
            <a:gdLst/>
            <a:ahLst/>
            <a:rect l="l" t="t" r="r" b="b"/>
            <a:pathLst>
              <a:path w="1365" h="770">
                <a:moveTo>
                  <a:pt x="7466" y="16743"/>
                </a:moveTo>
                <a:cubicBezTo>
                  <a:pt x="7399" y="16967"/>
                  <a:pt x="7343" y="17194"/>
                  <a:pt x="7218" y="17388"/>
                </a:cubicBezTo>
              </a:path>
              <a:path w="1365" h="770">
                <a:moveTo>
                  <a:pt x="7789" y="16793"/>
                </a:moveTo>
                <a:cubicBezTo>
                  <a:pt x="7725" y="16965"/>
                  <a:pt x="7675" y="17013"/>
                  <a:pt x="7739" y="17165"/>
                </a:cubicBezTo>
                <a:cubicBezTo>
                  <a:pt x="7810" y="17122"/>
                  <a:pt x="8239" y="16815"/>
                  <a:pt x="7962" y="16718"/>
                </a:cubicBezTo>
                <a:cubicBezTo>
                  <a:pt x="7826" y="16741"/>
                  <a:pt x="7788" y="16743"/>
                  <a:pt x="7714" y="16793"/>
                </a:cubicBezTo>
              </a:path>
              <a:path w="1365" h="770">
                <a:moveTo>
                  <a:pt x="8235" y="16619"/>
                </a:moveTo>
                <a:cubicBezTo>
                  <a:pt x="8169" y="16803"/>
                  <a:pt x="8159" y="16870"/>
                  <a:pt x="8186" y="17066"/>
                </a:cubicBezTo>
                <a:cubicBezTo>
                  <a:pt x="8394" y="17065"/>
                  <a:pt x="8641" y="16999"/>
                  <a:pt x="8558" y="16718"/>
                </a:cubicBezTo>
                <a:cubicBezTo>
                  <a:pt x="8473" y="16606"/>
                  <a:pt x="8431" y="16575"/>
                  <a:pt x="8310" y="1664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67080" y="5786280"/>
            <a:ext cx="133200" cy="108000"/>
          </a:xfrm>
          <a:custGeom>
            <a:avLst/>
            <a:gdLst/>
            <a:ahLst/>
            <a:rect l="l" t="t" r="r" b="b"/>
            <a:pathLst>
              <a:path w="373" h="299">
                <a:moveTo>
                  <a:pt x="9351" y="16173"/>
                </a:moveTo>
                <a:cubicBezTo>
                  <a:pt x="9476" y="16124"/>
                  <a:pt x="9590" y="16099"/>
                  <a:pt x="9723" y="16073"/>
                </a:cubicBezTo>
              </a:path>
              <a:path w="373" h="299">
                <a:moveTo>
                  <a:pt x="9475" y="16371"/>
                </a:moveTo>
                <a:cubicBezTo>
                  <a:pt x="9541" y="16346"/>
                  <a:pt x="9608" y="16322"/>
                  <a:pt x="9674" y="16297"/>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687840" y="5500800"/>
            <a:ext cx="652320" cy="384120"/>
          </a:xfrm>
          <a:custGeom>
            <a:avLst/>
            <a:gdLst/>
            <a:ahLst/>
            <a:rect l="l" t="t" r="r" b="b"/>
            <a:pathLst>
              <a:path w="1812" h="1067">
                <a:moveTo>
                  <a:pt x="10393" y="15627"/>
                </a:moveTo>
                <a:cubicBezTo>
                  <a:pt x="10344" y="15611"/>
                  <a:pt x="10327" y="15913"/>
                  <a:pt x="10319" y="15974"/>
                </a:cubicBezTo>
                <a:cubicBezTo>
                  <a:pt x="10298" y="16184"/>
                  <a:pt x="10304" y="16231"/>
                  <a:pt x="10244" y="16346"/>
                </a:cubicBezTo>
              </a:path>
              <a:path w="1812" h="1067">
                <a:moveTo>
                  <a:pt x="10567" y="15652"/>
                </a:moveTo>
                <a:cubicBezTo>
                  <a:pt x="10716" y="15606"/>
                  <a:pt x="10858" y="15579"/>
                  <a:pt x="11013" y="15553"/>
                </a:cubicBezTo>
                <a:cubicBezTo>
                  <a:pt x="11114" y="15786"/>
                  <a:pt x="11013" y="15979"/>
                  <a:pt x="10939" y="16222"/>
                </a:cubicBezTo>
                <a:cubicBezTo>
                  <a:pt x="10918" y="16306"/>
                  <a:pt x="10902" y="16353"/>
                  <a:pt x="10939" y="16272"/>
                </a:cubicBezTo>
              </a:path>
              <a:path w="1812" h="1067">
                <a:moveTo>
                  <a:pt x="11385" y="15429"/>
                </a:moveTo>
                <a:cubicBezTo>
                  <a:pt x="11347" y="15555"/>
                  <a:pt x="11217" y="15779"/>
                  <a:pt x="11410" y="15701"/>
                </a:cubicBezTo>
                <a:cubicBezTo>
                  <a:pt x="11444" y="15534"/>
                  <a:pt x="11371" y="15452"/>
                  <a:pt x="11385" y="15304"/>
                </a:cubicBezTo>
                <a:cubicBezTo>
                  <a:pt x="11660" y="15305"/>
                  <a:pt x="11710" y="15476"/>
                  <a:pt x="11658" y="15751"/>
                </a:cubicBezTo>
                <a:cubicBezTo>
                  <a:pt x="11585" y="15970"/>
                  <a:pt x="11563" y="16041"/>
                  <a:pt x="11485" y="16173"/>
                </a:cubicBezTo>
              </a:path>
              <a:path w="1812" h="1067">
                <a:moveTo>
                  <a:pt x="11782" y="16073"/>
                </a:moveTo>
                <a:cubicBezTo>
                  <a:pt x="11774" y="16106"/>
                  <a:pt x="11765" y="16140"/>
                  <a:pt x="11757" y="16173"/>
                </a:cubicBezTo>
                <a:cubicBezTo>
                  <a:pt x="11841" y="16188"/>
                  <a:pt x="12194" y="16108"/>
                  <a:pt x="12055" y="15949"/>
                </a:cubicBezTo>
                <a:cubicBezTo>
                  <a:pt x="12022" y="15949"/>
                  <a:pt x="11989" y="15949"/>
                  <a:pt x="11956" y="1594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786280" y="4857840"/>
            <a:ext cx="1349640" cy="660240"/>
          </a:xfrm>
          <a:custGeom>
            <a:avLst/>
            <a:gdLst/>
            <a:ahLst/>
            <a:rect l="l" t="t" r="r" b="b"/>
            <a:pathLst>
              <a:path w="3747" h="1836">
                <a:moveTo>
                  <a:pt x="16470" y="13618"/>
                </a:moveTo>
                <a:cubicBezTo>
                  <a:pt x="16599" y="13510"/>
                  <a:pt x="16704" y="13507"/>
                  <a:pt x="16867" y="13494"/>
                </a:cubicBezTo>
                <a:cubicBezTo>
                  <a:pt x="16841" y="13714"/>
                  <a:pt x="16788" y="13780"/>
                  <a:pt x="16570" y="13841"/>
                </a:cubicBezTo>
                <a:cubicBezTo>
                  <a:pt x="16527" y="13841"/>
                  <a:pt x="16536" y="13835"/>
                  <a:pt x="16619" y="13816"/>
                </a:cubicBezTo>
                <a:cubicBezTo>
                  <a:pt x="16799" y="13839"/>
                  <a:pt x="17108" y="13924"/>
                  <a:pt x="16818" y="14139"/>
                </a:cubicBezTo>
                <a:cubicBezTo>
                  <a:pt x="16664" y="14253"/>
                  <a:pt x="16546" y="14220"/>
                  <a:pt x="16396" y="14163"/>
                </a:cubicBezTo>
              </a:path>
              <a:path w="3747" h="1836">
                <a:moveTo>
                  <a:pt x="16073" y="14511"/>
                </a:moveTo>
                <a:cubicBezTo>
                  <a:pt x="16428" y="14457"/>
                  <a:pt x="16805" y="14400"/>
                  <a:pt x="17165" y="14412"/>
                </a:cubicBezTo>
                <a:cubicBezTo>
                  <a:pt x="17198" y="14420"/>
                  <a:pt x="17231" y="14428"/>
                  <a:pt x="17264" y="14436"/>
                </a:cubicBezTo>
              </a:path>
              <a:path w="3747" h="1836">
                <a:moveTo>
                  <a:pt x="16421" y="14833"/>
                </a:moveTo>
                <a:cubicBezTo>
                  <a:pt x="16386" y="15005"/>
                  <a:pt x="16300" y="15166"/>
                  <a:pt x="16222" y="15329"/>
                </a:cubicBezTo>
                <a:cubicBezTo>
                  <a:pt x="16380" y="15299"/>
                  <a:pt x="16537" y="15264"/>
                  <a:pt x="16694" y="15230"/>
                </a:cubicBezTo>
              </a:path>
              <a:path w="3747" h="1836">
                <a:moveTo>
                  <a:pt x="17537" y="14412"/>
                </a:moveTo>
                <a:cubicBezTo>
                  <a:pt x="17656" y="14412"/>
                  <a:pt x="17767" y="14426"/>
                  <a:pt x="17884" y="14436"/>
                </a:cubicBezTo>
              </a:path>
              <a:path w="3747" h="1836">
                <a:moveTo>
                  <a:pt x="17537" y="14759"/>
                </a:moveTo>
                <a:cubicBezTo>
                  <a:pt x="17642" y="14736"/>
                  <a:pt x="17744" y="14679"/>
                  <a:pt x="17859" y="14660"/>
                </a:cubicBezTo>
                <a:cubicBezTo>
                  <a:pt x="17901" y="14660"/>
                  <a:pt x="17909" y="14660"/>
                  <a:pt x="17934" y="14660"/>
                </a:cubicBezTo>
              </a:path>
              <a:path w="3747" h="1836">
                <a:moveTo>
                  <a:pt x="17636" y="14288"/>
                </a:moveTo>
                <a:cubicBezTo>
                  <a:pt x="17808" y="14270"/>
                  <a:pt x="17878" y="14424"/>
                  <a:pt x="17983" y="14560"/>
                </a:cubicBezTo>
                <a:cubicBezTo>
                  <a:pt x="18008" y="14593"/>
                  <a:pt x="18033" y="14627"/>
                  <a:pt x="18058" y="14660"/>
                </a:cubicBezTo>
              </a:path>
              <a:path w="3747" h="1836">
                <a:moveTo>
                  <a:pt x="17934" y="14188"/>
                </a:moveTo>
                <a:cubicBezTo>
                  <a:pt x="17821" y="14404"/>
                  <a:pt x="17686" y="14600"/>
                  <a:pt x="17562" y="14808"/>
                </a:cubicBezTo>
              </a:path>
              <a:path w="3747" h="1836">
                <a:moveTo>
                  <a:pt x="18752" y="14412"/>
                </a:moveTo>
                <a:cubicBezTo>
                  <a:pt x="18793" y="14268"/>
                  <a:pt x="18922" y="14387"/>
                  <a:pt x="18901" y="14511"/>
                </a:cubicBezTo>
                <a:cubicBezTo>
                  <a:pt x="18865" y="14721"/>
                  <a:pt x="18697" y="14894"/>
                  <a:pt x="18554" y="14734"/>
                </a:cubicBezTo>
                <a:cubicBezTo>
                  <a:pt x="18712" y="14650"/>
                  <a:pt x="18740" y="14621"/>
                  <a:pt x="18876" y="14759"/>
                </a:cubicBezTo>
              </a:path>
              <a:path w="3747" h="1836">
                <a:moveTo>
                  <a:pt x="19025" y="14412"/>
                </a:moveTo>
                <a:cubicBezTo>
                  <a:pt x="19017" y="14428"/>
                  <a:pt x="19008" y="14445"/>
                  <a:pt x="19000" y="14461"/>
                </a:cubicBezTo>
                <a:cubicBezTo>
                  <a:pt x="19043" y="14487"/>
                  <a:pt x="19303" y="14603"/>
                  <a:pt x="19224" y="14660"/>
                </a:cubicBezTo>
                <a:cubicBezTo>
                  <a:pt x="19199" y="14668"/>
                  <a:pt x="19174" y="14676"/>
                  <a:pt x="19149" y="14684"/>
                </a:cubicBezTo>
              </a:path>
              <a:path w="3747" h="1836">
                <a:moveTo>
                  <a:pt x="19050" y="14337"/>
                </a:moveTo>
                <a:cubicBezTo>
                  <a:pt x="19196" y="14240"/>
                  <a:pt x="19242" y="14209"/>
                  <a:pt x="19348" y="14163"/>
                </a:cubicBezTo>
              </a:path>
              <a:path w="3747" h="1836">
                <a:moveTo>
                  <a:pt x="18653" y="14188"/>
                </a:moveTo>
                <a:cubicBezTo>
                  <a:pt x="18868" y="14146"/>
                  <a:pt x="18917" y="14135"/>
                  <a:pt x="19050" y="14114"/>
                </a:cubicBezTo>
              </a:path>
              <a:path w="3747" h="1836">
                <a:moveTo>
                  <a:pt x="18529" y="13767"/>
                </a:moveTo>
                <a:cubicBezTo>
                  <a:pt x="18616" y="13667"/>
                  <a:pt x="18623" y="13684"/>
                  <a:pt x="18752" y="13692"/>
                </a:cubicBezTo>
                <a:cubicBezTo>
                  <a:pt x="18779" y="13844"/>
                  <a:pt x="18717" y="14067"/>
                  <a:pt x="18479" y="14039"/>
                </a:cubicBezTo>
                <a:cubicBezTo>
                  <a:pt x="18471" y="14023"/>
                  <a:pt x="18463" y="14006"/>
                  <a:pt x="18455" y="13990"/>
                </a:cubicBezTo>
                <a:cubicBezTo>
                  <a:pt x="18594" y="13930"/>
                  <a:pt x="18687" y="13914"/>
                  <a:pt x="18802" y="14015"/>
                </a:cubicBezTo>
              </a:path>
              <a:path w="3747" h="1836">
                <a:moveTo>
                  <a:pt x="18901" y="13692"/>
                </a:moveTo>
                <a:cubicBezTo>
                  <a:pt x="18893" y="13717"/>
                  <a:pt x="18884" y="13742"/>
                  <a:pt x="18876" y="13767"/>
                </a:cubicBezTo>
                <a:cubicBezTo>
                  <a:pt x="18931" y="13782"/>
                  <a:pt x="19161" y="13842"/>
                  <a:pt x="19124" y="13940"/>
                </a:cubicBezTo>
                <a:cubicBezTo>
                  <a:pt x="19108" y="13957"/>
                  <a:pt x="19091" y="13973"/>
                  <a:pt x="19075" y="13990"/>
                </a:cubicBezTo>
              </a:path>
              <a:path w="3747" h="1836">
                <a:moveTo>
                  <a:pt x="18901" y="13667"/>
                </a:moveTo>
                <a:cubicBezTo>
                  <a:pt x="19035" y="13600"/>
                  <a:pt x="19125" y="13573"/>
                  <a:pt x="19273" y="13543"/>
                </a:cubicBezTo>
              </a:path>
              <a:path w="3747" h="1836">
                <a:moveTo>
                  <a:pt x="19645" y="14139"/>
                </a:moveTo>
                <a:cubicBezTo>
                  <a:pt x="19744" y="14119"/>
                  <a:pt x="19760" y="14111"/>
                  <a:pt x="19819" y="14114"/>
                </a:cubicBezTo>
              </a:path>
              <a:path w="3747" h="1836">
                <a:moveTo>
                  <a:pt x="19645" y="14387"/>
                </a:moveTo>
                <a:cubicBezTo>
                  <a:pt x="19695" y="14362"/>
                  <a:pt x="19744" y="14337"/>
                  <a:pt x="19794" y="14312"/>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392960" y="4732200"/>
            <a:ext cx="366840" cy="304920"/>
          </a:xfrm>
          <a:custGeom>
            <a:avLst/>
            <a:gdLst/>
            <a:ahLst/>
            <a:rect l="l" t="t" r="r" b="b"/>
            <a:pathLst>
              <a:path w="1018" h="845">
                <a:moveTo>
                  <a:pt x="20538" y="13568"/>
                </a:moveTo>
                <a:cubicBezTo>
                  <a:pt x="20579" y="13462"/>
                  <a:pt x="20757" y="13359"/>
                  <a:pt x="20886" y="13345"/>
                </a:cubicBezTo>
                <a:cubicBezTo>
                  <a:pt x="20911" y="13353"/>
                  <a:pt x="20935" y="13362"/>
                  <a:pt x="20960" y="13370"/>
                </a:cubicBezTo>
                <a:cubicBezTo>
                  <a:pt x="20945" y="13590"/>
                  <a:pt x="20916" y="13782"/>
                  <a:pt x="20836" y="13990"/>
                </a:cubicBezTo>
              </a:path>
              <a:path w="1018" h="845">
                <a:moveTo>
                  <a:pt x="21084" y="13419"/>
                </a:moveTo>
                <a:cubicBezTo>
                  <a:pt x="21064" y="13520"/>
                  <a:pt x="21045" y="13540"/>
                  <a:pt x="21084" y="13593"/>
                </a:cubicBezTo>
                <a:cubicBezTo>
                  <a:pt x="21270" y="13635"/>
                  <a:pt x="21408" y="13625"/>
                  <a:pt x="21456" y="13816"/>
                </a:cubicBezTo>
                <a:cubicBezTo>
                  <a:pt x="21324" y="13896"/>
                  <a:pt x="21273" y="13921"/>
                  <a:pt x="21158" y="13891"/>
                </a:cubicBezTo>
              </a:path>
              <a:path w="1018" h="845">
                <a:moveTo>
                  <a:pt x="21158" y="13320"/>
                </a:moveTo>
                <a:cubicBezTo>
                  <a:pt x="21342" y="13215"/>
                  <a:pt x="21411" y="13178"/>
                  <a:pt x="21555" y="13146"/>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929200" y="5322960"/>
            <a:ext cx="81000" cy="347760"/>
          </a:xfrm>
          <a:custGeom>
            <a:avLst/>
            <a:gdLst/>
            <a:ahLst/>
            <a:rect l="l" t="t" r="r" b="b"/>
            <a:pathLst>
              <a:path w="225" h="968">
                <a:moveTo>
                  <a:pt x="16694" y="14784"/>
                </a:moveTo>
                <a:cubicBezTo>
                  <a:pt x="16615" y="15066"/>
                  <a:pt x="16604" y="15347"/>
                  <a:pt x="16520" y="15627"/>
                </a:cubicBezTo>
                <a:cubicBezTo>
                  <a:pt x="16503" y="15668"/>
                  <a:pt x="16487" y="15710"/>
                  <a:pt x="16470" y="15751"/>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277040" y="4848120"/>
            <a:ext cx="1697040" cy="716040"/>
          </a:xfrm>
          <a:custGeom>
            <a:avLst/>
            <a:gdLst/>
            <a:ahLst/>
            <a:rect l="l" t="t" r="r" b="b"/>
            <a:pathLst>
              <a:path w="4714" h="1985">
                <a:moveTo>
                  <a:pt x="20241" y="14337"/>
                </a:moveTo>
                <a:cubicBezTo>
                  <a:pt x="20676" y="14259"/>
                  <a:pt x="21114" y="14152"/>
                  <a:pt x="21555" y="14114"/>
                </a:cubicBezTo>
                <a:cubicBezTo>
                  <a:pt x="21706" y="14114"/>
                  <a:pt x="21730" y="14092"/>
                  <a:pt x="21803" y="14139"/>
                </a:cubicBezTo>
              </a:path>
              <a:path w="4714" h="1985">
                <a:moveTo>
                  <a:pt x="20340" y="14734"/>
                </a:moveTo>
                <a:cubicBezTo>
                  <a:pt x="20329" y="14987"/>
                  <a:pt x="20293" y="15212"/>
                  <a:pt x="20216" y="15453"/>
                </a:cubicBezTo>
              </a:path>
              <a:path w="4714" h="1985">
                <a:moveTo>
                  <a:pt x="20811" y="14684"/>
                </a:moveTo>
                <a:cubicBezTo>
                  <a:pt x="20704" y="14925"/>
                  <a:pt x="20602" y="15133"/>
                  <a:pt x="20638" y="15379"/>
                </a:cubicBezTo>
                <a:cubicBezTo>
                  <a:pt x="20759" y="15305"/>
                  <a:pt x="21227" y="15012"/>
                  <a:pt x="20985" y="14808"/>
                </a:cubicBezTo>
                <a:cubicBezTo>
                  <a:pt x="20935" y="14800"/>
                  <a:pt x="20886" y="14792"/>
                  <a:pt x="20836" y="14784"/>
                </a:cubicBezTo>
              </a:path>
              <a:path w="4714" h="1985">
                <a:moveTo>
                  <a:pt x="21357" y="14660"/>
                </a:moveTo>
                <a:cubicBezTo>
                  <a:pt x="21262" y="14938"/>
                  <a:pt x="21239" y="14961"/>
                  <a:pt x="21332" y="15230"/>
                </a:cubicBezTo>
                <a:cubicBezTo>
                  <a:pt x="21559" y="15180"/>
                  <a:pt x="21931" y="14954"/>
                  <a:pt x="21630" y="14660"/>
                </a:cubicBezTo>
                <a:cubicBezTo>
                  <a:pt x="21443" y="14606"/>
                  <a:pt x="21373" y="14596"/>
                  <a:pt x="21258" y="14709"/>
                </a:cubicBezTo>
              </a:path>
              <a:path w="4714" h="1985">
                <a:moveTo>
                  <a:pt x="22423" y="14213"/>
                </a:moveTo>
                <a:cubicBezTo>
                  <a:pt x="22531" y="14240"/>
                  <a:pt x="22572" y="14247"/>
                  <a:pt x="22647" y="14213"/>
                </a:cubicBezTo>
              </a:path>
              <a:path w="4714" h="1985">
                <a:moveTo>
                  <a:pt x="22597" y="14486"/>
                </a:moveTo>
                <a:cubicBezTo>
                  <a:pt x="22647" y="14469"/>
                  <a:pt x="22696" y="14453"/>
                  <a:pt x="22746" y="14436"/>
                </a:cubicBezTo>
              </a:path>
              <a:path w="4714" h="1985">
                <a:moveTo>
                  <a:pt x="23019" y="13891"/>
                </a:moveTo>
                <a:cubicBezTo>
                  <a:pt x="23205" y="13882"/>
                  <a:pt x="23384" y="13861"/>
                  <a:pt x="23564" y="13816"/>
                </a:cubicBezTo>
                <a:cubicBezTo>
                  <a:pt x="23467" y="14014"/>
                  <a:pt x="23411" y="14205"/>
                  <a:pt x="23341" y="14412"/>
                </a:cubicBezTo>
                <a:cubicBezTo>
                  <a:pt x="23333" y="14428"/>
                  <a:pt x="23324" y="14445"/>
                  <a:pt x="23316" y="14461"/>
                </a:cubicBezTo>
              </a:path>
              <a:path w="4714" h="1985">
                <a:moveTo>
                  <a:pt x="23986" y="13791"/>
                </a:moveTo>
                <a:cubicBezTo>
                  <a:pt x="24023" y="13769"/>
                  <a:pt x="24049" y="13764"/>
                  <a:pt x="24085" y="13742"/>
                </a:cubicBezTo>
                <a:cubicBezTo>
                  <a:pt x="23948" y="13750"/>
                  <a:pt x="23793" y="13729"/>
                  <a:pt x="23738" y="13866"/>
                </a:cubicBezTo>
                <a:cubicBezTo>
                  <a:pt x="23717" y="13948"/>
                  <a:pt x="23709" y="13964"/>
                  <a:pt x="23713" y="14015"/>
                </a:cubicBezTo>
                <a:cubicBezTo>
                  <a:pt x="23833" y="13991"/>
                  <a:pt x="23913" y="13943"/>
                  <a:pt x="24036" y="13965"/>
                </a:cubicBezTo>
                <a:cubicBezTo>
                  <a:pt x="24028" y="14114"/>
                  <a:pt x="24037" y="14292"/>
                  <a:pt x="23837" y="14312"/>
                </a:cubicBezTo>
                <a:cubicBezTo>
                  <a:pt x="23725" y="14290"/>
                  <a:pt x="23694" y="14289"/>
                  <a:pt x="23639" y="14238"/>
                </a:cubicBezTo>
              </a:path>
              <a:path w="4714" h="1985">
                <a:moveTo>
                  <a:pt x="24383" y="13643"/>
                </a:moveTo>
                <a:cubicBezTo>
                  <a:pt x="24298" y="13670"/>
                  <a:pt x="24268" y="13689"/>
                  <a:pt x="24259" y="13767"/>
                </a:cubicBezTo>
                <a:cubicBezTo>
                  <a:pt x="24322" y="13867"/>
                  <a:pt x="24459" y="13898"/>
                  <a:pt x="24507" y="13742"/>
                </a:cubicBezTo>
                <a:cubicBezTo>
                  <a:pt x="24535" y="13649"/>
                  <a:pt x="24343" y="13575"/>
                  <a:pt x="24309" y="13519"/>
                </a:cubicBezTo>
                <a:cubicBezTo>
                  <a:pt x="24500" y="13479"/>
                  <a:pt x="24759" y="13439"/>
                  <a:pt x="24705" y="13742"/>
                </a:cubicBezTo>
                <a:cubicBezTo>
                  <a:pt x="24670" y="13940"/>
                  <a:pt x="24543" y="14105"/>
                  <a:pt x="24433" y="14263"/>
                </a:cubicBezTo>
              </a:path>
              <a:path w="4714" h="1985">
                <a:moveTo>
                  <a:pt x="24780" y="14163"/>
                </a:moveTo>
                <a:cubicBezTo>
                  <a:pt x="24737" y="14227"/>
                  <a:pt x="24721" y="14238"/>
                  <a:pt x="24730" y="14288"/>
                </a:cubicBezTo>
                <a:cubicBezTo>
                  <a:pt x="24795" y="14317"/>
                  <a:pt x="25032" y="14225"/>
                  <a:pt x="24929" y="14114"/>
                </a:cubicBezTo>
                <a:cubicBezTo>
                  <a:pt x="24904" y="14114"/>
                  <a:pt x="24879" y="14114"/>
                  <a:pt x="24854" y="1411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599080" y="5562720"/>
            <a:ext cx="1893960" cy="795240"/>
          </a:xfrm>
          <a:custGeom>
            <a:avLst/>
            <a:gdLst/>
            <a:ahLst/>
            <a:rect l="l" t="t" r="r" b="b"/>
            <a:pathLst>
              <a:path w="5259" h="2209">
                <a:moveTo>
                  <a:pt x="16396" y="17661"/>
                </a:moveTo>
                <a:cubicBezTo>
                  <a:pt x="16418" y="17486"/>
                  <a:pt x="16404" y="17343"/>
                  <a:pt x="16396" y="17165"/>
                </a:cubicBezTo>
                <a:cubicBezTo>
                  <a:pt x="16391" y="17060"/>
                  <a:pt x="16382" y="16911"/>
                  <a:pt x="16371" y="16818"/>
                </a:cubicBezTo>
                <a:cubicBezTo>
                  <a:pt x="16665" y="16849"/>
                  <a:pt x="16886" y="16862"/>
                  <a:pt x="17190" y="16818"/>
                </a:cubicBezTo>
                <a:cubicBezTo>
                  <a:pt x="17653" y="16751"/>
                  <a:pt x="18113" y="16683"/>
                  <a:pt x="18579" y="16644"/>
                </a:cubicBezTo>
                <a:cubicBezTo>
                  <a:pt x="18813" y="16625"/>
                  <a:pt x="19042" y="16606"/>
                  <a:pt x="19273" y="16570"/>
                </a:cubicBezTo>
              </a:path>
              <a:path w="5259" h="2209">
                <a:moveTo>
                  <a:pt x="15677" y="17090"/>
                </a:moveTo>
                <a:cubicBezTo>
                  <a:pt x="15660" y="17229"/>
                  <a:pt x="15645" y="17255"/>
                  <a:pt x="15553" y="17363"/>
                </a:cubicBezTo>
                <a:cubicBezTo>
                  <a:pt x="15675" y="17373"/>
                  <a:pt x="15821" y="17332"/>
                  <a:pt x="15949" y="17289"/>
                </a:cubicBezTo>
              </a:path>
              <a:path w="5259" h="2209">
                <a:moveTo>
                  <a:pt x="15974" y="16917"/>
                </a:moveTo>
                <a:cubicBezTo>
                  <a:pt x="15922" y="17110"/>
                  <a:pt x="15875" y="17334"/>
                  <a:pt x="15850" y="17537"/>
                </a:cubicBezTo>
                <a:cubicBezTo>
                  <a:pt x="15850" y="17562"/>
                  <a:pt x="15850" y="17586"/>
                  <a:pt x="15850" y="17611"/>
                </a:cubicBezTo>
              </a:path>
              <a:path w="5259" h="2209">
                <a:moveTo>
                  <a:pt x="17289" y="16619"/>
                </a:moveTo>
                <a:cubicBezTo>
                  <a:pt x="17247" y="16730"/>
                  <a:pt x="17310" y="16774"/>
                  <a:pt x="17338" y="16619"/>
                </a:cubicBezTo>
                <a:cubicBezTo>
                  <a:pt x="17368" y="16457"/>
                  <a:pt x="17270" y="16584"/>
                  <a:pt x="17239" y="16619"/>
                </a:cubicBezTo>
                <a:cubicBezTo>
                  <a:pt x="17256" y="16705"/>
                  <a:pt x="17310" y="16715"/>
                  <a:pt x="17338" y="16619"/>
                </a:cubicBezTo>
                <a:cubicBezTo>
                  <a:pt x="17338" y="16603"/>
                  <a:pt x="17338" y="16586"/>
                  <a:pt x="17338" y="16570"/>
                </a:cubicBezTo>
                <a:cubicBezTo>
                  <a:pt x="17323" y="16586"/>
                  <a:pt x="17196" y="16778"/>
                  <a:pt x="17289" y="16718"/>
                </a:cubicBezTo>
                <a:cubicBezTo>
                  <a:pt x="17328" y="16679"/>
                  <a:pt x="17344" y="16678"/>
                  <a:pt x="17338" y="16644"/>
                </a:cubicBezTo>
              </a:path>
              <a:path w="5259" h="2209">
                <a:moveTo>
                  <a:pt x="17587" y="16173"/>
                </a:moveTo>
                <a:cubicBezTo>
                  <a:pt x="17587" y="16231"/>
                  <a:pt x="17587" y="16239"/>
                  <a:pt x="17587" y="16272"/>
                </a:cubicBezTo>
                <a:cubicBezTo>
                  <a:pt x="17587" y="16133"/>
                  <a:pt x="17547" y="16085"/>
                  <a:pt x="17686" y="16024"/>
                </a:cubicBezTo>
                <a:cubicBezTo>
                  <a:pt x="17757" y="15993"/>
                  <a:pt x="17837" y="15965"/>
                  <a:pt x="17909" y="15949"/>
                </a:cubicBezTo>
                <a:cubicBezTo>
                  <a:pt x="17896" y="16148"/>
                  <a:pt x="17810" y="16281"/>
                  <a:pt x="17760" y="16470"/>
                </a:cubicBezTo>
                <a:cubicBezTo>
                  <a:pt x="17760" y="16512"/>
                  <a:pt x="17760" y="16520"/>
                  <a:pt x="17760" y="16545"/>
                </a:cubicBezTo>
              </a:path>
              <a:path w="5259" h="2209">
                <a:moveTo>
                  <a:pt x="18331" y="16098"/>
                </a:moveTo>
                <a:cubicBezTo>
                  <a:pt x="18189" y="16140"/>
                  <a:pt x="18140" y="16133"/>
                  <a:pt x="18107" y="16247"/>
                </a:cubicBezTo>
                <a:cubicBezTo>
                  <a:pt x="18086" y="16312"/>
                  <a:pt x="18078" y="16328"/>
                  <a:pt x="18083" y="16371"/>
                </a:cubicBezTo>
                <a:cubicBezTo>
                  <a:pt x="18206" y="16361"/>
                  <a:pt x="18257" y="16319"/>
                  <a:pt x="18355" y="16371"/>
                </a:cubicBezTo>
                <a:cubicBezTo>
                  <a:pt x="18372" y="16379"/>
                  <a:pt x="18388" y="16388"/>
                  <a:pt x="18405" y="16396"/>
                </a:cubicBezTo>
                <a:cubicBezTo>
                  <a:pt x="18290" y="16579"/>
                  <a:pt x="18247" y="16608"/>
                  <a:pt x="18033" y="16619"/>
                </a:cubicBezTo>
              </a:path>
              <a:path w="5259" h="2209">
                <a:moveTo>
                  <a:pt x="17066" y="16842"/>
                </a:moveTo>
                <a:cubicBezTo>
                  <a:pt x="17151" y="16909"/>
                  <a:pt x="17234" y="16931"/>
                  <a:pt x="17338" y="16966"/>
                </a:cubicBezTo>
                <a:cubicBezTo>
                  <a:pt x="17491" y="17017"/>
                  <a:pt x="17651" y="16970"/>
                  <a:pt x="17810" y="16966"/>
                </a:cubicBezTo>
                <a:cubicBezTo>
                  <a:pt x="17946" y="16963"/>
                  <a:pt x="18048" y="16945"/>
                  <a:pt x="18182" y="16917"/>
                </a:cubicBezTo>
                <a:cubicBezTo>
                  <a:pt x="18342" y="16883"/>
                  <a:pt x="18519" y="16839"/>
                  <a:pt x="18653" y="16743"/>
                </a:cubicBezTo>
                <a:cubicBezTo>
                  <a:pt x="18811" y="16630"/>
                  <a:pt x="18915" y="16536"/>
                  <a:pt x="18951" y="16346"/>
                </a:cubicBezTo>
                <a:cubicBezTo>
                  <a:pt x="18993" y="16127"/>
                  <a:pt x="18957" y="15977"/>
                  <a:pt x="18827" y="15801"/>
                </a:cubicBezTo>
                <a:cubicBezTo>
                  <a:pt x="18706" y="15636"/>
                  <a:pt x="18554" y="15531"/>
                  <a:pt x="18355" y="15478"/>
                </a:cubicBezTo>
                <a:cubicBezTo>
                  <a:pt x="18158" y="15426"/>
                  <a:pt x="17905" y="15442"/>
                  <a:pt x="17711" y="15503"/>
                </a:cubicBezTo>
                <a:cubicBezTo>
                  <a:pt x="17529" y="15561"/>
                  <a:pt x="17308" y="15666"/>
                  <a:pt x="17190" y="15825"/>
                </a:cubicBezTo>
                <a:cubicBezTo>
                  <a:pt x="17106" y="15939"/>
                  <a:pt x="17056" y="16109"/>
                  <a:pt x="17041" y="16247"/>
                </a:cubicBezTo>
                <a:cubicBezTo>
                  <a:pt x="17031" y="16338"/>
                  <a:pt x="17029" y="16486"/>
                  <a:pt x="17066" y="16570"/>
                </a:cubicBezTo>
                <a:cubicBezTo>
                  <a:pt x="17100" y="16646"/>
                  <a:pt x="17225" y="16745"/>
                  <a:pt x="17289" y="16793"/>
                </a:cubicBezTo>
              </a:path>
              <a:path w="5259" h="2209">
                <a:moveTo>
                  <a:pt x="19149" y="16371"/>
                </a:moveTo>
                <a:cubicBezTo>
                  <a:pt x="19239" y="16351"/>
                  <a:pt x="19297" y="16321"/>
                  <a:pt x="19397" y="16321"/>
                </a:cubicBezTo>
              </a:path>
              <a:path w="5259" h="2209">
                <a:moveTo>
                  <a:pt x="19224" y="16570"/>
                </a:moveTo>
                <a:cubicBezTo>
                  <a:pt x="19365" y="16522"/>
                  <a:pt x="19407" y="16509"/>
                  <a:pt x="19496" y="16470"/>
                </a:cubicBezTo>
              </a:path>
              <a:path w="5259" h="2209">
                <a:moveTo>
                  <a:pt x="19918" y="15949"/>
                </a:moveTo>
                <a:cubicBezTo>
                  <a:pt x="20011" y="15976"/>
                  <a:pt x="20095" y="15992"/>
                  <a:pt x="20191" y="15999"/>
                </a:cubicBezTo>
                <a:cubicBezTo>
                  <a:pt x="20204" y="16130"/>
                  <a:pt x="20203" y="16194"/>
                  <a:pt x="20166" y="16321"/>
                </a:cubicBezTo>
              </a:path>
              <a:path w="5259" h="2209">
                <a:moveTo>
                  <a:pt x="20340" y="15999"/>
                </a:moveTo>
                <a:cubicBezTo>
                  <a:pt x="20379" y="16079"/>
                  <a:pt x="20514" y="16075"/>
                  <a:pt x="20563" y="16173"/>
                </a:cubicBezTo>
                <a:cubicBezTo>
                  <a:pt x="20563" y="16198"/>
                  <a:pt x="20563" y="16222"/>
                  <a:pt x="20563" y="16247"/>
                </a:cubicBezTo>
              </a:path>
              <a:path w="5259" h="2209">
                <a:moveTo>
                  <a:pt x="20340" y="15974"/>
                </a:moveTo>
                <a:cubicBezTo>
                  <a:pt x="20555" y="15930"/>
                  <a:pt x="20618" y="15913"/>
                  <a:pt x="20811" y="15999"/>
                </a:cubicBezTo>
              </a:path>
              <a:path w="5259" h="2209">
                <a:moveTo>
                  <a:pt x="19720" y="16768"/>
                </a:moveTo>
                <a:cubicBezTo>
                  <a:pt x="20024" y="16675"/>
                  <a:pt x="20295" y="16607"/>
                  <a:pt x="20613" y="1659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40280" y="6081840"/>
            <a:ext cx="723960" cy="490320"/>
          </a:xfrm>
          <a:custGeom>
            <a:avLst/>
            <a:gdLst/>
            <a:ahLst/>
            <a:rect l="l" t="t" r="r" b="b"/>
            <a:pathLst>
              <a:path w="2010" h="1365">
                <a:moveTo>
                  <a:pt x="16842" y="17041"/>
                </a:moveTo>
                <a:cubicBezTo>
                  <a:pt x="16975" y="16979"/>
                  <a:pt x="17007" y="16971"/>
                  <a:pt x="17140" y="17016"/>
                </a:cubicBezTo>
                <a:cubicBezTo>
                  <a:pt x="17082" y="17180"/>
                  <a:pt x="17053" y="17207"/>
                  <a:pt x="16917" y="17314"/>
                </a:cubicBezTo>
                <a:cubicBezTo>
                  <a:pt x="17018" y="17267"/>
                  <a:pt x="17187" y="17215"/>
                  <a:pt x="17140" y="17413"/>
                </a:cubicBezTo>
                <a:cubicBezTo>
                  <a:pt x="17089" y="17626"/>
                  <a:pt x="16787" y="17543"/>
                  <a:pt x="16644" y="17512"/>
                </a:cubicBezTo>
              </a:path>
              <a:path w="2010" h="1365">
                <a:moveTo>
                  <a:pt x="17314" y="17487"/>
                </a:moveTo>
                <a:cubicBezTo>
                  <a:pt x="17355" y="17453"/>
                  <a:pt x="17425" y="17388"/>
                  <a:pt x="17314" y="17462"/>
                </a:cubicBezTo>
              </a:path>
              <a:path w="2010" h="1365">
                <a:moveTo>
                  <a:pt x="17661" y="16991"/>
                </a:moveTo>
                <a:cubicBezTo>
                  <a:pt x="17494" y="16928"/>
                  <a:pt x="17477" y="17128"/>
                  <a:pt x="17438" y="17264"/>
                </a:cubicBezTo>
                <a:cubicBezTo>
                  <a:pt x="17416" y="17372"/>
                  <a:pt x="17403" y="17398"/>
                  <a:pt x="17438" y="17462"/>
                </a:cubicBezTo>
                <a:cubicBezTo>
                  <a:pt x="17613" y="17472"/>
                  <a:pt x="17827" y="17434"/>
                  <a:pt x="17810" y="17190"/>
                </a:cubicBezTo>
                <a:cubicBezTo>
                  <a:pt x="17797" y="17005"/>
                  <a:pt x="17640" y="17003"/>
                  <a:pt x="17512" y="17041"/>
                </a:cubicBezTo>
              </a:path>
              <a:path w="2010" h="1365">
                <a:moveTo>
                  <a:pt x="16892" y="17711"/>
                </a:moveTo>
                <a:cubicBezTo>
                  <a:pt x="17023" y="17689"/>
                  <a:pt x="17092" y="17704"/>
                  <a:pt x="17115" y="17859"/>
                </a:cubicBezTo>
                <a:cubicBezTo>
                  <a:pt x="17138" y="18015"/>
                  <a:pt x="16993" y="18132"/>
                  <a:pt x="16842" y="18132"/>
                </a:cubicBezTo>
                <a:cubicBezTo>
                  <a:pt x="16754" y="18132"/>
                  <a:pt x="16735" y="18092"/>
                  <a:pt x="16718" y="18033"/>
                </a:cubicBezTo>
                <a:cubicBezTo>
                  <a:pt x="16840" y="17955"/>
                  <a:pt x="16934" y="17927"/>
                  <a:pt x="17066" y="18008"/>
                </a:cubicBezTo>
                <a:cubicBezTo>
                  <a:pt x="17074" y="18016"/>
                  <a:pt x="17082" y="18025"/>
                  <a:pt x="17090" y="18033"/>
                </a:cubicBezTo>
              </a:path>
              <a:path w="2010" h="1365">
                <a:moveTo>
                  <a:pt x="17562" y="17636"/>
                </a:moveTo>
                <a:cubicBezTo>
                  <a:pt x="17410" y="17655"/>
                  <a:pt x="17336" y="17686"/>
                  <a:pt x="17239" y="17810"/>
                </a:cubicBezTo>
                <a:cubicBezTo>
                  <a:pt x="17318" y="17831"/>
                  <a:pt x="17682" y="17848"/>
                  <a:pt x="17587" y="18008"/>
                </a:cubicBezTo>
                <a:cubicBezTo>
                  <a:pt x="17478" y="18094"/>
                  <a:pt x="17456" y="18127"/>
                  <a:pt x="17363" y="18107"/>
                </a:cubicBezTo>
                <a:cubicBezTo>
                  <a:pt x="17314" y="17961"/>
                  <a:pt x="17467" y="17832"/>
                  <a:pt x="17438" y="17686"/>
                </a:cubicBezTo>
                <a:cubicBezTo>
                  <a:pt x="17421" y="17669"/>
                  <a:pt x="17405" y="17653"/>
                  <a:pt x="17388" y="17636"/>
                </a:cubicBezTo>
              </a:path>
              <a:path w="2010" h="1365">
                <a:moveTo>
                  <a:pt x="16272" y="18231"/>
                </a:moveTo>
                <a:cubicBezTo>
                  <a:pt x="16511" y="18231"/>
                  <a:pt x="16755" y="18261"/>
                  <a:pt x="16991" y="18256"/>
                </a:cubicBezTo>
                <a:cubicBezTo>
                  <a:pt x="17280" y="18250"/>
                  <a:pt x="17560" y="18188"/>
                  <a:pt x="17835" y="18107"/>
                </a:cubicBezTo>
              </a:path>
              <a:path w="2010" h="1365">
                <a:moveTo>
                  <a:pt x="16222" y="17959"/>
                </a:moveTo>
                <a:cubicBezTo>
                  <a:pt x="16267" y="18062"/>
                  <a:pt x="16336" y="18036"/>
                  <a:pt x="16446" y="18008"/>
                </a:cubicBezTo>
              </a:path>
              <a:path w="2010" h="1365">
                <a:moveTo>
                  <a:pt x="18182" y="16991"/>
                </a:moveTo>
                <a:cubicBezTo>
                  <a:pt x="18111" y="16912"/>
                  <a:pt x="18131" y="16936"/>
                  <a:pt x="18058" y="16892"/>
                </a:cubicBezTo>
                <a:cubicBezTo>
                  <a:pt x="17986" y="17087"/>
                  <a:pt x="17950" y="17209"/>
                  <a:pt x="17959" y="17413"/>
                </a:cubicBezTo>
                <a:cubicBezTo>
                  <a:pt x="18101" y="17372"/>
                  <a:pt x="18303" y="17271"/>
                  <a:pt x="18182" y="17090"/>
                </a:cubicBezTo>
                <a:cubicBezTo>
                  <a:pt x="18157" y="17074"/>
                  <a:pt x="18132" y="17057"/>
                  <a:pt x="18107" y="17041"/>
                </a:cubicBezTo>
              </a:path>
              <a:path w="2010" h="1365">
                <a:moveTo>
                  <a:pt x="18107" y="17512"/>
                </a:moveTo>
                <a:cubicBezTo>
                  <a:pt x="18073" y="17710"/>
                  <a:pt x="18040" y="17907"/>
                  <a:pt x="18033" y="18107"/>
                </a:cubicBezTo>
                <a:cubicBezTo>
                  <a:pt x="18033" y="18149"/>
                  <a:pt x="18033" y="18157"/>
                  <a:pt x="18033" y="18182"/>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072200" y="5983200"/>
            <a:ext cx="608040" cy="357120"/>
          </a:xfrm>
          <a:custGeom>
            <a:avLst/>
            <a:gdLst/>
            <a:ahLst/>
            <a:rect l="l" t="t" r="r" b="b"/>
            <a:pathLst>
              <a:path w="1688" h="993">
                <a:moveTo>
                  <a:pt x="19893" y="17016"/>
                </a:moveTo>
                <a:cubicBezTo>
                  <a:pt x="19806" y="17213"/>
                  <a:pt x="19747" y="17423"/>
                  <a:pt x="19645" y="17611"/>
                </a:cubicBezTo>
              </a:path>
              <a:path w="1688" h="993">
                <a:moveTo>
                  <a:pt x="20117" y="17041"/>
                </a:moveTo>
                <a:cubicBezTo>
                  <a:pt x="20072" y="17153"/>
                  <a:pt x="20034" y="17246"/>
                  <a:pt x="20017" y="17363"/>
                </a:cubicBezTo>
                <a:cubicBezTo>
                  <a:pt x="20120" y="17341"/>
                  <a:pt x="20368" y="17256"/>
                  <a:pt x="20241" y="17090"/>
                </a:cubicBezTo>
                <a:cubicBezTo>
                  <a:pt x="20166" y="17066"/>
                  <a:pt x="20142" y="17058"/>
                  <a:pt x="20092" y="17090"/>
                </a:cubicBezTo>
              </a:path>
              <a:path w="1688" h="993">
                <a:moveTo>
                  <a:pt x="20389" y="16942"/>
                </a:moveTo>
                <a:cubicBezTo>
                  <a:pt x="20357" y="17043"/>
                  <a:pt x="20234" y="17340"/>
                  <a:pt x="20489" y="17264"/>
                </a:cubicBezTo>
                <a:cubicBezTo>
                  <a:pt x="20715" y="17197"/>
                  <a:pt x="20681" y="17029"/>
                  <a:pt x="20538" y="16917"/>
                </a:cubicBezTo>
                <a:cubicBezTo>
                  <a:pt x="20522" y="16909"/>
                  <a:pt x="20505" y="16900"/>
                  <a:pt x="20489" y="16892"/>
                </a:cubicBezTo>
              </a:path>
              <a:path w="1688" h="993">
                <a:moveTo>
                  <a:pt x="21059" y="16669"/>
                </a:moveTo>
                <a:cubicBezTo>
                  <a:pt x="21166" y="16642"/>
                  <a:pt x="21207" y="16632"/>
                  <a:pt x="21282" y="16619"/>
                </a:cubicBezTo>
              </a:path>
              <a:path w="1688" h="993">
                <a:moveTo>
                  <a:pt x="21233" y="16842"/>
                </a:moveTo>
                <a:cubicBezTo>
                  <a:pt x="21266" y="16826"/>
                  <a:pt x="21299" y="16809"/>
                  <a:pt x="21332" y="1679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867800" y="5796000"/>
            <a:ext cx="588960" cy="258840"/>
          </a:xfrm>
          <a:custGeom>
            <a:avLst/>
            <a:gdLst/>
            <a:ahLst/>
            <a:rect l="l" t="t" r="r" b="b"/>
            <a:pathLst>
              <a:path w="1638" h="721">
                <a:moveTo>
                  <a:pt x="21853" y="16421"/>
                </a:moveTo>
                <a:cubicBezTo>
                  <a:pt x="21960" y="16382"/>
                  <a:pt x="22062" y="16337"/>
                  <a:pt x="22175" y="16321"/>
                </a:cubicBezTo>
                <a:cubicBezTo>
                  <a:pt x="22186" y="16426"/>
                  <a:pt x="22072" y="16761"/>
                  <a:pt x="22101" y="16818"/>
                </a:cubicBezTo>
                <a:cubicBezTo>
                  <a:pt x="22118" y="16810"/>
                  <a:pt x="22134" y="16801"/>
                  <a:pt x="22151" y="16793"/>
                </a:cubicBezTo>
              </a:path>
              <a:path w="1638" h="721">
                <a:moveTo>
                  <a:pt x="22721" y="16222"/>
                </a:moveTo>
                <a:cubicBezTo>
                  <a:pt x="22584" y="16308"/>
                  <a:pt x="22503" y="16271"/>
                  <a:pt x="22448" y="16421"/>
                </a:cubicBezTo>
                <a:cubicBezTo>
                  <a:pt x="22429" y="16495"/>
                  <a:pt x="22421" y="16502"/>
                  <a:pt x="22423" y="16545"/>
                </a:cubicBezTo>
                <a:cubicBezTo>
                  <a:pt x="22567" y="16545"/>
                  <a:pt x="22662" y="16530"/>
                  <a:pt x="22796" y="16570"/>
                </a:cubicBezTo>
                <a:cubicBezTo>
                  <a:pt x="22756" y="16729"/>
                  <a:pt x="22611" y="16821"/>
                  <a:pt x="22423" y="16768"/>
                </a:cubicBezTo>
                <a:cubicBezTo>
                  <a:pt x="22390" y="16743"/>
                  <a:pt x="22357" y="16719"/>
                  <a:pt x="22324" y="16694"/>
                </a:cubicBezTo>
              </a:path>
              <a:path w="1638" h="721">
                <a:moveTo>
                  <a:pt x="22920" y="16098"/>
                </a:moveTo>
                <a:cubicBezTo>
                  <a:pt x="22880" y="16178"/>
                  <a:pt x="22858" y="16235"/>
                  <a:pt x="22845" y="16321"/>
                </a:cubicBezTo>
                <a:cubicBezTo>
                  <a:pt x="22936" y="16311"/>
                  <a:pt x="23077" y="16275"/>
                  <a:pt x="22994" y="16148"/>
                </a:cubicBezTo>
                <a:cubicBezTo>
                  <a:pt x="22977" y="16140"/>
                  <a:pt x="22961" y="16131"/>
                  <a:pt x="22944" y="16123"/>
                </a:cubicBezTo>
                <a:cubicBezTo>
                  <a:pt x="23131" y="16111"/>
                  <a:pt x="23277" y="16209"/>
                  <a:pt x="23242" y="16446"/>
                </a:cubicBezTo>
                <a:cubicBezTo>
                  <a:pt x="23219" y="16606"/>
                  <a:pt x="23105" y="16699"/>
                  <a:pt x="22994" y="16793"/>
                </a:cubicBezTo>
              </a:path>
              <a:path w="1638" h="721">
                <a:moveTo>
                  <a:pt x="23416" y="16619"/>
                </a:moveTo>
                <a:cubicBezTo>
                  <a:pt x="23416" y="16716"/>
                  <a:pt x="23389" y="16720"/>
                  <a:pt x="23490" y="16669"/>
                </a:cubicBezTo>
                <a:cubicBezTo>
                  <a:pt x="23490" y="16617"/>
                  <a:pt x="23488" y="16599"/>
                  <a:pt x="23440" y="1659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249960" y="6589800"/>
            <a:ext cx="144360" cy="152280"/>
          </a:xfrm>
          <a:custGeom>
            <a:avLst/>
            <a:gdLst/>
            <a:ahLst/>
            <a:rect l="l" t="t" r="r" b="b"/>
            <a:pathLst>
              <a:path w="398" h="423">
                <a:moveTo>
                  <a:pt x="17388" y="18380"/>
                </a:moveTo>
                <a:cubicBezTo>
                  <a:pt x="17475" y="18318"/>
                  <a:pt x="17509" y="18319"/>
                  <a:pt x="17611" y="18306"/>
                </a:cubicBezTo>
                <a:cubicBezTo>
                  <a:pt x="17663" y="18537"/>
                  <a:pt x="17589" y="18597"/>
                  <a:pt x="17388" y="18728"/>
                </a:cubicBezTo>
                <a:cubicBezTo>
                  <a:pt x="17361" y="18555"/>
                  <a:pt x="17438" y="18552"/>
                  <a:pt x="17611" y="18579"/>
                </a:cubicBezTo>
                <a:cubicBezTo>
                  <a:pt x="17690" y="18591"/>
                  <a:pt x="17726" y="18631"/>
                  <a:pt x="17760" y="1857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456240" y="6589800"/>
            <a:ext cx="88920" cy="135000"/>
          </a:xfrm>
          <a:custGeom>
            <a:avLst/>
            <a:gdLst/>
            <a:ahLst/>
            <a:rect l="l" t="t" r="r" b="b"/>
            <a:pathLst>
              <a:path w="249" h="373">
                <a:moveTo>
                  <a:pt x="18157" y="18380"/>
                </a:moveTo>
                <a:cubicBezTo>
                  <a:pt x="18041" y="18336"/>
                  <a:pt x="18006" y="18381"/>
                  <a:pt x="17959" y="18504"/>
                </a:cubicBezTo>
                <a:cubicBezTo>
                  <a:pt x="17936" y="18596"/>
                  <a:pt x="17925" y="18621"/>
                  <a:pt x="17959" y="18678"/>
                </a:cubicBezTo>
                <a:cubicBezTo>
                  <a:pt x="18051" y="18641"/>
                  <a:pt x="18277" y="18470"/>
                  <a:pt x="18157" y="18331"/>
                </a:cubicBezTo>
                <a:cubicBezTo>
                  <a:pt x="18124" y="18323"/>
                  <a:pt x="18091" y="18314"/>
                  <a:pt x="18058" y="18306"/>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143760" y="6715080"/>
            <a:ext cx="54000" cy="19080"/>
          </a:xfrm>
          <a:custGeom>
            <a:avLst/>
            <a:gdLst/>
            <a:ahLst/>
            <a:rect l="l" t="t" r="r" b="b"/>
            <a:pathLst>
              <a:path w="149" h="51">
                <a:moveTo>
                  <a:pt x="17066" y="18703"/>
                </a:moveTo>
                <a:cubicBezTo>
                  <a:pt x="17136" y="18656"/>
                  <a:pt x="17155" y="18639"/>
                  <a:pt x="17214" y="18653"/>
                </a:cubicBezTo>
              </a:path>
            </a:pathLst>
          </a:custGeom>
          <a:noFill/>
          <a:ln cap="rnd" w="34920">
            <a:solidFill>
              <a:srgbClr val="ff00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9" name=""/>
          <p:cNvSpPr/>
          <p:nvPr/>
        </p:nvSpPr>
        <p:spPr>
          <a:xfrm>
            <a:off x="6581880" y="6643800"/>
            <a:ext cx="106200" cy="152280"/>
          </a:xfrm>
          <a:custGeom>
            <a:avLst/>
            <a:gdLst/>
            <a:ahLst/>
            <a:rect l="l" t="t" r="r" b="b"/>
            <a:pathLst>
              <a:path w="299" h="422">
                <a:moveTo>
                  <a:pt x="18579" y="18455"/>
                </a:moveTo>
                <a:cubicBezTo>
                  <a:pt x="18490" y="18632"/>
                  <a:pt x="18424" y="18741"/>
                  <a:pt x="18281" y="18876"/>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518160" y="6705720"/>
            <a:ext cx="73080" cy="73080"/>
          </a:xfrm>
          <a:custGeom>
            <a:avLst/>
            <a:gdLst/>
            <a:ahLst/>
            <a:rect l="l" t="t" r="r" b="b"/>
            <a:pathLst>
              <a:path w="200" h="200">
                <a:moveTo>
                  <a:pt x="18231" y="18628"/>
                </a:moveTo>
                <a:cubicBezTo>
                  <a:pt x="18181" y="18692"/>
                  <a:pt x="18166" y="18747"/>
                  <a:pt x="18157" y="18827"/>
                </a:cubicBezTo>
                <a:cubicBezTo>
                  <a:pt x="18277" y="18800"/>
                  <a:pt x="18307" y="18771"/>
                  <a:pt x="18281" y="18653"/>
                </a:cubicBezTo>
                <a:cubicBezTo>
                  <a:pt x="18189" y="18653"/>
                  <a:pt x="18162" y="18651"/>
                  <a:pt x="18107" y="18678"/>
                </a:cubicBezTo>
              </a:path>
            </a:pathLst>
          </a:custGeom>
          <a:noFill/>
          <a:ln cap="rnd" w="34920">
            <a:solidFill>
              <a:srgbClr val="ff00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1" name=""/>
          <p:cNvSpPr/>
          <p:nvPr/>
        </p:nvSpPr>
        <p:spPr>
          <a:xfrm>
            <a:off x="6340320" y="6750000"/>
            <a:ext cx="88920" cy="54000"/>
          </a:xfrm>
          <a:custGeom>
            <a:avLst/>
            <a:gdLst/>
            <a:ahLst/>
            <a:rect l="l" t="t" r="r" b="b"/>
            <a:pathLst>
              <a:path w="249" h="150">
                <a:moveTo>
                  <a:pt x="17611" y="18802"/>
                </a:moveTo>
                <a:cubicBezTo>
                  <a:pt x="17682" y="18784"/>
                  <a:pt x="17696" y="18726"/>
                  <a:pt x="17785" y="18777"/>
                </a:cubicBezTo>
                <a:cubicBezTo>
                  <a:pt x="17926" y="18858"/>
                  <a:pt x="17744" y="18898"/>
                  <a:pt x="17686" y="18901"/>
                </a:cubicBezTo>
                <a:cubicBezTo>
                  <a:pt x="17557" y="18907"/>
                  <a:pt x="17822" y="18880"/>
                  <a:pt x="17859" y="18876"/>
                </a:cubicBezTo>
              </a:path>
            </a:pathLst>
          </a:custGeom>
          <a:noFill/>
          <a:ln cap="rnd" w="34920">
            <a:solidFill>
              <a:srgbClr val="ff00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2" name=""/>
          <p:cNvSpPr/>
          <p:nvPr/>
        </p:nvSpPr>
        <p:spPr>
          <a:xfrm>
            <a:off x="6705720" y="6732720"/>
            <a:ext cx="73080" cy="63360"/>
          </a:xfrm>
          <a:custGeom>
            <a:avLst/>
            <a:gdLst/>
            <a:ahLst/>
            <a:rect l="l" t="t" r="r" b="b"/>
            <a:pathLst>
              <a:path w="200" h="174">
                <a:moveTo>
                  <a:pt x="18752" y="18752"/>
                </a:moveTo>
                <a:cubicBezTo>
                  <a:pt x="18683" y="18799"/>
                  <a:pt x="18663" y="18811"/>
                  <a:pt x="18628" y="18852"/>
                </a:cubicBezTo>
                <a:cubicBezTo>
                  <a:pt x="18680" y="18860"/>
                  <a:pt x="18943" y="18861"/>
                  <a:pt x="18802" y="18728"/>
                </a:cubicBezTo>
                <a:cubicBezTo>
                  <a:pt x="18777" y="18720"/>
                  <a:pt x="18753" y="18711"/>
                  <a:pt x="18728" y="18703"/>
                </a:cubicBezTo>
              </a:path>
            </a:pathLst>
          </a:custGeom>
          <a:noFill/>
          <a:ln cap="rnd" w="34920">
            <a:solidFill>
              <a:srgbClr val="ff00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85800" y="5335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ive :  Students will </a:t>
            </a:r>
            <a:r>
              <a:rPr b="0" i="1" lang="en-US" sz="2000" spc="-1" strike="noStrike">
                <a:solidFill>
                  <a:srgbClr val="000000"/>
                </a:solidFill>
                <a:latin typeface="Times New Roman"/>
              </a:rPr>
              <a:t>write fractions as decimals and percents, and vice versa.</a:t>
            </a:r>
            <a:endParaRPr b="0" lang="en-US" sz="2000" spc="-1" strike="noStrike">
              <a:solidFill>
                <a:srgbClr val="000000"/>
              </a:solidFill>
              <a:latin typeface="Times New Roman"/>
            </a:endParaRPr>
          </a:p>
        </p:txBody>
      </p:sp>
      <p:sp>
        <p:nvSpPr>
          <p:cNvPr id="134" name=""/>
          <p:cNvSpPr/>
          <p:nvPr/>
        </p:nvSpPr>
        <p:spPr>
          <a:xfrm>
            <a:off x="990720" y="1600200"/>
            <a:ext cx="6781680" cy="4038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convert decimals to percents you multiply a decimal by 100 to find the parts of 100 ….  Shortcut …. Move the decimal 2 spaces to the right and add a % symbol.</a:t>
            </a:r>
            <a:endParaRPr b="0" lang="en-US" sz="3200" spc="-1" strike="noStrike">
              <a:solidFill>
                <a:srgbClr val="000000"/>
              </a:solidFill>
              <a:latin typeface="Times New Roman"/>
            </a:endParaRPr>
          </a:p>
        </p:txBody>
      </p:sp>
      <p:sp>
        <p:nvSpPr>
          <p:cNvPr id="135" name=""/>
          <p:cNvSpPr/>
          <p:nvPr/>
        </p:nvSpPr>
        <p:spPr>
          <a:xfrm>
            <a:off x="2971800" y="42670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2 = 82%</a:t>
            </a:r>
            <a:endParaRPr b="0" lang="en-US" sz="2400" spc="-1" strike="noStrike">
              <a:solidFill>
                <a:srgbClr val="000000"/>
              </a:solidFill>
              <a:latin typeface="Times New Roman"/>
            </a:endParaRPr>
          </a:p>
        </p:txBody>
      </p:sp>
      <p:sp>
        <p:nvSpPr>
          <p:cNvPr id="136" name=""/>
          <p:cNvSpPr/>
          <p:nvPr/>
        </p:nvSpPr>
        <p:spPr>
          <a:xfrm>
            <a:off x="330120" y="5491080"/>
            <a:ext cx="1258920" cy="617760"/>
          </a:xfrm>
          <a:custGeom>
            <a:avLst/>
            <a:gdLst/>
            <a:ahLst/>
            <a:rect l="l" t="t" r="r" b="b"/>
            <a:pathLst>
              <a:path w="3498" h="1712">
                <a:moveTo>
                  <a:pt x="1042" y="15304"/>
                </a:moveTo>
                <a:cubicBezTo>
                  <a:pt x="1146" y="15253"/>
                  <a:pt x="1184" y="15237"/>
                  <a:pt x="1265" y="15280"/>
                </a:cubicBezTo>
                <a:cubicBezTo>
                  <a:pt x="1272" y="15471"/>
                  <a:pt x="1280" y="15832"/>
                  <a:pt x="1042" y="15925"/>
                </a:cubicBezTo>
                <a:cubicBezTo>
                  <a:pt x="1009" y="15917"/>
                  <a:pt x="976" y="15908"/>
                  <a:pt x="943" y="15900"/>
                </a:cubicBezTo>
                <a:cubicBezTo>
                  <a:pt x="930" y="15709"/>
                  <a:pt x="984" y="15684"/>
                  <a:pt x="1166" y="15751"/>
                </a:cubicBezTo>
                <a:cubicBezTo>
                  <a:pt x="1207" y="15768"/>
                  <a:pt x="1249" y="15784"/>
                  <a:pt x="1290" y="15801"/>
                </a:cubicBezTo>
              </a:path>
              <a:path w="3498" h="1712">
                <a:moveTo>
                  <a:pt x="1191" y="15329"/>
                </a:moveTo>
                <a:cubicBezTo>
                  <a:pt x="1341" y="15321"/>
                  <a:pt x="1498" y="15279"/>
                  <a:pt x="1637" y="15304"/>
                </a:cubicBezTo>
                <a:cubicBezTo>
                  <a:pt x="1701" y="15494"/>
                  <a:pt x="1608" y="15665"/>
                  <a:pt x="1538" y="15850"/>
                </a:cubicBezTo>
              </a:path>
              <a:path w="3498" h="1712">
                <a:moveTo>
                  <a:pt x="943" y="16024"/>
                </a:moveTo>
                <a:cubicBezTo>
                  <a:pt x="1252" y="15926"/>
                  <a:pt x="1469" y="15880"/>
                  <a:pt x="1786" y="15949"/>
                </a:cubicBezTo>
              </a:path>
              <a:path w="3498" h="1712">
                <a:moveTo>
                  <a:pt x="1067" y="16396"/>
                </a:moveTo>
                <a:cubicBezTo>
                  <a:pt x="1190" y="16371"/>
                  <a:pt x="1231" y="16363"/>
                  <a:pt x="1315" y="16371"/>
                </a:cubicBezTo>
                <a:cubicBezTo>
                  <a:pt x="1370" y="16540"/>
                  <a:pt x="1326" y="16759"/>
                  <a:pt x="1166" y="16892"/>
                </a:cubicBezTo>
                <a:cubicBezTo>
                  <a:pt x="1133" y="16900"/>
                  <a:pt x="1100" y="16909"/>
                  <a:pt x="1067" y="16917"/>
                </a:cubicBezTo>
                <a:cubicBezTo>
                  <a:pt x="1092" y="16778"/>
                  <a:pt x="1173" y="16563"/>
                  <a:pt x="1364" y="16669"/>
                </a:cubicBezTo>
                <a:cubicBezTo>
                  <a:pt x="1387" y="16736"/>
                  <a:pt x="1398" y="16754"/>
                  <a:pt x="1364" y="16793"/>
                </a:cubicBezTo>
              </a:path>
              <a:path w="3498" h="1712">
                <a:moveTo>
                  <a:pt x="1687" y="16371"/>
                </a:moveTo>
                <a:cubicBezTo>
                  <a:pt x="1593" y="16424"/>
                  <a:pt x="1519" y="16473"/>
                  <a:pt x="1439" y="16545"/>
                </a:cubicBezTo>
                <a:cubicBezTo>
                  <a:pt x="1490" y="16611"/>
                  <a:pt x="1721" y="16795"/>
                  <a:pt x="1662" y="16892"/>
                </a:cubicBezTo>
                <a:cubicBezTo>
                  <a:pt x="1576" y="16956"/>
                  <a:pt x="1559" y="16981"/>
                  <a:pt x="1488" y="16966"/>
                </a:cubicBezTo>
                <a:cubicBezTo>
                  <a:pt x="1518" y="16777"/>
                  <a:pt x="1631" y="16669"/>
                  <a:pt x="1687" y="16495"/>
                </a:cubicBezTo>
                <a:cubicBezTo>
                  <a:pt x="1687" y="16479"/>
                  <a:pt x="1687" y="16462"/>
                  <a:pt x="1687" y="16446"/>
                </a:cubicBezTo>
              </a:path>
              <a:path w="3498" h="1712">
                <a:moveTo>
                  <a:pt x="2084" y="16073"/>
                </a:moveTo>
                <a:cubicBezTo>
                  <a:pt x="2183" y="16049"/>
                  <a:pt x="2216" y="16041"/>
                  <a:pt x="2282" y="16024"/>
                </a:cubicBezTo>
              </a:path>
              <a:path w="3498" h="1712">
                <a:moveTo>
                  <a:pt x="2084" y="16346"/>
                </a:moveTo>
                <a:cubicBezTo>
                  <a:pt x="2206" y="16298"/>
                  <a:pt x="2245" y="16282"/>
                  <a:pt x="2332" y="16272"/>
                </a:cubicBezTo>
              </a:path>
              <a:path w="3498" h="1712">
                <a:moveTo>
                  <a:pt x="2927" y="16346"/>
                </a:moveTo>
                <a:cubicBezTo>
                  <a:pt x="2980" y="16479"/>
                  <a:pt x="3009" y="16458"/>
                  <a:pt x="3076" y="16346"/>
                </a:cubicBezTo>
                <a:cubicBezTo>
                  <a:pt x="3029" y="16393"/>
                  <a:pt x="3015" y="16405"/>
                  <a:pt x="3001" y="16446"/>
                </a:cubicBezTo>
              </a:path>
              <a:path w="3498" h="1712">
                <a:moveTo>
                  <a:pt x="3646" y="15900"/>
                </a:moveTo>
                <a:cubicBezTo>
                  <a:pt x="3610" y="15772"/>
                  <a:pt x="3489" y="15815"/>
                  <a:pt x="3398" y="15900"/>
                </a:cubicBezTo>
                <a:cubicBezTo>
                  <a:pt x="3338" y="15981"/>
                  <a:pt x="3303" y="15994"/>
                  <a:pt x="3349" y="16049"/>
                </a:cubicBezTo>
                <a:cubicBezTo>
                  <a:pt x="3535" y="16048"/>
                  <a:pt x="3592" y="15989"/>
                  <a:pt x="3696" y="15825"/>
                </a:cubicBezTo>
                <a:cubicBezTo>
                  <a:pt x="3705" y="16021"/>
                  <a:pt x="3722" y="16181"/>
                  <a:pt x="3671" y="16371"/>
                </a:cubicBezTo>
              </a:path>
              <a:path w="3498" h="1712">
                <a:moveTo>
                  <a:pt x="4068" y="15825"/>
                </a:moveTo>
                <a:cubicBezTo>
                  <a:pt x="4058" y="15978"/>
                  <a:pt x="3989" y="16146"/>
                  <a:pt x="3994" y="16297"/>
                </a:cubicBezTo>
                <a:cubicBezTo>
                  <a:pt x="4002" y="16313"/>
                  <a:pt x="4010" y="16330"/>
                  <a:pt x="4018" y="16346"/>
                </a:cubicBezTo>
                <a:cubicBezTo>
                  <a:pt x="4257" y="16359"/>
                  <a:pt x="4341" y="16297"/>
                  <a:pt x="4415" y="16073"/>
                </a:cubicBezTo>
                <a:cubicBezTo>
                  <a:pt x="4209" y="16074"/>
                  <a:pt x="4173" y="16151"/>
                  <a:pt x="4142" y="16346"/>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054240" y="4562640"/>
            <a:ext cx="44640" cy="72720"/>
          </a:xfrm>
          <a:custGeom>
            <a:avLst/>
            <a:gdLst/>
            <a:ahLst/>
            <a:rect l="l" t="t" r="r" b="b"/>
            <a:pathLst>
              <a:path w="125" h="200">
                <a:moveTo>
                  <a:pt x="8533" y="12774"/>
                </a:moveTo>
                <a:cubicBezTo>
                  <a:pt x="8552" y="12681"/>
                  <a:pt x="8473" y="12778"/>
                  <a:pt x="8533" y="12849"/>
                </a:cubicBezTo>
                <a:cubicBezTo>
                  <a:pt x="8593" y="12779"/>
                  <a:pt x="8605" y="12576"/>
                  <a:pt x="8508" y="12725"/>
                </a:cubicBezTo>
                <a:cubicBezTo>
                  <a:pt x="8487" y="12809"/>
                  <a:pt x="8472" y="12828"/>
                  <a:pt x="8508" y="12874"/>
                </a:cubicBezTo>
                <a:cubicBezTo>
                  <a:pt x="8538" y="12862"/>
                  <a:pt x="8682" y="12734"/>
                  <a:pt x="8582" y="12700"/>
                </a:cubicBezTo>
                <a:cubicBezTo>
                  <a:pt x="8472" y="12663"/>
                  <a:pt x="8529" y="12950"/>
                  <a:pt x="8582" y="12774"/>
                </a:cubicBezTo>
                <a:cubicBezTo>
                  <a:pt x="8582" y="12735"/>
                  <a:pt x="8571" y="12738"/>
                  <a:pt x="8533" y="12799"/>
                </a:cubicBezTo>
              </a:path>
            </a:pathLst>
          </a:custGeom>
          <a:noFill/>
          <a:ln cap="rnd" w="34920">
            <a:solidFill>
              <a:srgbClr val="ff00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8" name=""/>
          <p:cNvSpPr/>
          <p:nvPr/>
        </p:nvSpPr>
        <p:spPr>
          <a:xfrm>
            <a:off x="3821040" y="3036960"/>
            <a:ext cx="1420920" cy="160200"/>
          </a:xfrm>
          <a:custGeom>
            <a:avLst/>
            <a:gdLst/>
            <a:ahLst/>
            <a:rect l="l" t="t" r="r" b="b"/>
            <a:pathLst>
              <a:path w="3945" h="447">
                <a:moveTo>
                  <a:pt x="10616" y="8632"/>
                </a:moveTo>
                <a:cubicBezTo>
                  <a:pt x="10743" y="8626"/>
                  <a:pt x="10862" y="8593"/>
                  <a:pt x="10988" y="8582"/>
                </a:cubicBezTo>
                <a:cubicBezTo>
                  <a:pt x="11127" y="8570"/>
                  <a:pt x="11271" y="8562"/>
                  <a:pt x="11410" y="8558"/>
                </a:cubicBezTo>
                <a:cubicBezTo>
                  <a:pt x="11544" y="8554"/>
                  <a:pt x="11676" y="8531"/>
                  <a:pt x="11807" y="8508"/>
                </a:cubicBezTo>
                <a:cubicBezTo>
                  <a:pt x="11928" y="8487"/>
                  <a:pt x="12057" y="8470"/>
                  <a:pt x="12179" y="8458"/>
                </a:cubicBezTo>
                <a:cubicBezTo>
                  <a:pt x="12295" y="8447"/>
                  <a:pt x="12411" y="8437"/>
                  <a:pt x="12526" y="8434"/>
                </a:cubicBezTo>
                <a:cubicBezTo>
                  <a:pt x="12685" y="8430"/>
                  <a:pt x="12842" y="8428"/>
                  <a:pt x="12998" y="8458"/>
                </a:cubicBezTo>
                <a:cubicBezTo>
                  <a:pt x="13124" y="8482"/>
                  <a:pt x="13242" y="8522"/>
                  <a:pt x="13370" y="8533"/>
                </a:cubicBezTo>
                <a:cubicBezTo>
                  <a:pt x="13528" y="8546"/>
                  <a:pt x="13683" y="8560"/>
                  <a:pt x="13841" y="8582"/>
                </a:cubicBezTo>
                <a:cubicBezTo>
                  <a:pt x="14025" y="8608"/>
                  <a:pt x="14202" y="8607"/>
                  <a:pt x="14387" y="8607"/>
                </a:cubicBezTo>
                <a:cubicBezTo>
                  <a:pt x="14445" y="8607"/>
                  <a:pt x="14502" y="8607"/>
                  <a:pt x="14560" y="8607"/>
                </a:cubicBezTo>
              </a:path>
              <a:path w="3945" h="447">
                <a:moveTo>
                  <a:pt x="10988" y="8880"/>
                </a:moveTo>
                <a:cubicBezTo>
                  <a:pt x="11150" y="8834"/>
                  <a:pt x="11317" y="8816"/>
                  <a:pt x="11485" y="8806"/>
                </a:cubicBezTo>
                <a:cubicBezTo>
                  <a:pt x="11656" y="8796"/>
                  <a:pt x="11835" y="8800"/>
                  <a:pt x="12005" y="8781"/>
                </a:cubicBezTo>
                <a:cubicBezTo>
                  <a:pt x="12126" y="8767"/>
                  <a:pt x="12259" y="8775"/>
                  <a:pt x="12378" y="8756"/>
                </a:cubicBezTo>
                <a:cubicBezTo>
                  <a:pt x="12493" y="8738"/>
                  <a:pt x="12609" y="8714"/>
                  <a:pt x="12725" y="8706"/>
                </a:cubicBezTo>
                <a:cubicBezTo>
                  <a:pt x="12820" y="8699"/>
                  <a:pt x="12887" y="8708"/>
                  <a:pt x="12973" y="8731"/>
                </a:cubicBezTo>
                <a:cubicBezTo>
                  <a:pt x="13055" y="8753"/>
                  <a:pt x="13161" y="8775"/>
                  <a:pt x="13246" y="8781"/>
                </a:cubicBezTo>
                <a:cubicBezTo>
                  <a:pt x="13573" y="8806"/>
                  <a:pt x="13910" y="8781"/>
                  <a:pt x="14238" y="8781"/>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347920" y="4276800"/>
            <a:ext cx="903240" cy="2189160"/>
          </a:xfrm>
          <a:custGeom>
            <a:avLst/>
            <a:gdLst/>
            <a:ahLst/>
            <a:rect l="l" t="t" r="r" b="b"/>
            <a:pathLst>
              <a:path w="2506" h="6079">
                <a:moveTo>
                  <a:pt x="7367" y="12502"/>
                </a:moveTo>
                <a:cubicBezTo>
                  <a:pt x="7187" y="12669"/>
                  <a:pt x="7158" y="12777"/>
                  <a:pt x="7169" y="13022"/>
                </a:cubicBezTo>
                <a:cubicBezTo>
                  <a:pt x="7324" y="13015"/>
                  <a:pt x="7638" y="12880"/>
                  <a:pt x="7441" y="12650"/>
                </a:cubicBezTo>
                <a:cubicBezTo>
                  <a:pt x="7350" y="12628"/>
                  <a:pt x="7324" y="12617"/>
                  <a:pt x="7268" y="12650"/>
                </a:cubicBezTo>
              </a:path>
              <a:path w="2506" h="6079">
                <a:moveTo>
                  <a:pt x="7392" y="13196"/>
                </a:moveTo>
                <a:cubicBezTo>
                  <a:pt x="7484" y="13396"/>
                  <a:pt x="7534" y="13644"/>
                  <a:pt x="7565" y="13866"/>
                </a:cubicBezTo>
                <a:cubicBezTo>
                  <a:pt x="7610" y="14186"/>
                  <a:pt x="7676" y="14492"/>
                  <a:pt x="7739" y="14808"/>
                </a:cubicBezTo>
                <a:cubicBezTo>
                  <a:pt x="7786" y="15044"/>
                  <a:pt x="7829" y="15291"/>
                  <a:pt x="7863" y="15528"/>
                </a:cubicBezTo>
                <a:cubicBezTo>
                  <a:pt x="7863" y="15569"/>
                  <a:pt x="7863" y="15577"/>
                  <a:pt x="7863" y="15602"/>
                </a:cubicBezTo>
              </a:path>
              <a:path w="2506" h="6079">
                <a:moveTo>
                  <a:pt x="8037" y="16123"/>
                </a:moveTo>
                <a:cubicBezTo>
                  <a:pt x="8027" y="16025"/>
                  <a:pt x="8044" y="16046"/>
                  <a:pt x="7962" y="15999"/>
                </a:cubicBezTo>
                <a:cubicBezTo>
                  <a:pt x="7841" y="16048"/>
                  <a:pt x="7853" y="16183"/>
                  <a:pt x="7888" y="16297"/>
                </a:cubicBezTo>
                <a:cubicBezTo>
                  <a:pt x="7938" y="16396"/>
                  <a:pt x="7955" y="16429"/>
                  <a:pt x="8037" y="16446"/>
                </a:cubicBezTo>
                <a:cubicBezTo>
                  <a:pt x="8135" y="16354"/>
                  <a:pt x="8332" y="16170"/>
                  <a:pt x="8161" y="16024"/>
                </a:cubicBezTo>
                <a:cubicBezTo>
                  <a:pt x="8062" y="15999"/>
                  <a:pt x="8028" y="15991"/>
                  <a:pt x="7962" y="16024"/>
                </a:cubicBezTo>
              </a:path>
              <a:path w="2506" h="6079">
                <a:moveTo>
                  <a:pt x="7193" y="12030"/>
                </a:moveTo>
                <a:cubicBezTo>
                  <a:pt x="7175" y="12091"/>
                  <a:pt x="7169" y="12136"/>
                  <a:pt x="7169" y="12204"/>
                </a:cubicBezTo>
                <a:cubicBezTo>
                  <a:pt x="7297" y="12184"/>
                  <a:pt x="7348" y="12159"/>
                  <a:pt x="7466" y="12105"/>
                </a:cubicBezTo>
              </a:path>
              <a:path w="2506" h="6079">
                <a:moveTo>
                  <a:pt x="7441" y="11881"/>
                </a:moveTo>
                <a:cubicBezTo>
                  <a:pt x="7425" y="12048"/>
                  <a:pt x="7417" y="12209"/>
                  <a:pt x="7417" y="12378"/>
                </a:cubicBezTo>
              </a:path>
              <a:path w="2506" h="6079">
                <a:moveTo>
                  <a:pt x="8012" y="16842"/>
                </a:moveTo>
                <a:cubicBezTo>
                  <a:pt x="8125" y="16777"/>
                  <a:pt x="8187" y="16737"/>
                  <a:pt x="8310" y="16718"/>
                </a:cubicBezTo>
                <a:cubicBezTo>
                  <a:pt x="8278" y="16910"/>
                  <a:pt x="8194" y="16996"/>
                  <a:pt x="8062" y="17140"/>
                </a:cubicBezTo>
                <a:cubicBezTo>
                  <a:pt x="8197" y="17117"/>
                  <a:pt x="8297" y="17041"/>
                  <a:pt x="8409" y="16966"/>
                </a:cubicBezTo>
              </a:path>
              <a:path w="2506" h="6079">
                <a:moveTo>
                  <a:pt x="7119" y="16818"/>
                </a:moveTo>
                <a:cubicBezTo>
                  <a:pt x="7176" y="17037"/>
                  <a:pt x="7124" y="17239"/>
                  <a:pt x="7317" y="17165"/>
                </a:cubicBezTo>
              </a:path>
              <a:path w="2506" h="6079">
                <a:moveTo>
                  <a:pt x="7615" y="16842"/>
                </a:moveTo>
                <a:cubicBezTo>
                  <a:pt x="7615" y="16950"/>
                  <a:pt x="7634" y="17057"/>
                  <a:pt x="7640" y="17165"/>
                </a:cubicBezTo>
              </a:path>
              <a:path w="2506" h="6079">
                <a:moveTo>
                  <a:pt x="6945" y="17388"/>
                </a:moveTo>
                <a:cubicBezTo>
                  <a:pt x="7352" y="17373"/>
                  <a:pt x="7756" y="17311"/>
                  <a:pt x="8161" y="17289"/>
                </a:cubicBezTo>
                <a:cubicBezTo>
                  <a:pt x="8348" y="17279"/>
                  <a:pt x="8543" y="17289"/>
                  <a:pt x="8731" y="17289"/>
                </a:cubicBezTo>
              </a:path>
              <a:path w="2506" h="6079">
                <a:moveTo>
                  <a:pt x="6524" y="17066"/>
                </a:moveTo>
                <a:cubicBezTo>
                  <a:pt x="6598" y="17097"/>
                  <a:pt x="6685" y="17090"/>
                  <a:pt x="6772" y="17090"/>
                </a:cubicBezTo>
              </a:path>
              <a:path w="2506" h="6079">
                <a:moveTo>
                  <a:pt x="8260" y="17636"/>
                </a:moveTo>
                <a:cubicBezTo>
                  <a:pt x="8293" y="17581"/>
                  <a:pt x="8295" y="17551"/>
                  <a:pt x="8359" y="17512"/>
                </a:cubicBezTo>
                <a:cubicBezTo>
                  <a:pt x="8376" y="17504"/>
                  <a:pt x="8392" y="17495"/>
                  <a:pt x="8409" y="17487"/>
                </a:cubicBezTo>
                <a:cubicBezTo>
                  <a:pt x="8277" y="17504"/>
                  <a:pt x="8178" y="17539"/>
                  <a:pt x="8062" y="17611"/>
                </a:cubicBezTo>
                <a:cubicBezTo>
                  <a:pt x="8219" y="17717"/>
                  <a:pt x="8420" y="17713"/>
                  <a:pt x="8582" y="17810"/>
                </a:cubicBezTo>
                <a:cubicBezTo>
                  <a:pt x="8590" y="17826"/>
                  <a:pt x="8599" y="17843"/>
                  <a:pt x="8607" y="17859"/>
                </a:cubicBezTo>
                <a:cubicBezTo>
                  <a:pt x="8523" y="17937"/>
                  <a:pt x="8285" y="18057"/>
                  <a:pt x="8285" y="17810"/>
                </a:cubicBezTo>
                <a:cubicBezTo>
                  <a:pt x="8285" y="17713"/>
                  <a:pt x="8369" y="17576"/>
                  <a:pt x="8409" y="17487"/>
                </a:cubicBezTo>
              </a:path>
              <a:path w="2506" h="6079">
                <a:moveTo>
                  <a:pt x="8533" y="12576"/>
                </a:moveTo>
                <a:lnTo>
                  <a:pt x="8533" y="12576"/>
                </a:lnTo>
              </a:path>
              <a:path w="2506" h="6079">
                <a:moveTo>
                  <a:pt x="8533" y="12551"/>
                </a:moveTo>
                <a:lnTo>
                  <a:pt x="8533" y="12551"/>
                </a:lnTo>
              </a:path>
              <a:path w="2506" h="6079">
                <a:moveTo>
                  <a:pt x="7962" y="12626"/>
                </a:moveTo>
                <a:cubicBezTo>
                  <a:pt x="7964" y="12463"/>
                  <a:pt x="7784" y="12716"/>
                  <a:pt x="7764" y="12774"/>
                </a:cubicBezTo>
                <a:cubicBezTo>
                  <a:pt x="7741" y="12914"/>
                  <a:pt x="7727" y="12956"/>
                  <a:pt x="7813" y="13022"/>
                </a:cubicBezTo>
                <a:cubicBezTo>
                  <a:pt x="7891" y="12981"/>
                  <a:pt x="8315" y="12664"/>
                  <a:pt x="7962" y="12626"/>
                </a:cubicBezTo>
                <a:cubicBezTo>
                  <a:pt x="7921" y="12642"/>
                  <a:pt x="7879" y="12659"/>
                  <a:pt x="7838" y="12675"/>
                </a:cubicBezTo>
              </a:path>
              <a:path w="2506" h="6079">
                <a:moveTo>
                  <a:pt x="7938" y="13146"/>
                </a:moveTo>
                <a:cubicBezTo>
                  <a:pt x="7985" y="13364"/>
                  <a:pt x="7993" y="13570"/>
                  <a:pt x="8012" y="13791"/>
                </a:cubicBezTo>
                <a:cubicBezTo>
                  <a:pt x="8034" y="14056"/>
                  <a:pt x="8074" y="14319"/>
                  <a:pt x="8086" y="14585"/>
                </a:cubicBezTo>
                <a:cubicBezTo>
                  <a:pt x="8095" y="14783"/>
                  <a:pt x="8111" y="14984"/>
                  <a:pt x="8136" y="15180"/>
                </a:cubicBezTo>
                <a:cubicBezTo>
                  <a:pt x="8159" y="15363"/>
                  <a:pt x="8185" y="15543"/>
                  <a:pt x="8210" y="15726"/>
                </a:cubicBezTo>
                <a:cubicBezTo>
                  <a:pt x="8252" y="16035"/>
                  <a:pt x="8318" y="16339"/>
                  <a:pt x="8384" y="16644"/>
                </a:cubicBezTo>
                <a:cubicBezTo>
                  <a:pt x="8415" y="16787"/>
                  <a:pt x="8467" y="16905"/>
                  <a:pt x="8508" y="17041"/>
                </a:cubicBezTo>
                <a:cubicBezTo>
                  <a:pt x="8508" y="17057"/>
                  <a:pt x="8508" y="17074"/>
                  <a:pt x="8508" y="17090"/>
                </a:cubicBezTo>
              </a:path>
              <a:path w="2506" h="6079">
                <a:moveTo>
                  <a:pt x="8830" y="17661"/>
                </a:moveTo>
                <a:cubicBezTo>
                  <a:pt x="8830" y="17653"/>
                  <a:pt x="8830" y="17644"/>
                  <a:pt x="8830" y="17636"/>
                </a:cubicBezTo>
                <a:cubicBezTo>
                  <a:pt x="8730" y="17622"/>
                  <a:pt x="8711" y="17730"/>
                  <a:pt x="8756" y="17835"/>
                </a:cubicBezTo>
                <a:cubicBezTo>
                  <a:pt x="8836" y="18021"/>
                  <a:pt x="9002" y="17787"/>
                  <a:pt x="9029" y="17686"/>
                </a:cubicBezTo>
                <a:cubicBezTo>
                  <a:pt x="9060" y="17569"/>
                  <a:pt x="8917" y="17422"/>
                  <a:pt x="8806" y="17512"/>
                </a:cubicBezTo>
                <a:cubicBezTo>
                  <a:pt x="8736" y="17605"/>
                  <a:pt x="8711" y="17630"/>
                  <a:pt x="8731" y="17711"/>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28760" y="4214880"/>
            <a:ext cx="3170160" cy="1768320"/>
          </a:xfrm>
          <a:custGeom>
            <a:avLst/>
            <a:gdLst/>
            <a:ahLst/>
            <a:rect l="l" t="t" r="r" b="b"/>
            <a:pathLst>
              <a:path w="8806" h="4912">
                <a:moveTo>
                  <a:pt x="1786" y="11733"/>
                </a:moveTo>
                <a:cubicBezTo>
                  <a:pt x="1798" y="11762"/>
                  <a:pt x="2050" y="11774"/>
                  <a:pt x="2009" y="11981"/>
                </a:cubicBezTo>
                <a:cubicBezTo>
                  <a:pt x="1963" y="12213"/>
                  <a:pt x="1673" y="12384"/>
                  <a:pt x="1538" y="12278"/>
                </a:cubicBezTo>
                <a:cubicBezTo>
                  <a:pt x="1666" y="12097"/>
                  <a:pt x="1758" y="12053"/>
                  <a:pt x="1960" y="12204"/>
                </a:cubicBezTo>
                <a:cubicBezTo>
                  <a:pt x="2004" y="12249"/>
                  <a:pt x="2020" y="12259"/>
                  <a:pt x="2009" y="12303"/>
                </a:cubicBezTo>
              </a:path>
              <a:path w="8806" h="4912">
                <a:moveTo>
                  <a:pt x="2084" y="11757"/>
                </a:moveTo>
                <a:cubicBezTo>
                  <a:pt x="2189" y="11757"/>
                  <a:pt x="2280" y="11737"/>
                  <a:pt x="2381" y="11708"/>
                </a:cubicBezTo>
                <a:cubicBezTo>
                  <a:pt x="2381" y="11866"/>
                  <a:pt x="2355" y="11978"/>
                  <a:pt x="2307" y="12129"/>
                </a:cubicBezTo>
                <a:cubicBezTo>
                  <a:pt x="2290" y="12179"/>
                  <a:pt x="2274" y="12228"/>
                  <a:pt x="2257" y="12278"/>
                </a:cubicBezTo>
              </a:path>
              <a:path w="8806" h="4912">
                <a:moveTo>
                  <a:pt x="1191" y="12799"/>
                </a:moveTo>
                <a:cubicBezTo>
                  <a:pt x="1483" y="12719"/>
                  <a:pt x="1758" y="12661"/>
                  <a:pt x="2059" y="12626"/>
                </a:cubicBezTo>
                <a:cubicBezTo>
                  <a:pt x="2240" y="12606"/>
                  <a:pt x="2273" y="12597"/>
                  <a:pt x="2381" y="12601"/>
                </a:cubicBezTo>
              </a:path>
              <a:path w="8806" h="4912">
                <a:moveTo>
                  <a:pt x="1414" y="13022"/>
                </a:moveTo>
                <a:cubicBezTo>
                  <a:pt x="1611" y="12970"/>
                  <a:pt x="1688" y="12961"/>
                  <a:pt x="1836" y="13097"/>
                </a:cubicBezTo>
                <a:cubicBezTo>
                  <a:pt x="1700" y="13346"/>
                  <a:pt x="1572" y="13446"/>
                  <a:pt x="1315" y="13568"/>
                </a:cubicBezTo>
                <a:cubicBezTo>
                  <a:pt x="1379" y="13423"/>
                  <a:pt x="1527" y="13133"/>
                  <a:pt x="1712" y="13345"/>
                </a:cubicBezTo>
                <a:cubicBezTo>
                  <a:pt x="1754" y="13451"/>
                  <a:pt x="1770" y="13472"/>
                  <a:pt x="1761" y="13543"/>
                </a:cubicBezTo>
              </a:path>
              <a:path w="8806" h="4912">
                <a:moveTo>
                  <a:pt x="2059" y="12998"/>
                </a:moveTo>
                <a:cubicBezTo>
                  <a:pt x="1969" y="13065"/>
                  <a:pt x="1943" y="13080"/>
                  <a:pt x="1910" y="13146"/>
                </a:cubicBezTo>
                <a:cubicBezTo>
                  <a:pt x="1999" y="13196"/>
                  <a:pt x="2324" y="13301"/>
                  <a:pt x="2183" y="13469"/>
                </a:cubicBezTo>
                <a:cubicBezTo>
                  <a:pt x="2071" y="13536"/>
                  <a:pt x="2044" y="13564"/>
                  <a:pt x="1960" y="13519"/>
                </a:cubicBezTo>
                <a:cubicBezTo>
                  <a:pt x="1979" y="13347"/>
                  <a:pt x="2228" y="13197"/>
                  <a:pt x="2208" y="13022"/>
                </a:cubicBezTo>
                <a:cubicBezTo>
                  <a:pt x="2133" y="13022"/>
                  <a:pt x="2091" y="13027"/>
                  <a:pt x="2034" y="13047"/>
                </a:cubicBezTo>
              </a:path>
              <a:path w="8806" h="4912">
                <a:moveTo>
                  <a:pt x="4862" y="12948"/>
                </a:moveTo>
                <a:cubicBezTo>
                  <a:pt x="4953" y="12925"/>
                  <a:pt x="4979" y="12914"/>
                  <a:pt x="5035" y="12948"/>
                </a:cubicBezTo>
                <a:cubicBezTo>
                  <a:pt x="5035" y="13166"/>
                  <a:pt x="4970" y="13420"/>
                  <a:pt x="4688" y="13444"/>
                </a:cubicBezTo>
                <a:cubicBezTo>
                  <a:pt x="4688" y="13428"/>
                  <a:pt x="4688" y="13411"/>
                  <a:pt x="4688" y="13395"/>
                </a:cubicBezTo>
                <a:cubicBezTo>
                  <a:pt x="4815" y="13233"/>
                  <a:pt x="4870" y="13226"/>
                  <a:pt x="5060" y="13320"/>
                </a:cubicBezTo>
              </a:path>
              <a:path w="8806" h="4912">
                <a:moveTo>
                  <a:pt x="5184" y="12948"/>
                </a:moveTo>
                <a:cubicBezTo>
                  <a:pt x="5319" y="12908"/>
                  <a:pt x="5440" y="12860"/>
                  <a:pt x="5581" y="12849"/>
                </a:cubicBezTo>
                <a:cubicBezTo>
                  <a:pt x="5612" y="13000"/>
                  <a:pt x="5578" y="13141"/>
                  <a:pt x="5531" y="13295"/>
                </a:cubicBezTo>
                <a:cubicBezTo>
                  <a:pt x="5515" y="13336"/>
                  <a:pt x="5498" y="13378"/>
                  <a:pt x="5482" y="13419"/>
                </a:cubicBezTo>
              </a:path>
              <a:path w="8806" h="4912">
                <a:moveTo>
                  <a:pt x="4316" y="13717"/>
                </a:moveTo>
                <a:cubicBezTo>
                  <a:pt x="4275" y="13453"/>
                  <a:pt x="4187" y="13140"/>
                  <a:pt x="4217" y="12874"/>
                </a:cubicBezTo>
                <a:cubicBezTo>
                  <a:pt x="4230" y="12755"/>
                  <a:pt x="4407" y="12719"/>
                  <a:pt x="4514" y="12700"/>
                </a:cubicBezTo>
                <a:cubicBezTo>
                  <a:pt x="4932" y="12625"/>
                  <a:pt x="5380" y="12630"/>
                  <a:pt x="5804" y="12626"/>
                </a:cubicBezTo>
                <a:cubicBezTo>
                  <a:pt x="6072" y="12624"/>
                  <a:pt x="6333" y="12603"/>
                  <a:pt x="6598" y="12576"/>
                </a:cubicBezTo>
              </a:path>
              <a:path w="8806" h="4912">
                <a:moveTo>
                  <a:pt x="3200" y="13047"/>
                </a:moveTo>
                <a:cubicBezTo>
                  <a:pt x="3299" y="12998"/>
                  <a:pt x="3332" y="12982"/>
                  <a:pt x="3398" y="13047"/>
                </a:cubicBezTo>
                <a:cubicBezTo>
                  <a:pt x="3409" y="13297"/>
                  <a:pt x="3374" y="13529"/>
                  <a:pt x="3076" y="13593"/>
                </a:cubicBezTo>
                <a:cubicBezTo>
                  <a:pt x="3043" y="13585"/>
                  <a:pt x="3010" y="13576"/>
                  <a:pt x="2977" y="13568"/>
                </a:cubicBezTo>
                <a:cubicBezTo>
                  <a:pt x="3057" y="13396"/>
                  <a:pt x="3101" y="13363"/>
                  <a:pt x="3274" y="13469"/>
                </a:cubicBezTo>
                <a:cubicBezTo>
                  <a:pt x="3299" y="13486"/>
                  <a:pt x="3324" y="13502"/>
                  <a:pt x="3349" y="13519"/>
                </a:cubicBezTo>
              </a:path>
              <a:path w="8806" h="4912">
                <a:moveTo>
                  <a:pt x="3621" y="12948"/>
                </a:moveTo>
                <a:cubicBezTo>
                  <a:pt x="3529" y="12995"/>
                  <a:pt x="3500" y="13005"/>
                  <a:pt x="3473" y="13072"/>
                </a:cubicBezTo>
                <a:cubicBezTo>
                  <a:pt x="3532" y="13192"/>
                  <a:pt x="3688" y="13259"/>
                  <a:pt x="3696" y="13395"/>
                </a:cubicBezTo>
                <a:cubicBezTo>
                  <a:pt x="3671" y="13494"/>
                  <a:pt x="3663" y="13527"/>
                  <a:pt x="3572" y="13519"/>
                </a:cubicBezTo>
                <a:cubicBezTo>
                  <a:pt x="3518" y="13305"/>
                  <a:pt x="3626" y="13191"/>
                  <a:pt x="3746" y="12998"/>
                </a:cubicBezTo>
              </a:path>
              <a:path w="8806" h="4912">
                <a:moveTo>
                  <a:pt x="5854" y="13320"/>
                </a:moveTo>
                <a:cubicBezTo>
                  <a:pt x="5910" y="13247"/>
                  <a:pt x="5937" y="13249"/>
                  <a:pt x="5854" y="13221"/>
                </a:cubicBezTo>
              </a:path>
              <a:path w="8806" h="4912">
                <a:moveTo>
                  <a:pt x="5879" y="12477"/>
                </a:moveTo>
                <a:cubicBezTo>
                  <a:pt x="5786" y="12599"/>
                  <a:pt x="5883" y="12584"/>
                  <a:pt x="5879" y="12526"/>
                </a:cubicBezTo>
                <a:cubicBezTo>
                  <a:pt x="5871" y="12404"/>
                  <a:pt x="5812" y="12525"/>
                  <a:pt x="5804" y="12551"/>
                </a:cubicBezTo>
                <a:cubicBezTo>
                  <a:pt x="5862" y="12518"/>
                  <a:pt x="5911" y="12518"/>
                  <a:pt x="5829" y="12502"/>
                </a:cubicBezTo>
              </a:path>
              <a:path w="8806" h="4912">
                <a:moveTo>
                  <a:pt x="6176" y="12874"/>
                </a:moveTo>
                <a:cubicBezTo>
                  <a:pt x="6094" y="12941"/>
                  <a:pt x="6012" y="13149"/>
                  <a:pt x="6028" y="13271"/>
                </a:cubicBezTo>
                <a:cubicBezTo>
                  <a:pt x="6044" y="13296"/>
                  <a:pt x="6061" y="13320"/>
                  <a:pt x="6077" y="13345"/>
                </a:cubicBezTo>
                <a:cubicBezTo>
                  <a:pt x="6173" y="13313"/>
                  <a:pt x="6486" y="13138"/>
                  <a:pt x="6276" y="12998"/>
                </a:cubicBezTo>
                <a:cubicBezTo>
                  <a:pt x="6235" y="12990"/>
                  <a:pt x="6193" y="12981"/>
                  <a:pt x="6152" y="12973"/>
                </a:cubicBezTo>
              </a:path>
              <a:path w="8806" h="4912">
                <a:moveTo>
                  <a:pt x="6400" y="12080"/>
                </a:moveTo>
                <a:cubicBezTo>
                  <a:pt x="6383" y="11956"/>
                  <a:pt x="6374" y="11869"/>
                  <a:pt x="6226" y="11857"/>
                </a:cubicBezTo>
                <a:cubicBezTo>
                  <a:pt x="6039" y="11842"/>
                  <a:pt x="6002" y="12015"/>
                  <a:pt x="5978" y="12154"/>
                </a:cubicBezTo>
                <a:cubicBezTo>
                  <a:pt x="6142" y="12187"/>
                  <a:pt x="6227" y="12091"/>
                  <a:pt x="6325" y="11956"/>
                </a:cubicBezTo>
                <a:cubicBezTo>
                  <a:pt x="6333" y="11939"/>
                  <a:pt x="6342" y="11923"/>
                  <a:pt x="6350" y="11906"/>
                </a:cubicBezTo>
                <a:cubicBezTo>
                  <a:pt x="6350" y="12058"/>
                  <a:pt x="6336" y="12203"/>
                  <a:pt x="6325" y="12353"/>
                </a:cubicBezTo>
              </a:path>
              <a:path w="8806" h="4912">
                <a:moveTo>
                  <a:pt x="6201" y="13742"/>
                </a:moveTo>
                <a:lnTo>
                  <a:pt x="6201" y="13742"/>
                </a:lnTo>
              </a:path>
              <a:path w="8806" h="4912">
                <a:moveTo>
                  <a:pt x="6201" y="13742"/>
                </a:moveTo>
                <a:cubicBezTo>
                  <a:pt x="6254" y="13650"/>
                  <a:pt x="6285" y="13628"/>
                  <a:pt x="6375" y="13692"/>
                </a:cubicBezTo>
                <a:cubicBezTo>
                  <a:pt x="6500" y="13781"/>
                  <a:pt x="6294" y="13932"/>
                  <a:pt x="6226" y="13965"/>
                </a:cubicBezTo>
                <a:cubicBezTo>
                  <a:pt x="6144" y="13986"/>
                  <a:pt x="6111" y="14011"/>
                  <a:pt x="6127" y="13940"/>
                </a:cubicBezTo>
                <a:cubicBezTo>
                  <a:pt x="6198" y="13834"/>
                  <a:pt x="6301" y="13924"/>
                  <a:pt x="6424" y="13965"/>
                </a:cubicBezTo>
                <a:cubicBezTo>
                  <a:pt x="6432" y="13965"/>
                  <a:pt x="6441" y="13965"/>
                  <a:pt x="6449" y="13965"/>
                </a:cubicBezTo>
              </a:path>
              <a:path w="8806" h="4912">
                <a:moveTo>
                  <a:pt x="3101" y="12278"/>
                </a:moveTo>
                <a:cubicBezTo>
                  <a:pt x="3246" y="12262"/>
                  <a:pt x="3300" y="12163"/>
                  <a:pt x="3373" y="12353"/>
                </a:cubicBezTo>
                <a:cubicBezTo>
                  <a:pt x="3395" y="12485"/>
                  <a:pt x="3403" y="12517"/>
                  <a:pt x="3398" y="12601"/>
                </a:cubicBezTo>
              </a:path>
              <a:path w="8806" h="4912">
                <a:moveTo>
                  <a:pt x="4911" y="13816"/>
                </a:moveTo>
                <a:cubicBezTo>
                  <a:pt x="4911" y="13800"/>
                  <a:pt x="4911" y="13783"/>
                  <a:pt x="4911" y="13767"/>
                </a:cubicBezTo>
                <a:cubicBezTo>
                  <a:pt x="5029" y="13757"/>
                  <a:pt x="5148" y="13802"/>
                  <a:pt x="5110" y="13965"/>
                </a:cubicBezTo>
                <a:cubicBezTo>
                  <a:pt x="5077" y="14107"/>
                  <a:pt x="4889" y="14191"/>
                  <a:pt x="4837" y="14139"/>
                </a:cubicBezTo>
                <a:cubicBezTo>
                  <a:pt x="4890" y="13978"/>
                  <a:pt x="4972" y="13954"/>
                  <a:pt x="5135" y="14039"/>
                </a:cubicBezTo>
                <a:cubicBezTo>
                  <a:pt x="5159" y="14064"/>
                  <a:pt x="5167" y="14073"/>
                  <a:pt x="5184" y="14089"/>
                </a:cubicBezTo>
              </a:path>
              <a:path w="8806" h="4912">
                <a:moveTo>
                  <a:pt x="5482" y="13593"/>
                </a:moveTo>
                <a:cubicBezTo>
                  <a:pt x="5358" y="13629"/>
                  <a:pt x="5293" y="13649"/>
                  <a:pt x="5259" y="13791"/>
                </a:cubicBezTo>
                <a:cubicBezTo>
                  <a:pt x="5259" y="13816"/>
                  <a:pt x="5259" y="13841"/>
                  <a:pt x="5259" y="13866"/>
                </a:cubicBezTo>
                <a:cubicBezTo>
                  <a:pt x="5403" y="13834"/>
                  <a:pt x="5472" y="13784"/>
                  <a:pt x="5631" y="13791"/>
                </a:cubicBezTo>
                <a:cubicBezTo>
                  <a:pt x="5663" y="14006"/>
                  <a:pt x="5578" y="14011"/>
                  <a:pt x="5383" y="14064"/>
                </a:cubicBezTo>
              </a:path>
              <a:path w="8806" h="4912">
                <a:moveTo>
                  <a:pt x="4887" y="14436"/>
                </a:moveTo>
                <a:cubicBezTo>
                  <a:pt x="5358" y="14402"/>
                  <a:pt x="5810" y="14277"/>
                  <a:pt x="6276" y="14188"/>
                </a:cubicBezTo>
                <a:cubicBezTo>
                  <a:pt x="6480" y="14149"/>
                  <a:pt x="6539" y="14150"/>
                  <a:pt x="6722" y="14139"/>
                </a:cubicBezTo>
              </a:path>
              <a:path w="8806" h="4912">
                <a:moveTo>
                  <a:pt x="5333" y="12898"/>
                </a:moveTo>
                <a:cubicBezTo>
                  <a:pt x="5441" y="13054"/>
                  <a:pt x="5512" y="13192"/>
                  <a:pt x="5581" y="13370"/>
                </a:cubicBezTo>
              </a:path>
              <a:path w="8806" h="4912">
                <a:moveTo>
                  <a:pt x="5085" y="13271"/>
                </a:moveTo>
                <a:cubicBezTo>
                  <a:pt x="5049" y="13391"/>
                  <a:pt x="5066" y="13474"/>
                  <a:pt x="5110" y="13593"/>
                </a:cubicBezTo>
                <a:cubicBezTo>
                  <a:pt x="5167" y="13571"/>
                  <a:pt x="5487" y="13437"/>
                  <a:pt x="5358" y="13320"/>
                </a:cubicBezTo>
                <a:cubicBezTo>
                  <a:pt x="5260" y="13231"/>
                  <a:pt x="5260" y="13534"/>
                  <a:pt x="5259" y="13543"/>
                </a:cubicBezTo>
              </a:path>
              <a:path w="8806" h="4912">
                <a:moveTo>
                  <a:pt x="5854" y="12799"/>
                </a:moveTo>
                <a:cubicBezTo>
                  <a:pt x="5876" y="12906"/>
                  <a:pt x="5884" y="12930"/>
                  <a:pt x="5879" y="12998"/>
                </a:cubicBezTo>
              </a:path>
              <a:path w="8806" h="4912">
                <a:moveTo>
                  <a:pt x="6648" y="14412"/>
                </a:moveTo>
                <a:cubicBezTo>
                  <a:pt x="6503" y="14367"/>
                  <a:pt x="6436" y="14411"/>
                  <a:pt x="6325" y="14536"/>
                </a:cubicBezTo>
                <a:cubicBezTo>
                  <a:pt x="6419" y="14586"/>
                  <a:pt x="6689" y="14635"/>
                  <a:pt x="6648" y="14784"/>
                </a:cubicBezTo>
                <a:cubicBezTo>
                  <a:pt x="6631" y="14800"/>
                  <a:pt x="6615" y="14817"/>
                  <a:pt x="6598" y="14833"/>
                </a:cubicBezTo>
                <a:cubicBezTo>
                  <a:pt x="6409" y="14757"/>
                  <a:pt x="6545" y="14584"/>
                  <a:pt x="6598" y="14412"/>
                </a:cubicBezTo>
                <a:cubicBezTo>
                  <a:pt x="6598" y="14404"/>
                  <a:pt x="6598" y="14395"/>
                  <a:pt x="6598" y="14387"/>
                </a:cubicBezTo>
              </a:path>
              <a:path w="8806" h="4912">
                <a:moveTo>
                  <a:pt x="5804" y="14536"/>
                </a:moveTo>
                <a:cubicBezTo>
                  <a:pt x="5804" y="14693"/>
                  <a:pt x="5804" y="14850"/>
                  <a:pt x="5804" y="15007"/>
                </a:cubicBezTo>
              </a:path>
              <a:path w="8806" h="4912">
                <a:moveTo>
                  <a:pt x="6772" y="12799"/>
                </a:moveTo>
                <a:cubicBezTo>
                  <a:pt x="6619" y="12761"/>
                  <a:pt x="6580" y="12990"/>
                  <a:pt x="6598" y="13122"/>
                </a:cubicBezTo>
                <a:cubicBezTo>
                  <a:pt x="6615" y="13138"/>
                  <a:pt x="6631" y="13155"/>
                  <a:pt x="6648" y="13171"/>
                </a:cubicBezTo>
                <a:cubicBezTo>
                  <a:pt x="6826" y="13071"/>
                  <a:pt x="6928" y="12991"/>
                  <a:pt x="6772" y="12849"/>
                </a:cubicBezTo>
              </a:path>
              <a:path w="8806" h="4912">
                <a:moveTo>
                  <a:pt x="6772" y="13271"/>
                </a:moveTo>
                <a:cubicBezTo>
                  <a:pt x="6784" y="13509"/>
                  <a:pt x="6816" y="13750"/>
                  <a:pt x="6796" y="13990"/>
                </a:cubicBezTo>
                <a:cubicBezTo>
                  <a:pt x="6777" y="14089"/>
                  <a:pt x="6769" y="14104"/>
                  <a:pt x="6772" y="14163"/>
                </a:cubicBezTo>
              </a:path>
              <a:path w="8806" h="4912">
                <a:moveTo>
                  <a:pt x="6921" y="14337"/>
                </a:moveTo>
                <a:cubicBezTo>
                  <a:pt x="6833" y="14495"/>
                  <a:pt x="6832" y="14576"/>
                  <a:pt x="6896" y="14734"/>
                </a:cubicBezTo>
                <a:cubicBezTo>
                  <a:pt x="7038" y="14734"/>
                  <a:pt x="7202" y="14620"/>
                  <a:pt x="7119" y="14436"/>
                </a:cubicBezTo>
                <a:cubicBezTo>
                  <a:pt x="7066" y="14319"/>
                  <a:pt x="6983" y="14365"/>
                  <a:pt x="6896" y="14387"/>
                </a:cubicBezTo>
              </a:path>
              <a:path w="8806" h="4912">
                <a:moveTo>
                  <a:pt x="3150" y="12005"/>
                </a:moveTo>
                <a:cubicBezTo>
                  <a:pt x="3128" y="12087"/>
                  <a:pt x="3119" y="12169"/>
                  <a:pt x="3101" y="12254"/>
                </a:cubicBezTo>
                <a:cubicBezTo>
                  <a:pt x="3225" y="12223"/>
                  <a:pt x="3313" y="12193"/>
                  <a:pt x="3423" y="12129"/>
                </a:cubicBezTo>
              </a:path>
              <a:path w="8806" h="4912">
                <a:moveTo>
                  <a:pt x="3373" y="11931"/>
                </a:moveTo>
                <a:cubicBezTo>
                  <a:pt x="3373" y="12117"/>
                  <a:pt x="3373" y="12295"/>
                  <a:pt x="3398" y="12477"/>
                </a:cubicBezTo>
              </a:path>
              <a:path w="8806" h="4912">
                <a:moveTo>
                  <a:pt x="6772" y="12055"/>
                </a:moveTo>
                <a:cubicBezTo>
                  <a:pt x="6637" y="11978"/>
                  <a:pt x="6623" y="12268"/>
                  <a:pt x="6623" y="12402"/>
                </a:cubicBezTo>
                <a:cubicBezTo>
                  <a:pt x="6644" y="12486"/>
                  <a:pt x="6645" y="12505"/>
                  <a:pt x="6672" y="12551"/>
                </a:cubicBezTo>
                <a:cubicBezTo>
                  <a:pt x="6842" y="12527"/>
                  <a:pt x="6995" y="12498"/>
                  <a:pt x="7020" y="12303"/>
                </a:cubicBezTo>
                <a:cubicBezTo>
                  <a:pt x="6990" y="12273"/>
                  <a:pt x="6976" y="12262"/>
                  <a:pt x="6945" y="12254"/>
                </a:cubicBezTo>
                <a:cubicBezTo>
                  <a:pt x="6849" y="12370"/>
                  <a:pt x="6817" y="12403"/>
                  <a:pt x="6796" y="12551"/>
                </a:cubicBezTo>
              </a:path>
              <a:path w="8806" h="4912">
                <a:moveTo>
                  <a:pt x="7342" y="14982"/>
                </a:moveTo>
                <a:cubicBezTo>
                  <a:pt x="7224" y="15011"/>
                  <a:pt x="7162" y="15057"/>
                  <a:pt x="7069" y="15131"/>
                </a:cubicBezTo>
                <a:cubicBezTo>
                  <a:pt x="7146" y="15246"/>
                  <a:pt x="7373" y="15315"/>
                  <a:pt x="7342" y="15478"/>
                </a:cubicBezTo>
                <a:cubicBezTo>
                  <a:pt x="7326" y="15495"/>
                  <a:pt x="7309" y="15511"/>
                  <a:pt x="7293" y="15528"/>
                </a:cubicBezTo>
                <a:cubicBezTo>
                  <a:pt x="7145" y="15414"/>
                  <a:pt x="7262" y="15238"/>
                  <a:pt x="7317" y="15056"/>
                </a:cubicBezTo>
              </a:path>
              <a:path w="8806" h="4912">
                <a:moveTo>
                  <a:pt x="5978" y="15255"/>
                </a:moveTo>
                <a:cubicBezTo>
                  <a:pt x="6038" y="15194"/>
                  <a:pt x="6089" y="15481"/>
                  <a:pt x="6077" y="15602"/>
                </a:cubicBezTo>
                <a:cubicBezTo>
                  <a:pt x="6069" y="15619"/>
                  <a:pt x="6060" y="15635"/>
                  <a:pt x="6052" y="15652"/>
                </a:cubicBezTo>
              </a:path>
              <a:path w="8806" h="4912">
                <a:moveTo>
                  <a:pt x="6524" y="15230"/>
                </a:moveTo>
                <a:cubicBezTo>
                  <a:pt x="6548" y="15286"/>
                  <a:pt x="6555" y="15494"/>
                  <a:pt x="6623" y="15528"/>
                </a:cubicBezTo>
                <a:cubicBezTo>
                  <a:pt x="6729" y="15581"/>
                  <a:pt x="6784" y="15431"/>
                  <a:pt x="6821" y="15379"/>
                </a:cubicBezTo>
                <a:cubicBezTo>
                  <a:pt x="6821" y="15186"/>
                  <a:pt x="6570" y="15568"/>
                  <a:pt x="6548" y="15602"/>
                </a:cubicBezTo>
              </a:path>
              <a:path w="8806" h="4912">
                <a:moveTo>
                  <a:pt x="5904" y="15949"/>
                </a:moveTo>
                <a:cubicBezTo>
                  <a:pt x="6340" y="15875"/>
                  <a:pt x="6775" y="15838"/>
                  <a:pt x="7218" y="15825"/>
                </a:cubicBezTo>
                <a:cubicBezTo>
                  <a:pt x="7438" y="15818"/>
                  <a:pt x="7559" y="15834"/>
                  <a:pt x="7764" y="15850"/>
                </a:cubicBezTo>
              </a:path>
              <a:path w="8806" h="4912">
                <a:moveTo>
                  <a:pt x="6300" y="14188"/>
                </a:moveTo>
                <a:cubicBezTo>
                  <a:pt x="6440" y="14317"/>
                  <a:pt x="6552" y="14481"/>
                  <a:pt x="6672" y="14635"/>
                </a:cubicBezTo>
              </a:path>
              <a:path w="8806" h="4912">
                <a:moveTo>
                  <a:pt x="6003" y="14759"/>
                </a:moveTo>
                <a:cubicBezTo>
                  <a:pt x="6057" y="14718"/>
                  <a:pt x="6160" y="14683"/>
                  <a:pt x="6226" y="14660"/>
                </a:cubicBezTo>
                <a:cubicBezTo>
                  <a:pt x="6234" y="14660"/>
                  <a:pt x="6243" y="14660"/>
                  <a:pt x="6251" y="14660"/>
                </a:cubicBezTo>
                <a:cubicBezTo>
                  <a:pt x="6294" y="14779"/>
                  <a:pt x="6311" y="14862"/>
                  <a:pt x="6276" y="14982"/>
                </a:cubicBezTo>
              </a:path>
              <a:path w="8806" h="4912">
                <a:moveTo>
                  <a:pt x="6772" y="14114"/>
                </a:moveTo>
                <a:cubicBezTo>
                  <a:pt x="6737" y="14231"/>
                  <a:pt x="6722" y="14290"/>
                  <a:pt x="6722" y="14412"/>
                </a:cubicBezTo>
              </a:path>
              <a:path w="8806" h="4912">
                <a:moveTo>
                  <a:pt x="5159" y="15453"/>
                </a:moveTo>
                <a:cubicBezTo>
                  <a:pt x="5217" y="15453"/>
                  <a:pt x="5242" y="15453"/>
                  <a:pt x="5283" y="15453"/>
                </a:cubicBezTo>
              </a:path>
              <a:path w="8806" h="4912">
                <a:moveTo>
                  <a:pt x="7417" y="16197"/>
                </a:moveTo>
                <a:cubicBezTo>
                  <a:pt x="7509" y="16128"/>
                  <a:pt x="7534" y="16103"/>
                  <a:pt x="7615" y="16123"/>
                </a:cubicBezTo>
                <a:cubicBezTo>
                  <a:pt x="7649" y="16290"/>
                  <a:pt x="7560" y="16336"/>
                  <a:pt x="7441" y="16446"/>
                </a:cubicBezTo>
                <a:cubicBezTo>
                  <a:pt x="7425" y="16462"/>
                  <a:pt x="7408" y="16479"/>
                  <a:pt x="7392" y="16495"/>
                </a:cubicBezTo>
                <a:cubicBezTo>
                  <a:pt x="7496" y="16482"/>
                  <a:pt x="7583" y="16421"/>
                  <a:pt x="7689" y="16396"/>
                </a:cubicBezTo>
                <a:cubicBezTo>
                  <a:pt x="7697" y="16396"/>
                  <a:pt x="7706" y="16396"/>
                  <a:pt x="7714" y="16396"/>
                </a:cubicBezTo>
              </a:path>
              <a:path w="8806" h="4912">
                <a:moveTo>
                  <a:pt x="6921" y="16297"/>
                </a:moveTo>
                <a:cubicBezTo>
                  <a:pt x="6931" y="16406"/>
                  <a:pt x="6945" y="16509"/>
                  <a:pt x="6945" y="16619"/>
                </a:cubicBezTo>
              </a:path>
              <a:path w="8806" h="4912">
                <a:moveTo>
                  <a:pt x="2977" y="12129"/>
                </a:moveTo>
                <a:cubicBezTo>
                  <a:pt x="2976" y="12011"/>
                  <a:pt x="3104" y="11931"/>
                  <a:pt x="3249" y="11931"/>
                </a:cubicBezTo>
                <a:cubicBezTo>
                  <a:pt x="3266" y="11939"/>
                  <a:pt x="3282" y="11948"/>
                  <a:pt x="3299" y="11956"/>
                </a:cubicBezTo>
                <a:cubicBezTo>
                  <a:pt x="3361" y="12114"/>
                  <a:pt x="3312" y="12170"/>
                  <a:pt x="3200" y="12303"/>
                </a:cubicBezTo>
                <a:cubicBezTo>
                  <a:pt x="3200" y="12315"/>
                  <a:pt x="3321" y="12244"/>
                  <a:pt x="3423" y="12254"/>
                </a:cubicBezTo>
                <a:cubicBezTo>
                  <a:pt x="3413" y="12387"/>
                  <a:pt x="3399" y="12481"/>
                  <a:pt x="3249" y="12526"/>
                </a:cubicBezTo>
                <a:cubicBezTo>
                  <a:pt x="3233" y="12526"/>
                  <a:pt x="3216" y="12526"/>
                  <a:pt x="3200" y="12526"/>
                </a:cubicBezTo>
              </a:path>
              <a:path w="8806" h="4912">
                <a:moveTo>
                  <a:pt x="8533" y="12948"/>
                </a:moveTo>
                <a:cubicBezTo>
                  <a:pt x="8438" y="13069"/>
                  <a:pt x="8437" y="13214"/>
                  <a:pt x="8458" y="13370"/>
                </a:cubicBezTo>
                <a:cubicBezTo>
                  <a:pt x="8473" y="13477"/>
                  <a:pt x="8510" y="13516"/>
                  <a:pt x="8607" y="13519"/>
                </a:cubicBezTo>
                <a:cubicBezTo>
                  <a:pt x="8709" y="13522"/>
                  <a:pt x="8787" y="13486"/>
                  <a:pt x="8880" y="13444"/>
                </a:cubicBezTo>
                <a:cubicBezTo>
                  <a:pt x="8981" y="13399"/>
                  <a:pt x="9050" y="13360"/>
                  <a:pt x="9054" y="13246"/>
                </a:cubicBezTo>
                <a:cubicBezTo>
                  <a:pt x="9056" y="13195"/>
                  <a:pt x="9025" y="13113"/>
                  <a:pt x="9029" y="13072"/>
                </a:cubicBezTo>
                <a:cubicBezTo>
                  <a:pt x="9049" y="13032"/>
                  <a:pt x="9058" y="13025"/>
                  <a:pt x="9054" y="12998"/>
                </a:cubicBezTo>
                <a:cubicBezTo>
                  <a:pt x="9083" y="13074"/>
                  <a:pt x="9079" y="13138"/>
                  <a:pt x="9079" y="13221"/>
                </a:cubicBezTo>
                <a:cubicBezTo>
                  <a:pt x="9079" y="13288"/>
                  <a:pt x="9091" y="13375"/>
                  <a:pt x="9153" y="13419"/>
                </a:cubicBezTo>
                <a:cubicBezTo>
                  <a:pt x="9255" y="13491"/>
                  <a:pt x="9307" y="13504"/>
                  <a:pt x="9426" y="13469"/>
                </a:cubicBezTo>
                <a:cubicBezTo>
                  <a:pt x="9512" y="13443"/>
                  <a:pt x="9616" y="13392"/>
                  <a:pt x="9674" y="13320"/>
                </a:cubicBezTo>
                <a:cubicBezTo>
                  <a:pt x="9743" y="13235"/>
                  <a:pt x="9744" y="13172"/>
                  <a:pt x="9748" y="13072"/>
                </a:cubicBezTo>
                <a:cubicBezTo>
                  <a:pt x="9751" y="13014"/>
                  <a:pt x="9785" y="12837"/>
                  <a:pt x="9699" y="12898"/>
                </a:cubicBezTo>
                <a:cubicBezTo>
                  <a:pt x="9633" y="12964"/>
                  <a:pt x="9616" y="12981"/>
                  <a:pt x="9575" y="13022"/>
                </a:cubicBezTo>
                <a:cubicBezTo>
                  <a:pt x="9648" y="12949"/>
                  <a:pt x="9712" y="12882"/>
                  <a:pt x="9773" y="12799"/>
                </a:cubicBezTo>
                <a:cubicBezTo>
                  <a:pt x="9846" y="12848"/>
                  <a:pt x="9882" y="12926"/>
                  <a:pt x="9947" y="12973"/>
                </a:cubicBezTo>
                <a:cubicBezTo>
                  <a:pt x="9963" y="12981"/>
                  <a:pt x="9980" y="12990"/>
                  <a:pt x="9996" y="12998"/>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510160" y="4268880"/>
            <a:ext cx="866880" cy="384120"/>
          </a:xfrm>
          <a:custGeom>
            <a:avLst/>
            <a:gdLst/>
            <a:ahLst/>
            <a:rect l="l" t="t" r="r" b="b"/>
            <a:pathLst>
              <a:path w="2408" h="1067">
                <a:moveTo>
                  <a:pt x="15925" y="12129"/>
                </a:moveTo>
                <a:cubicBezTo>
                  <a:pt x="15844" y="12159"/>
                  <a:pt x="15264" y="12333"/>
                  <a:pt x="15304" y="12452"/>
                </a:cubicBezTo>
                <a:cubicBezTo>
                  <a:pt x="15356" y="12609"/>
                  <a:pt x="15716" y="12712"/>
                  <a:pt x="15850" y="12799"/>
                </a:cubicBezTo>
                <a:cubicBezTo>
                  <a:pt x="15666" y="12919"/>
                  <a:pt x="15655" y="12929"/>
                  <a:pt x="15453" y="12849"/>
                </a:cubicBezTo>
                <a:cubicBezTo>
                  <a:pt x="15570" y="12652"/>
                  <a:pt x="15696" y="12476"/>
                  <a:pt x="15850" y="12303"/>
                </a:cubicBezTo>
              </a:path>
              <a:path w="2408" h="1067">
                <a:moveTo>
                  <a:pt x="16148" y="12229"/>
                </a:moveTo>
                <a:cubicBezTo>
                  <a:pt x="16302" y="12129"/>
                  <a:pt x="16506" y="12149"/>
                  <a:pt x="16520" y="12402"/>
                </a:cubicBezTo>
                <a:cubicBezTo>
                  <a:pt x="16541" y="12776"/>
                  <a:pt x="16195" y="12836"/>
                  <a:pt x="15949" y="12774"/>
                </a:cubicBezTo>
                <a:cubicBezTo>
                  <a:pt x="16159" y="12630"/>
                  <a:pt x="16254" y="12619"/>
                  <a:pt x="16446" y="12774"/>
                </a:cubicBezTo>
              </a:path>
              <a:path w="2408" h="1067">
                <a:moveTo>
                  <a:pt x="16768" y="12725"/>
                </a:moveTo>
                <a:cubicBezTo>
                  <a:pt x="16751" y="12733"/>
                  <a:pt x="16735" y="12742"/>
                  <a:pt x="16718" y="12750"/>
                </a:cubicBezTo>
                <a:cubicBezTo>
                  <a:pt x="16756" y="12796"/>
                  <a:pt x="16940" y="12767"/>
                  <a:pt x="16793" y="12725"/>
                </a:cubicBezTo>
              </a:path>
              <a:path w="2408" h="1067">
                <a:moveTo>
                  <a:pt x="16892" y="12030"/>
                </a:moveTo>
                <a:cubicBezTo>
                  <a:pt x="16892" y="11963"/>
                  <a:pt x="16906" y="11865"/>
                  <a:pt x="16793" y="11906"/>
                </a:cubicBezTo>
                <a:cubicBezTo>
                  <a:pt x="16721" y="11954"/>
                  <a:pt x="16698" y="11966"/>
                  <a:pt x="16694" y="12030"/>
                </a:cubicBezTo>
                <a:cubicBezTo>
                  <a:pt x="16712" y="12031"/>
                  <a:pt x="17057" y="12036"/>
                  <a:pt x="16942" y="11931"/>
                </a:cubicBezTo>
                <a:cubicBezTo>
                  <a:pt x="16894" y="11907"/>
                  <a:pt x="16879" y="11899"/>
                  <a:pt x="16842" y="11906"/>
                </a:cubicBezTo>
                <a:cubicBezTo>
                  <a:pt x="16946" y="11884"/>
                  <a:pt x="17058" y="11848"/>
                  <a:pt x="17165" y="11857"/>
                </a:cubicBezTo>
                <a:cubicBezTo>
                  <a:pt x="17349" y="11873"/>
                  <a:pt x="17525" y="11881"/>
                  <a:pt x="17711" y="11881"/>
                </a:cubicBezTo>
                <a:cubicBezTo>
                  <a:pt x="17493" y="12051"/>
                  <a:pt x="17291" y="12238"/>
                  <a:pt x="17090" y="12427"/>
                </a:cubicBezTo>
                <a:cubicBezTo>
                  <a:pt x="17018" y="12494"/>
                  <a:pt x="16963" y="12594"/>
                  <a:pt x="16892" y="12650"/>
                </a:cubicBezTo>
                <a:cubicBezTo>
                  <a:pt x="16842" y="12675"/>
                  <a:pt x="16826" y="12683"/>
                  <a:pt x="16818" y="12725"/>
                </a:cubicBezTo>
              </a:path>
              <a:path w="2408" h="1067">
                <a:moveTo>
                  <a:pt x="17363" y="12526"/>
                </a:moveTo>
                <a:cubicBezTo>
                  <a:pt x="17298" y="12570"/>
                  <a:pt x="17279" y="12576"/>
                  <a:pt x="17264" y="12626"/>
                </a:cubicBezTo>
                <a:cubicBezTo>
                  <a:pt x="17399" y="12632"/>
                  <a:pt x="17681" y="12629"/>
                  <a:pt x="17487" y="12502"/>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116240" y="5259240"/>
            <a:ext cx="1063800" cy="455760"/>
          </a:xfrm>
          <a:custGeom>
            <a:avLst/>
            <a:gdLst/>
            <a:ahLst/>
            <a:rect l="l" t="t" r="r" b="b"/>
            <a:pathLst>
              <a:path w="2953" h="1266">
                <a:moveTo>
                  <a:pt x="11584" y="15329"/>
                </a:moveTo>
                <a:cubicBezTo>
                  <a:pt x="11425" y="15488"/>
                  <a:pt x="11517" y="15524"/>
                  <a:pt x="11683" y="15429"/>
                </a:cubicBezTo>
                <a:cubicBezTo>
                  <a:pt x="11586" y="15375"/>
                  <a:pt x="11550" y="15400"/>
                  <a:pt x="11435" y="15453"/>
                </a:cubicBezTo>
              </a:path>
              <a:path w="2953" h="1266">
                <a:moveTo>
                  <a:pt x="12526" y="14808"/>
                </a:moveTo>
                <a:cubicBezTo>
                  <a:pt x="12516" y="14687"/>
                  <a:pt x="12475" y="14546"/>
                  <a:pt x="12303" y="14610"/>
                </a:cubicBezTo>
                <a:cubicBezTo>
                  <a:pt x="12107" y="14683"/>
                  <a:pt x="12105" y="14793"/>
                  <a:pt x="12105" y="14957"/>
                </a:cubicBezTo>
                <a:cubicBezTo>
                  <a:pt x="12291" y="14898"/>
                  <a:pt x="12364" y="14846"/>
                  <a:pt x="12502" y="14709"/>
                </a:cubicBezTo>
                <a:cubicBezTo>
                  <a:pt x="12442" y="14905"/>
                  <a:pt x="12424" y="15104"/>
                  <a:pt x="12378" y="15304"/>
                </a:cubicBezTo>
              </a:path>
              <a:path w="2953" h="1266">
                <a:moveTo>
                  <a:pt x="12774" y="14635"/>
                </a:moveTo>
                <a:cubicBezTo>
                  <a:pt x="12741" y="14838"/>
                  <a:pt x="12725" y="15025"/>
                  <a:pt x="12725" y="15230"/>
                </a:cubicBezTo>
                <a:cubicBezTo>
                  <a:pt x="12944" y="15274"/>
                  <a:pt x="13115" y="15237"/>
                  <a:pt x="13246" y="15032"/>
                </a:cubicBezTo>
                <a:cubicBezTo>
                  <a:pt x="13317" y="14922"/>
                  <a:pt x="13244" y="14903"/>
                  <a:pt x="13171" y="14858"/>
                </a:cubicBezTo>
                <a:cubicBezTo>
                  <a:pt x="13022" y="15006"/>
                  <a:pt x="12999" y="15091"/>
                  <a:pt x="13022" y="15304"/>
                </a:cubicBezTo>
              </a:path>
              <a:path w="2953" h="1266">
                <a:moveTo>
                  <a:pt x="13866" y="14932"/>
                </a:moveTo>
                <a:cubicBezTo>
                  <a:pt x="14012" y="14932"/>
                  <a:pt x="14144" y="14902"/>
                  <a:pt x="14288" y="14883"/>
                </a:cubicBezTo>
                <a:cubicBezTo>
                  <a:pt x="14304" y="14883"/>
                  <a:pt x="14321" y="14883"/>
                  <a:pt x="14337" y="14883"/>
                </a:cubicBezTo>
              </a:path>
              <a:path w="2953" h="1266">
                <a:moveTo>
                  <a:pt x="13891" y="15205"/>
                </a:moveTo>
                <a:cubicBezTo>
                  <a:pt x="14057" y="15173"/>
                  <a:pt x="14221" y="15138"/>
                  <a:pt x="14387" y="15106"/>
                </a:cubicBezTo>
              </a:path>
              <a:path w="2953" h="1266">
                <a:moveTo>
                  <a:pt x="11584" y="15602"/>
                </a:moveTo>
                <a:cubicBezTo>
                  <a:pt x="11584" y="15561"/>
                  <a:pt x="11584" y="15553"/>
                  <a:pt x="11584" y="15528"/>
                </a:cubicBezTo>
                <a:cubicBezTo>
                  <a:pt x="11610" y="15619"/>
                  <a:pt x="11628" y="15651"/>
                  <a:pt x="11683" y="15726"/>
                </a:cubicBezTo>
                <a:cubicBezTo>
                  <a:pt x="11767" y="15839"/>
                  <a:pt x="11816" y="15871"/>
                  <a:pt x="11956" y="15875"/>
                </a:cubicBezTo>
                <a:cubicBezTo>
                  <a:pt x="12086" y="15879"/>
                  <a:pt x="12231" y="15880"/>
                  <a:pt x="12353" y="15825"/>
                </a:cubicBezTo>
                <a:cubicBezTo>
                  <a:pt x="12453" y="15780"/>
                  <a:pt x="12569" y="15739"/>
                  <a:pt x="12601" y="15627"/>
                </a:cubicBezTo>
                <a:cubicBezTo>
                  <a:pt x="12635" y="15508"/>
                  <a:pt x="12591" y="15574"/>
                  <a:pt x="12601" y="15652"/>
                </a:cubicBezTo>
                <a:cubicBezTo>
                  <a:pt x="12616" y="15768"/>
                  <a:pt x="12703" y="15776"/>
                  <a:pt x="12799" y="15801"/>
                </a:cubicBezTo>
                <a:cubicBezTo>
                  <a:pt x="12944" y="15839"/>
                  <a:pt x="13044" y="15774"/>
                  <a:pt x="13171" y="15701"/>
                </a:cubicBezTo>
                <a:cubicBezTo>
                  <a:pt x="13242" y="15660"/>
                  <a:pt x="13323" y="15578"/>
                  <a:pt x="13345" y="15503"/>
                </a:cubicBezTo>
                <a:cubicBezTo>
                  <a:pt x="13368" y="15427"/>
                  <a:pt x="13395" y="15377"/>
                  <a:pt x="13419" y="15304"/>
                </a:cubicBezTo>
                <a:cubicBezTo>
                  <a:pt x="13292" y="15294"/>
                  <a:pt x="13298" y="15310"/>
                  <a:pt x="13196" y="15404"/>
                </a:cubicBezTo>
                <a:cubicBezTo>
                  <a:pt x="13326" y="15443"/>
                  <a:pt x="13435" y="15427"/>
                  <a:pt x="13370" y="15280"/>
                </a:cubicBezTo>
                <a:cubicBezTo>
                  <a:pt x="13311" y="15297"/>
                  <a:pt x="13187" y="15446"/>
                  <a:pt x="13320" y="15429"/>
                </a:cubicBezTo>
                <a:cubicBezTo>
                  <a:pt x="13370" y="15404"/>
                  <a:pt x="13387" y="15396"/>
                  <a:pt x="13395" y="1535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464080" y="5126040"/>
            <a:ext cx="920880" cy="339840"/>
          </a:xfrm>
          <a:custGeom>
            <a:avLst/>
            <a:gdLst/>
            <a:ahLst/>
            <a:rect l="l" t="t" r="r" b="b"/>
            <a:pathLst>
              <a:path w="2556" h="943">
                <a:moveTo>
                  <a:pt x="15577" y="14709"/>
                </a:moveTo>
                <a:cubicBezTo>
                  <a:pt x="15529" y="14515"/>
                  <a:pt x="15398" y="14482"/>
                  <a:pt x="15255" y="14660"/>
                </a:cubicBezTo>
                <a:cubicBezTo>
                  <a:pt x="15230" y="14709"/>
                  <a:pt x="15205" y="14759"/>
                  <a:pt x="15180" y="14808"/>
                </a:cubicBezTo>
                <a:cubicBezTo>
                  <a:pt x="15197" y="14841"/>
                  <a:pt x="15213" y="14875"/>
                  <a:pt x="15230" y="14908"/>
                </a:cubicBezTo>
                <a:cubicBezTo>
                  <a:pt x="15412" y="14847"/>
                  <a:pt x="15472" y="14808"/>
                  <a:pt x="15602" y="14660"/>
                </a:cubicBezTo>
                <a:cubicBezTo>
                  <a:pt x="15624" y="14837"/>
                  <a:pt x="15652" y="14997"/>
                  <a:pt x="15652" y="15180"/>
                </a:cubicBezTo>
              </a:path>
              <a:path w="2556" h="943">
                <a:moveTo>
                  <a:pt x="16098" y="14486"/>
                </a:moveTo>
                <a:cubicBezTo>
                  <a:pt x="16045" y="14645"/>
                  <a:pt x="16004" y="14814"/>
                  <a:pt x="16049" y="14982"/>
                </a:cubicBezTo>
                <a:cubicBezTo>
                  <a:pt x="16113" y="15218"/>
                  <a:pt x="16378" y="15123"/>
                  <a:pt x="16470" y="14957"/>
                </a:cubicBezTo>
                <a:cubicBezTo>
                  <a:pt x="16491" y="14832"/>
                  <a:pt x="16507" y="14805"/>
                  <a:pt x="16470" y="14734"/>
                </a:cubicBezTo>
                <a:cubicBezTo>
                  <a:pt x="16270" y="14784"/>
                  <a:pt x="16261" y="14845"/>
                  <a:pt x="16247" y="15056"/>
                </a:cubicBezTo>
              </a:path>
              <a:path w="2556" h="943">
                <a:moveTo>
                  <a:pt x="16917" y="14337"/>
                </a:moveTo>
                <a:cubicBezTo>
                  <a:pt x="16799" y="14440"/>
                  <a:pt x="16768" y="14442"/>
                  <a:pt x="16768" y="14585"/>
                </a:cubicBezTo>
                <a:cubicBezTo>
                  <a:pt x="16905" y="14593"/>
                  <a:pt x="17217" y="14576"/>
                  <a:pt x="17016" y="14362"/>
                </a:cubicBezTo>
                <a:cubicBezTo>
                  <a:pt x="16904" y="14295"/>
                  <a:pt x="16876" y="14274"/>
                  <a:pt x="16793" y="14263"/>
                </a:cubicBezTo>
                <a:cubicBezTo>
                  <a:pt x="16958" y="14242"/>
                  <a:pt x="17209" y="14160"/>
                  <a:pt x="17314" y="14362"/>
                </a:cubicBezTo>
                <a:cubicBezTo>
                  <a:pt x="17451" y="14624"/>
                  <a:pt x="17222" y="14928"/>
                  <a:pt x="17090" y="15131"/>
                </a:cubicBezTo>
              </a:path>
              <a:path w="2556" h="943">
                <a:moveTo>
                  <a:pt x="17438" y="14858"/>
                </a:moveTo>
                <a:cubicBezTo>
                  <a:pt x="17477" y="15014"/>
                  <a:pt x="17658" y="15095"/>
                  <a:pt x="17735" y="14883"/>
                </a:cubicBezTo>
                <a:cubicBezTo>
                  <a:pt x="17706" y="14793"/>
                  <a:pt x="17683" y="14765"/>
                  <a:pt x="17587" y="1478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384800" y="5956200"/>
            <a:ext cx="928440" cy="465120"/>
          </a:xfrm>
          <a:custGeom>
            <a:avLst/>
            <a:gdLst/>
            <a:ahLst/>
            <a:rect l="l" t="t" r="r" b="b"/>
            <a:pathLst>
              <a:path w="2581" h="1291">
                <a:moveTo>
                  <a:pt x="13146" y="16545"/>
                </a:moveTo>
                <a:cubicBezTo>
                  <a:pt x="13177" y="16545"/>
                  <a:pt x="12811" y="16659"/>
                  <a:pt x="12750" y="16669"/>
                </a:cubicBezTo>
                <a:cubicBezTo>
                  <a:pt x="12709" y="16669"/>
                  <a:pt x="12667" y="16669"/>
                  <a:pt x="12626" y="16669"/>
                </a:cubicBezTo>
                <a:cubicBezTo>
                  <a:pt x="12727" y="16976"/>
                  <a:pt x="12690" y="16864"/>
                  <a:pt x="12948" y="16793"/>
                </a:cubicBezTo>
                <a:cubicBezTo>
                  <a:pt x="13125" y="16771"/>
                  <a:pt x="13170" y="16754"/>
                  <a:pt x="13271" y="16818"/>
                </a:cubicBezTo>
                <a:cubicBezTo>
                  <a:pt x="13270" y="17122"/>
                  <a:pt x="13154" y="17250"/>
                  <a:pt x="12824" y="17264"/>
                </a:cubicBezTo>
                <a:cubicBezTo>
                  <a:pt x="12660" y="17240"/>
                  <a:pt x="12611" y="17238"/>
                  <a:pt x="12526" y="17165"/>
                </a:cubicBezTo>
              </a:path>
              <a:path w="2581" h="1291">
                <a:moveTo>
                  <a:pt x="12353" y="17239"/>
                </a:moveTo>
                <a:cubicBezTo>
                  <a:pt x="12229" y="17270"/>
                  <a:pt x="12213" y="17315"/>
                  <a:pt x="12353" y="17338"/>
                </a:cubicBezTo>
                <a:cubicBezTo>
                  <a:pt x="12381" y="17260"/>
                  <a:pt x="12325" y="17093"/>
                  <a:pt x="12204" y="17214"/>
                </a:cubicBezTo>
                <a:cubicBezTo>
                  <a:pt x="12032" y="17386"/>
                  <a:pt x="12454" y="17330"/>
                  <a:pt x="12353" y="17214"/>
                </a:cubicBezTo>
                <a:cubicBezTo>
                  <a:pt x="12320" y="17206"/>
                  <a:pt x="12287" y="17198"/>
                  <a:pt x="12254" y="17190"/>
                </a:cubicBezTo>
                <a:cubicBezTo>
                  <a:pt x="12247" y="17228"/>
                  <a:pt x="12230" y="17396"/>
                  <a:pt x="12328" y="17289"/>
                </a:cubicBezTo>
                <a:cubicBezTo>
                  <a:pt x="12336" y="17272"/>
                  <a:pt x="12345" y="17256"/>
                  <a:pt x="12353" y="17239"/>
                </a:cubicBezTo>
              </a:path>
              <a:path w="2581" h="1291">
                <a:moveTo>
                  <a:pt x="14288" y="16694"/>
                </a:moveTo>
                <a:cubicBezTo>
                  <a:pt x="14443" y="16694"/>
                  <a:pt x="14581" y="16627"/>
                  <a:pt x="14734" y="16644"/>
                </a:cubicBezTo>
                <a:cubicBezTo>
                  <a:pt x="14742" y="16652"/>
                  <a:pt x="14751" y="16661"/>
                  <a:pt x="14759" y="16669"/>
                </a:cubicBezTo>
              </a:path>
              <a:path w="2581" h="1291">
                <a:moveTo>
                  <a:pt x="14387" y="16942"/>
                </a:moveTo>
                <a:cubicBezTo>
                  <a:pt x="14551" y="16887"/>
                  <a:pt x="14616" y="16867"/>
                  <a:pt x="14734" y="16842"/>
                </a:cubicBezTo>
              </a:path>
              <a:path w="2581" h="1291">
                <a:moveTo>
                  <a:pt x="12353" y="17438"/>
                </a:moveTo>
                <a:cubicBezTo>
                  <a:pt x="12313" y="17438"/>
                  <a:pt x="12294" y="17449"/>
                  <a:pt x="12278" y="17487"/>
                </a:cubicBezTo>
              </a:path>
              <a:path w="2581" h="1291">
                <a:moveTo>
                  <a:pt x="12328" y="17438"/>
                </a:moveTo>
                <a:cubicBezTo>
                  <a:pt x="12257" y="17448"/>
                  <a:pt x="12274" y="17408"/>
                  <a:pt x="12254" y="17537"/>
                </a:cubicBezTo>
                <a:cubicBezTo>
                  <a:pt x="12243" y="17606"/>
                  <a:pt x="12248" y="17680"/>
                  <a:pt x="12278" y="17735"/>
                </a:cubicBezTo>
                <a:cubicBezTo>
                  <a:pt x="12319" y="17810"/>
                  <a:pt x="12427" y="17832"/>
                  <a:pt x="12502" y="17835"/>
                </a:cubicBezTo>
                <a:cubicBezTo>
                  <a:pt x="12580" y="17838"/>
                  <a:pt x="12703" y="17821"/>
                  <a:pt x="12774" y="17785"/>
                </a:cubicBezTo>
                <a:cubicBezTo>
                  <a:pt x="12824" y="17760"/>
                  <a:pt x="12959" y="17713"/>
                  <a:pt x="12998" y="17686"/>
                </a:cubicBezTo>
                <a:cubicBezTo>
                  <a:pt x="13047" y="17652"/>
                  <a:pt x="13139" y="17584"/>
                  <a:pt x="13171" y="17537"/>
                </a:cubicBezTo>
                <a:cubicBezTo>
                  <a:pt x="13194" y="17502"/>
                  <a:pt x="13178" y="17405"/>
                  <a:pt x="13196" y="17363"/>
                </a:cubicBezTo>
                <a:cubicBezTo>
                  <a:pt x="13204" y="17355"/>
                  <a:pt x="13213" y="17346"/>
                  <a:pt x="13221" y="17338"/>
                </a:cubicBezTo>
                <a:cubicBezTo>
                  <a:pt x="13221" y="17439"/>
                  <a:pt x="13187" y="17592"/>
                  <a:pt x="13271" y="17661"/>
                </a:cubicBezTo>
                <a:cubicBezTo>
                  <a:pt x="13337" y="17715"/>
                  <a:pt x="13385" y="17711"/>
                  <a:pt x="13469" y="17711"/>
                </a:cubicBezTo>
                <a:cubicBezTo>
                  <a:pt x="13556" y="17711"/>
                  <a:pt x="13612" y="17674"/>
                  <a:pt x="13692" y="17661"/>
                </a:cubicBezTo>
                <a:cubicBezTo>
                  <a:pt x="13803" y="17642"/>
                  <a:pt x="13823" y="17623"/>
                  <a:pt x="13915" y="17562"/>
                </a:cubicBezTo>
                <a:cubicBezTo>
                  <a:pt x="13976" y="17521"/>
                  <a:pt x="14005" y="17473"/>
                  <a:pt x="14039" y="17413"/>
                </a:cubicBezTo>
                <a:cubicBezTo>
                  <a:pt x="14072" y="17355"/>
                  <a:pt x="14064" y="17304"/>
                  <a:pt x="14064" y="17239"/>
                </a:cubicBezTo>
                <a:cubicBezTo>
                  <a:pt x="14064" y="17206"/>
                  <a:pt x="14064" y="17173"/>
                  <a:pt x="14064" y="17140"/>
                </a:cubicBezTo>
                <a:cubicBezTo>
                  <a:pt x="13983" y="17245"/>
                  <a:pt x="14023" y="17376"/>
                  <a:pt x="14139" y="17239"/>
                </a:cubicBezTo>
                <a:cubicBezTo>
                  <a:pt x="14202" y="17164"/>
                  <a:pt x="14159" y="16996"/>
                  <a:pt x="14039" y="17016"/>
                </a:cubicBezTo>
                <a:cubicBezTo>
                  <a:pt x="13903" y="17038"/>
                  <a:pt x="13958" y="17072"/>
                  <a:pt x="13915" y="17140"/>
                </a:cubicBezTo>
                <a:cubicBezTo>
                  <a:pt x="13986" y="17161"/>
                  <a:pt x="14168" y="17192"/>
                  <a:pt x="14139" y="17041"/>
                </a:cubicBezTo>
                <a:cubicBezTo>
                  <a:pt x="14107" y="16877"/>
                  <a:pt x="13870" y="16996"/>
                  <a:pt x="13915" y="17115"/>
                </a:cubicBezTo>
                <a:cubicBezTo>
                  <a:pt x="13970" y="17261"/>
                  <a:pt x="14151" y="17089"/>
                  <a:pt x="14139" y="16991"/>
                </a:cubicBezTo>
                <a:cubicBezTo>
                  <a:pt x="14125" y="16875"/>
                  <a:pt x="14019" y="17075"/>
                  <a:pt x="14015" y="17115"/>
                </a:cubicBezTo>
              </a:path>
              <a:path w="2581" h="1291">
                <a:moveTo>
                  <a:pt x="13643" y="16594"/>
                </a:moveTo>
                <a:cubicBezTo>
                  <a:pt x="13538" y="16687"/>
                  <a:pt x="13488" y="16796"/>
                  <a:pt x="13469" y="16942"/>
                </a:cubicBezTo>
                <a:cubicBezTo>
                  <a:pt x="13469" y="17010"/>
                  <a:pt x="13466" y="17029"/>
                  <a:pt x="13494" y="17066"/>
                </a:cubicBezTo>
                <a:cubicBezTo>
                  <a:pt x="13630" y="17048"/>
                  <a:pt x="13709" y="17010"/>
                  <a:pt x="13767" y="16867"/>
                </a:cubicBezTo>
                <a:cubicBezTo>
                  <a:pt x="13805" y="16772"/>
                  <a:pt x="13818" y="16651"/>
                  <a:pt x="13742" y="16594"/>
                </a:cubicBezTo>
                <a:cubicBezTo>
                  <a:pt x="13653" y="16527"/>
                  <a:pt x="13606" y="16524"/>
                  <a:pt x="13543" y="16594"/>
                </a:cubicBezTo>
                <a:cubicBezTo>
                  <a:pt x="13535" y="16602"/>
                  <a:pt x="13527" y="16611"/>
                  <a:pt x="13519" y="1661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554800" y="5776920"/>
            <a:ext cx="687240" cy="339840"/>
          </a:xfrm>
          <a:custGeom>
            <a:avLst/>
            <a:gdLst/>
            <a:ahLst/>
            <a:rect l="l" t="t" r="r" b="b"/>
            <a:pathLst>
              <a:path w="1910" h="943">
                <a:moveTo>
                  <a:pt x="15949" y="16297"/>
                </a:moveTo>
                <a:cubicBezTo>
                  <a:pt x="15882" y="16300"/>
                  <a:pt x="15654" y="16288"/>
                  <a:pt x="15627" y="16346"/>
                </a:cubicBezTo>
                <a:cubicBezTo>
                  <a:pt x="15580" y="16445"/>
                  <a:pt x="15530" y="16563"/>
                  <a:pt x="15503" y="16669"/>
                </a:cubicBezTo>
                <a:cubicBezTo>
                  <a:pt x="15674" y="16631"/>
                  <a:pt x="15884" y="16554"/>
                  <a:pt x="15999" y="16743"/>
                </a:cubicBezTo>
                <a:cubicBezTo>
                  <a:pt x="16174" y="17032"/>
                  <a:pt x="15630" y="16998"/>
                  <a:pt x="15503" y="16966"/>
                </a:cubicBezTo>
                <a:cubicBezTo>
                  <a:pt x="15478" y="16950"/>
                  <a:pt x="15454" y="16933"/>
                  <a:pt x="15429" y="16917"/>
                </a:cubicBezTo>
              </a:path>
              <a:path w="1910" h="943">
                <a:moveTo>
                  <a:pt x="16297" y="16371"/>
                </a:moveTo>
                <a:cubicBezTo>
                  <a:pt x="16178" y="16575"/>
                  <a:pt x="16130" y="16684"/>
                  <a:pt x="16222" y="16892"/>
                </a:cubicBezTo>
                <a:cubicBezTo>
                  <a:pt x="16457" y="16859"/>
                  <a:pt x="16635" y="16802"/>
                  <a:pt x="16520" y="16520"/>
                </a:cubicBezTo>
                <a:cubicBezTo>
                  <a:pt x="16419" y="16275"/>
                  <a:pt x="16302" y="16356"/>
                  <a:pt x="16123" y="16421"/>
                </a:cubicBezTo>
              </a:path>
              <a:path w="1910" h="943">
                <a:moveTo>
                  <a:pt x="16694" y="16197"/>
                </a:moveTo>
                <a:cubicBezTo>
                  <a:pt x="16668" y="16285"/>
                  <a:pt x="16589" y="16466"/>
                  <a:pt x="16743" y="16421"/>
                </a:cubicBezTo>
                <a:cubicBezTo>
                  <a:pt x="16761" y="16292"/>
                  <a:pt x="16743" y="16198"/>
                  <a:pt x="16694" y="16073"/>
                </a:cubicBezTo>
                <a:cubicBezTo>
                  <a:pt x="16896" y="16034"/>
                  <a:pt x="17098" y="16152"/>
                  <a:pt x="17115" y="16396"/>
                </a:cubicBezTo>
                <a:cubicBezTo>
                  <a:pt x="17128" y="16592"/>
                  <a:pt x="17003" y="16731"/>
                  <a:pt x="16892" y="16867"/>
                </a:cubicBezTo>
              </a:path>
              <a:path w="1910" h="943">
                <a:moveTo>
                  <a:pt x="17239" y="16694"/>
                </a:moveTo>
                <a:cubicBezTo>
                  <a:pt x="17217" y="16759"/>
                  <a:pt x="17209" y="16774"/>
                  <a:pt x="17214" y="16818"/>
                </a:cubicBezTo>
                <a:cubicBezTo>
                  <a:pt x="17357" y="16740"/>
                  <a:pt x="17386" y="16693"/>
                  <a:pt x="17239" y="1661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85800" y="4572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ive :  Students will </a:t>
            </a:r>
            <a:r>
              <a:rPr b="0" i="1" lang="en-US" sz="2000" spc="-1" strike="noStrike">
                <a:solidFill>
                  <a:srgbClr val="000000"/>
                </a:solidFill>
                <a:latin typeface="Times New Roman"/>
              </a:rPr>
              <a:t>write fractions as decimals and percents, and vice versa.</a:t>
            </a:r>
            <a:endParaRPr b="0" lang="en-US" sz="2000" spc="-1" strike="noStrike">
              <a:solidFill>
                <a:srgbClr val="000000"/>
              </a:solidFill>
              <a:latin typeface="Times New Roman"/>
            </a:endParaRPr>
          </a:p>
        </p:txBody>
      </p:sp>
      <p:sp>
        <p:nvSpPr>
          <p:cNvPr id="147" name=""/>
          <p:cNvSpPr/>
          <p:nvPr/>
        </p:nvSpPr>
        <p:spPr>
          <a:xfrm>
            <a:off x="609480" y="1219320"/>
            <a:ext cx="7925040" cy="30477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ing from % to decimal means dividing by 100….shortcut….replace the % symbol with a decimal and move it 2 places to the lef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35%  = .35</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8 % =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35% = </a:t>
            </a:r>
            <a:endParaRPr b="0" lang="en-US" sz="3200" spc="-1" strike="noStrike">
              <a:solidFill>
                <a:srgbClr val="000000"/>
              </a:solidFill>
              <a:latin typeface="Times New Roman"/>
            </a:endParaRPr>
          </a:p>
        </p:txBody>
      </p:sp>
      <p:sp>
        <p:nvSpPr>
          <p:cNvPr id="148" name=""/>
          <p:cNvSpPr/>
          <p:nvPr/>
        </p:nvSpPr>
        <p:spPr>
          <a:xfrm>
            <a:off x="2384280" y="3152880"/>
            <a:ext cx="982800" cy="214200"/>
          </a:xfrm>
          <a:custGeom>
            <a:avLst/>
            <a:gdLst/>
            <a:ahLst/>
            <a:rect l="l" t="t" r="r" b="b"/>
            <a:pathLst>
              <a:path w="2729" h="596">
                <a:moveTo>
                  <a:pt x="8235" y="9103"/>
                </a:moveTo>
                <a:cubicBezTo>
                  <a:pt x="8370" y="9060"/>
                  <a:pt x="8512" y="9057"/>
                  <a:pt x="8657" y="9054"/>
                </a:cubicBezTo>
                <a:cubicBezTo>
                  <a:pt x="8841" y="9051"/>
                  <a:pt x="9021" y="9035"/>
                  <a:pt x="9203" y="9029"/>
                </a:cubicBezTo>
                <a:cubicBezTo>
                  <a:pt x="9252" y="9027"/>
                  <a:pt x="9302" y="9029"/>
                  <a:pt x="9351" y="9029"/>
                </a:cubicBezTo>
              </a:path>
              <a:path w="2729" h="596">
                <a:moveTo>
                  <a:pt x="8359" y="8855"/>
                </a:moveTo>
                <a:cubicBezTo>
                  <a:pt x="8316" y="8661"/>
                  <a:pt x="8261" y="8875"/>
                  <a:pt x="8285" y="8905"/>
                </a:cubicBezTo>
                <a:cubicBezTo>
                  <a:pt x="8355" y="8992"/>
                  <a:pt x="8478" y="8839"/>
                  <a:pt x="8458" y="8756"/>
                </a:cubicBezTo>
                <a:cubicBezTo>
                  <a:pt x="8435" y="8661"/>
                  <a:pt x="8251" y="8833"/>
                  <a:pt x="8235" y="8855"/>
                </a:cubicBezTo>
                <a:cubicBezTo>
                  <a:pt x="8301" y="8912"/>
                  <a:pt x="8463" y="8940"/>
                  <a:pt x="8434" y="8781"/>
                </a:cubicBezTo>
                <a:cubicBezTo>
                  <a:pt x="8422" y="8713"/>
                  <a:pt x="8275" y="8816"/>
                  <a:pt x="8285" y="8905"/>
                </a:cubicBezTo>
                <a:cubicBezTo>
                  <a:pt x="8373" y="8890"/>
                  <a:pt x="8526" y="8721"/>
                  <a:pt x="8409" y="8756"/>
                </a:cubicBezTo>
                <a:cubicBezTo>
                  <a:pt x="8344" y="8799"/>
                  <a:pt x="8324" y="8805"/>
                  <a:pt x="8310" y="8855"/>
                </a:cubicBezTo>
              </a:path>
              <a:path w="2729" h="596">
                <a:moveTo>
                  <a:pt x="8334" y="8905"/>
                </a:moveTo>
                <a:lnTo>
                  <a:pt x="8334" y="8905"/>
                </a:lnTo>
              </a:path>
              <a:path w="2729" h="596">
                <a:moveTo>
                  <a:pt x="8458" y="8855"/>
                </a:moveTo>
                <a:cubicBezTo>
                  <a:pt x="8457" y="8860"/>
                  <a:pt x="8404" y="9073"/>
                  <a:pt x="8285" y="9153"/>
                </a:cubicBezTo>
                <a:cubicBezTo>
                  <a:pt x="8124" y="9262"/>
                  <a:pt x="7965" y="9191"/>
                  <a:pt x="7813" y="9128"/>
                </a:cubicBezTo>
                <a:cubicBezTo>
                  <a:pt x="7716" y="9088"/>
                  <a:pt x="7708" y="9058"/>
                  <a:pt x="7640" y="8979"/>
                </a:cubicBezTo>
                <a:cubicBezTo>
                  <a:pt x="7624" y="9050"/>
                  <a:pt x="7633" y="9229"/>
                  <a:pt x="7565" y="9277"/>
                </a:cubicBezTo>
                <a:cubicBezTo>
                  <a:pt x="7462" y="9350"/>
                  <a:pt x="7387" y="9351"/>
                  <a:pt x="7268" y="9351"/>
                </a:cubicBezTo>
                <a:cubicBezTo>
                  <a:pt x="7128" y="9351"/>
                  <a:pt x="7061" y="9319"/>
                  <a:pt x="6945" y="9252"/>
                </a:cubicBezTo>
                <a:cubicBezTo>
                  <a:pt x="6882" y="9216"/>
                  <a:pt x="6860" y="9174"/>
                  <a:pt x="6846" y="9103"/>
                </a:cubicBezTo>
                <a:cubicBezTo>
                  <a:pt x="6835" y="9047"/>
                  <a:pt x="6844" y="8892"/>
                  <a:pt x="6722" y="8930"/>
                </a:cubicBezTo>
                <a:cubicBezTo>
                  <a:pt x="6653" y="8951"/>
                  <a:pt x="6719" y="9080"/>
                  <a:pt x="6722" y="9103"/>
                </a:cubicBezTo>
                <a:cubicBezTo>
                  <a:pt x="6824" y="9052"/>
                  <a:pt x="6844" y="9032"/>
                  <a:pt x="6896" y="8930"/>
                </a:cubicBezTo>
                <a:cubicBezTo>
                  <a:pt x="6784" y="8855"/>
                  <a:pt x="6624" y="8895"/>
                  <a:pt x="6623" y="9079"/>
                </a:cubicBezTo>
                <a:cubicBezTo>
                  <a:pt x="6639" y="9095"/>
                  <a:pt x="6656" y="9112"/>
                  <a:pt x="6672" y="9128"/>
                </a:cubicBezTo>
                <a:cubicBezTo>
                  <a:pt x="6823" y="9091"/>
                  <a:pt x="6945" y="9027"/>
                  <a:pt x="6871" y="8880"/>
                </a:cubicBezTo>
                <a:cubicBezTo>
                  <a:pt x="6727" y="8976"/>
                  <a:pt x="6743" y="8970"/>
                  <a:pt x="6772" y="9128"/>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197080" y="4116240"/>
            <a:ext cx="1044720" cy="428760"/>
          </a:xfrm>
          <a:custGeom>
            <a:avLst/>
            <a:gdLst/>
            <a:ahLst/>
            <a:rect l="l" t="t" r="r" b="b"/>
            <a:pathLst>
              <a:path w="2903" h="1192">
                <a:moveTo>
                  <a:pt x="8111" y="11435"/>
                </a:moveTo>
                <a:cubicBezTo>
                  <a:pt x="8326" y="11627"/>
                  <a:pt x="8564" y="11773"/>
                  <a:pt x="8806" y="11931"/>
                </a:cubicBezTo>
                <a:cubicBezTo>
                  <a:pt x="8924" y="12010"/>
                  <a:pt x="8948" y="12018"/>
                  <a:pt x="9004" y="12080"/>
                </a:cubicBezTo>
              </a:path>
              <a:path w="2903" h="1192">
                <a:moveTo>
                  <a:pt x="8111" y="12080"/>
                </a:moveTo>
                <a:cubicBezTo>
                  <a:pt x="8073" y="12104"/>
                  <a:pt x="7948" y="12261"/>
                  <a:pt x="8086" y="12229"/>
                </a:cubicBezTo>
                <a:cubicBezTo>
                  <a:pt x="8233" y="12195"/>
                  <a:pt x="8150" y="12004"/>
                  <a:pt x="8037" y="12129"/>
                </a:cubicBezTo>
                <a:cubicBezTo>
                  <a:pt x="8037" y="12137"/>
                  <a:pt x="8037" y="12146"/>
                  <a:pt x="8037" y="12154"/>
                </a:cubicBezTo>
                <a:cubicBezTo>
                  <a:pt x="8095" y="12176"/>
                  <a:pt x="8161" y="12043"/>
                  <a:pt x="8161" y="12105"/>
                </a:cubicBezTo>
                <a:cubicBezTo>
                  <a:pt x="8127" y="12071"/>
                  <a:pt x="8119" y="12075"/>
                  <a:pt x="8136" y="12154"/>
                </a:cubicBezTo>
                <a:cubicBezTo>
                  <a:pt x="8167" y="12322"/>
                  <a:pt x="8179" y="12427"/>
                  <a:pt x="8012" y="12526"/>
                </a:cubicBezTo>
                <a:cubicBezTo>
                  <a:pt x="7830" y="12633"/>
                  <a:pt x="7719" y="12583"/>
                  <a:pt x="7541" y="12526"/>
                </a:cubicBezTo>
                <a:cubicBezTo>
                  <a:pt x="7448" y="12496"/>
                  <a:pt x="7334" y="12456"/>
                  <a:pt x="7293" y="12353"/>
                </a:cubicBezTo>
                <a:cubicBezTo>
                  <a:pt x="7270" y="12296"/>
                  <a:pt x="7273" y="12217"/>
                  <a:pt x="7268" y="12154"/>
                </a:cubicBezTo>
                <a:cubicBezTo>
                  <a:pt x="7237" y="12238"/>
                  <a:pt x="7217" y="12399"/>
                  <a:pt x="7169" y="12477"/>
                </a:cubicBezTo>
                <a:cubicBezTo>
                  <a:pt x="7084" y="12616"/>
                  <a:pt x="6947" y="12638"/>
                  <a:pt x="6796" y="12626"/>
                </a:cubicBezTo>
                <a:cubicBezTo>
                  <a:pt x="6624" y="12613"/>
                  <a:pt x="6456" y="12542"/>
                  <a:pt x="6375" y="12402"/>
                </a:cubicBezTo>
                <a:cubicBezTo>
                  <a:pt x="6340" y="12341"/>
                  <a:pt x="6350" y="12272"/>
                  <a:pt x="6325" y="12204"/>
                </a:cubicBezTo>
                <a:cubicBezTo>
                  <a:pt x="6276" y="12071"/>
                  <a:pt x="6136" y="12172"/>
                  <a:pt x="6102" y="12254"/>
                </a:cubicBezTo>
                <a:cubicBezTo>
                  <a:pt x="6102" y="12310"/>
                  <a:pt x="6107" y="12332"/>
                  <a:pt x="6152" y="12353"/>
                </a:cubicBezTo>
                <a:cubicBezTo>
                  <a:pt x="6309" y="12290"/>
                  <a:pt x="6300" y="12315"/>
                  <a:pt x="6300" y="12154"/>
                </a:cubicBezTo>
                <a:cubicBezTo>
                  <a:pt x="6152" y="12044"/>
                  <a:pt x="6150" y="12195"/>
                  <a:pt x="6127" y="12328"/>
                </a:cubicBezTo>
                <a:cubicBezTo>
                  <a:pt x="6255" y="12338"/>
                  <a:pt x="6417" y="12283"/>
                  <a:pt x="6325" y="12105"/>
                </a:cubicBezTo>
                <a:cubicBezTo>
                  <a:pt x="6249" y="11958"/>
                  <a:pt x="6169" y="12219"/>
                  <a:pt x="6201" y="12303"/>
                </a:cubicBezTo>
                <a:cubicBezTo>
                  <a:pt x="6345" y="12207"/>
                  <a:pt x="6350" y="12220"/>
                  <a:pt x="6350" y="12055"/>
                </a:cubicBezTo>
                <a:cubicBezTo>
                  <a:pt x="6208" y="12090"/>
                  <a:pt x="6147" y="12154"/>
                  <a:pt x="6226" y="12278"/>
                </a:cubicBezTo>
              </a:path>
              <a:path w="2903" h="1192">
                <a:moveTo>
                  <a:pt x="6772" y="11584"/>
                </a:moveTo>
                <a:cubicBezTo>
                  <a:pt x="6677" y="11643"/>
                  <a:pt x="6609" y="11721"/>
                  <a:pt x="6573" y="11832"/>
                </a:cubicBezTo>
                <a:cubicBezTo>
                  <a:pt x="6551" y="11940"/>
                  <a:pt x="6538" y="11966"/>
                  <a:pt x="6573" y="12030"/>
                </a:cubicBezTo>
                <a:cubicBezTo>
                  <a:pt x="6708" y="12082"/>
                  <a:pt x="6856" y="12055"/>
                  <a:pt x="6921" y="11881"/>
                </a:cubicBezTo>
                <a:cubicBezTo>
                  <a:pt x="6961" y="11774"/>
                  <a:pt x="6885" y="11675"/>
                  <a:pt x="6796" y="11633"/>
                </a:cubicBezTo>
                <a:cubicBezTo>
                  <a:pt x="6788" y="11633"/>
                  <a:pt x="6780" y="11633"/>
                  <a:pt x="6772" y="1163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929040" y="3983040"/>
            <a:ext cx="696960" cy="347760"/>
          </a:xfrm>
          <a:custGeom>
            <a:avLst/>
            <a:gdLst/>
            <a:ahLst/>
            <a:rect l="l" t="t" r="r" b="b"/>
            <a:pathLst>
              <a:path w="1936" h="968">
                <a:moveTo>
                  <a:pt x="10988" y="11981"/>
                </a:moveTo>
                <a:cubicBezTo>
                  <a:pt x="10988" y="11913"/>
                  <a:pt x="10994" y="11885"/>
                  <a:pt x="10939" y="11931"/>
                </a:cubicBezTo>
                <a:cubicBezTo>
                  <a:pt x="10918" y="12096"/>
                  <a:pt x="11070" y="12012"/>
                  <a:pt x="11088" y="11881"/>
                </a:cubicBezTo>
                <a:cubicBezTo>
                  <a:pt x="11090" y="11868"/>
                  <a:pt x="10983" y="11918"/>
                  <a:pt x="10964" y="11931"/>
                </a:cubicBezTo>
              </a:path>
              <a:path w="1936" h="968">
                <a:moveTo>
                  <a:pt x="11881" y="11261"/>
                </a:moveTo>
                <a:cubicBezTo>
                  <a:pt x="11649" y="11315"/>
                  <a:pt x="11614" y="11497"/>
                  <a:pt x="11534" y="11708"/>
                </a:cubicBezTo>
                <a:cubicBezTo>
                  <a:pt x="11796" y="11891"/>
                  <a:pt x="11926" y="11808"/>
                  <a:pt x="12129" y="11559"/>
                </a:cubicBezTo>
                <a:cubicBezTo>
                  <a:pt x="11980" y="11396"/>
                  <a:pt x="11963" y="11363"/>
                  <a:pt x="11757" y="11286"/>
                </a:cubicBezTo>
              </a:path>
              <a:path w="1936" h="968">
                <a:moveTo>
                  <a:pt x="12750" y="11063"/>
                </a:moveTo>
                <a:cubicBezTo>
                  <a:pt x="12621" y="11106"/>
                  <a:pt x="12229" y="11257"/>
                  <a:pt x="12402" y="11485"/>
                </a:cubicBezTo>
                <a:cubicBezTo>
                  <a:pt x="12515" y="11633"/>
                  <a:pt x="12728" y="11695"/>
                  <a:pt x="12849" y="11832"/>
                </a:cubicBezTo>
                <a:cubicBezTo>
                  <a:pt x="12612" y="11974"/>
                  <a:pt x="12389" y="11969"/>
                  <a:pt x="12601" y="11609"/>
                </a:cubicBezTo>
                <a:cubicBezTo>
                  <a:pt x="12751" y="11354"/>
                  <a:pt x="12845" y="11379"/>
                  <a:pt x="12725" y="11137"/>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724360" y="3357720"/>
            <a:ext cx="2295720" cy="634680"/>
          </a:xfrm>
          <a:custGeom>
            <a:avLst/>
            <a:gdLst/>
            <a:ahLst/>
            <a:rect l="l" t="t" r="r" b="b"/>
            <a:pathLst>
              <a:path w="6376" h="1762">
                <a:moveTo>
                  <a:pt x="16073" y="10096"/>
                </a:moveTo>
                <a:cubicBezTo>
                  <a:pt x="16102" y="9979"/>
                  <a:pt x="16164" y="9991"/>
                  <a:pt x="16272" y="9947"/>
                </a:cubicBezTo>
                <a:cubicBezTo>
                  <a:pt x="16343" y="9918"/>
                  <a:pt x="16475" y="9893"/>
                  <a:pt x="16545" y="9947"/>
                </a:cubicBezTo>
                <a:cubicBezTo>
                  <a:pt x="16810" y="10150"/>
                  <a:pt x="16304" y="10553"/>
                  <a:pt x="16173" y="10666"/>
                </a:cubicBezTo>
                <a:cubicBezTo>
                  <a:pt x="16012" y="10786"/>
                  <a:pt x="15980" y="10802"/>
                  <a:pt x="15900" y="10889"/>
                </a:cubicBezTo>
                <a:cubicBezTo>
                  <a:pt x="16152" y="10864"/>
                  <a:pt x="16389" y="10788"/>
                  <a:pt x="16644" y="10765"/>
                </a:cubicBezTo>
              </a:path>
              <a:path w="6376" h="1762">
                <a:moveTo>
                  <a:pt x="17239" y="9649"/>
                </a:moveTo>
                <a:cubicBezTo>
                  <a:pt x="17239" y="9806"/>
                  <a:pt x="17239" y="9963"/>
                  <a:pt x="17239" y="10120"/>
                </a:cubicBezTo>
              </a:path>
              <a:path w="6376" h="1762">
                <a:moveTo>
                  <a:pt x="16892" y="10368"/>
                </a:moveTo>
                <a:cubicBezTo>
                  <a:pt x="17115" y="10318"/>
                  <a:pt x="17336" y="10266"/>
                  <a:pt x="17562" y="10244"/>
                </a:cubicBezTo>
              </a:path>
              <a:path w="6376" h="1762">
                <a:moveTo>
                  <a:pt x="17090" y="10592"/>
                </a:moveTo>
                <a:cubicBezTo>
                  <a:pt x="17255" y="10564"/>
                  <a:pt x="17368" y="10535"/>
                  <a:pt x="17537" y="10567"/>
                </a:cubicBezTo>
                <a:cubicBezTo>
                  <a:pt x="17537" y="10786"/>
                  <a:pt x="17385" y="10823"/>
                  <a:pt x="17214" y="10939"/>
                </a:cubicBezTo>
                <a:cubicBezTo>
                  <a:pt x="17096" y="11018"/>
                  <a:pt x="17072" y="11026"/>
                  <a:pt x="17016" y="11088"/>
                </a:cubicBezTo>
                <a:cubicBezTo>
                  <a:pt x="17200" y="11076"/>
                  <a:pt x="17380" y="11046"/>
                  <a:pt x="17562" y="11013"/>
                </a:cubicBezTo>
              </a:path>
              <a:path w="6376" h="1762">
                <a:moveTo>
                  <a:pt x="18058" y="10294"/>
                </a:moveTo>
                <a:cubicBezTo>
                  <a:pt x="18200" y="10242"/>
                  <a:pt x="18328" y="10244"/>
                  <a:pt x="18479" y="10244"/>
                </a:cubicBezTo>
              </a:path>
              <a:path w="6376" h="1762">
                <a:moveTo>
                  <a:pt x="18008" y="10443"/>
                </a:moveTo>
                <a:cubicBezTo>
                  <a:pt x="18155" y="10437"/>
                  <a:pt x="18286" y="10424"/>
                  <a:pt x="18430" y="10393"/>
                </a:cubicBezTo>
              </a:path>
              <a:path w="6376" h="1762">
                <a:moveTo>
                  <a:pt x="18628" y="10096"/>
                </a:moveTo>
                <a:cubicBezTo>
                  <a:pt x="18653" y="9937"/>
                  <a:pt x="18717" y="9839"/>
                  <a:pt x="18876" y="9773"/>
                </a:cubicBezTo>
                <a:cubicBezTo>
                  <a:pt x="18909" y="9765"/>
                  <a:pt x="18943" y="9756"/>
                  <a:pt x="18976" y="9748"/>
                </a:cubicBezTo>
                <a:cubicBezTo>
                  <a:pt x="19169" y="9927"/>
                  <a:pt x="19093" y="10125"/>
                  <a:pt x="18926" y="10344"/>
                </a:cubicBezTo>
                <a:cubicBezTo>
                  <a:pt x="18827" y="10474"/>
                  <a:pt x="18684" y="10567"/>
                  <a:pt x="18579" y="10691"/>
                </a:cubicBezTo>
                <a:cubicBezTo>
                  <a:pt x="18605" y="10708"/>
                  <a:pt x="18823" y="10534"/>
                  <a:pt x="19000" y="10567"/>
                </a:cubicBezTo>
                <a:cubicBezTo>
                  <a:pt x="19161" y="10597"/>
                  <a:pt x="19105" y="10709"/>
                  <a:pt x="19273" y="10616"/>
                </a:cubicBezTo>
              </a:path>
              <a:path w="6376" h="1762">
                <a:moveTo>
                  <a:pt x="19621" y="10418"/>
                </a:moveTo>
                <a:cubicBezTo>
                  <a:pt x="19541" y="10433"/>
                  <a:pt x="19392" y="10602"/>
                  <a:pt x="19546" y="10567"/>
                </a:cubicBezTo>
                <a:cubicBezTo>
                  <a:pt x="19631" y="10548"/>
                  <a:pt x="19579" y="10410"/>
                  <a:pt x="19472" y="10517"/>
                </a:cubicBezTo>
              </a:path>
              <a:path w="6376" h="1762">
                <a:moveTo>
                  <a:pt x="20241" y="9723"/>
                </a:moveTo>
                <a:cubicBezTo>
                  <a:pt x="20260" y="9662"/>
                  <a:pt x="20062" y="9690"/>
                  <a:pt x="19993" y="9723"/>
                </a:cubicBezTo>
                <a:cubicBezTo>
                  <a:pt x="19900" y="9768"/>
                  <a:pt x="19904" y="9962"/>
                  <a:pt x="19893" y="10046"/>
                </a:cubicBezTo>
                <a:cubicBezTo>
                  <a:pt x="20058" y="10011"/>
                  <a:pt x="20259" y="9954"/>
                  <a:pt x="20340" y="10170"/>
                </a:cubicBezTo>
                <a:cubicBezTo>
                  <a:pt x="20435" y="10424"/>
                  <a:pt x="20054" y="10423"/>
                  <a:pt x="19918" y="10368"/>
                </a:cubicBezTo>
                <a:cubicBezTo>
                  <a:pt x="19885" y="10343"/>
                  <a:pt x="19852" y="10319"/>
                  <a:pt x="19819" y="10294"/>
                </a:cubicBezTo>
              </a:path>
              <a:path w="6376" h="1762">
                <a:moveTo>
                  <a:pt x="20762" y="9823"/>
                </a:moveTo>
                <a:cubicBezTo>
                  <a:pt x="20589" y="9900"/>
                  <a:pt x="20585" y="10064"/>
                  <a:pt x="20563" y="10244"/>
                </a:cubicBezTo>
                <a:cubicBezTo>
                  <a:pt x="20754" y="10314"/>
                  <a:pt x="21113" y="10355"/>
                  <a:pt x="21134" y="10021"/>
                </a:cubicBezTo>
                <a:cubicBezTo>
                  <a:pt x="21056" y="9840"/>
                  <a:pt x="21024" y="9780"/>
                  <a:pt x="20861" y="9773"/>
                </a:cubicBezTo>
              </a:path>
              <a:path w="6376" h="1762">
                <a:moveTo>
                  <a:pt x="19571" y="10592"/>
                </a:moveTo>
                <a:lnTo>
                  <a:pt x="19571" y="10592"/>
                </a:lnTo>
              </a:path>
              <a:path w="6376" h="1762">
                <a:moveTo>
                  <a:pt x="19695" y="10542"/>
                </a:moveTo>
                <a:cubicBezTo>
                  <a:pt x="19619" y="10556"/>
                  <a:pt x="19625" y="10560"/>
                  <a:pt x="19546" y="10517"/>
                </a:cubicBezTo>
                <a:cubicBezTo>
                  <a:pt x="19546" y="10638"/>
                  <a:pt x="19533" y="10718"/>
                  <a:pt x="19645" y="10790"/>
                </a:cubicBezTo>
                <a:cubicBezTo>
                  <a:pt x="19792" y="10885"/>
                  <a:pt x="19954" y="10872"/>
                  <a:pt x="20117" y="10840"/>
                </a:cubicBezTo>
                <a:cubicBezTo>
                  <a:pt x="20198" y="10824"/>
                  <a:pt x="20295" y="10760"/>
                  <a:pt x="20315" y="10666"/>
                </a:cubicBezTo>
                <a:cubicBezTo>
                  <a:pt x="20322" y="10635"/>
                  <a:pt x="20312" y="10599"/>
                  <a:pt x="20315" y="10567"/>
                </a:cubicBezTo>
                <a:cubicBezTo>
                  <a:pt x="20327" y="10675"/>
                  <a:pt x="20342" y="10731"/>
                  <a:pt x="20439" y="10790"/>
                </a:cubicBezTo>
                <a:cubicBezTo>
                  <a:pt x="20575" y="10873"/>
                  <a:pt x="20757" y="10904"/>
                  <a:pt x="20910" y="10864"/>
                </a:cubicBezTo>
                <a:cubicBezTo>
                  <a:pt x="21041" y="10829"/>
                  <a:pt x="21196" y="10749"/>
                  <a:pt x="21282" y="10641"/>
                </a:cubicBezTo>
                <a:cubicBezTo>
                  <a:pt x="21303" y="10615"/>
                  <a:pt x="21353" y="10522"/>
                  <a:pt x="21357" y="10492"/>
                </a:cubicBezTo>
                <a:cubicBezTo>
                  <a:pt x="21362" y="10454"/>
                  <a:pt x="21320" y="10254"/>
                  <a:pt x="21233" y="10368"/>
                </a:cubicBezTo>
                <a:cubicBezTo>
                  <a:pt x="21233" y="10403"/>
                  <a:pt x="21228" y="10421"/>
                  <a:pt x="21208" y="10443"/>
                </a:cubicBezTo>
                <a:cubicBezTo>
                  <a:pt x="21330" y="10433"/>
                  <a:pt x="21322" y="10443"/>
                  <a:pt x="21382" y="10344"/>
                </a:cubicBezTo>
                <a:cubicBezTo>
                  <a:pt x="21234" y="10263"/>
                  <a:pt x="21237" y="10303"/>
                  <a:pt x="21109" y="10393"/>
                </a:cubicBezTo>
                <a:cubicBezTo>
                  <a:pt x="21215" y="10425"/>
                  <a:pt x="21453" y="10334"/>
                  <a:pt x="21233" y="10319"/>
                </a:cubicBezTo>
                <a:cubicBezTo>
                  <a:pt x="21225" y="10327"/>
                  <a:pt x="21216" y="10336"/>
                  <a:pt x="21208" y="10344"/>
                </a:cubicBezTo>
              </a:path>
              <a:path w="6376" h="1762">
                <a:moveTo>
                  <a:pt x="21754" y="9475"/>
                </a:moveTo>
                <a:cubicBezTo>
                  <a:pt x="21582" y="9466"/>
                  <a:pt x="21586" y="9465"/>
                  <a:pt x="21481" y="9599"/>
                </a:cubicBezTo>
                <a:cubicBezTo>
                  <a:pt x="21578" y="9673"/>
                  <a:pt x="21865" y="9737"/>
                  <a:pt x="21878" y="9500"/>
                </a:cubicBezTo>
                <a:cubicBezTo>
                  <a:pt x="21836" y="9417"/>
                  <a:pt x="21828" y="9401"/>
                  <a:pt x="21803" y="9351"/>
                </a:cubicBezTo>
                <a:cubicBezTo>
                  <a:pt x="22043" y="9352"/>
                  <a:pt x="22336" y="9463"/>
                  <a:pt x="22126" y="9773"/>
                </a:cubicBezTo>
                <a:cubicBezTo>
                  <a:pt x="21950" y="10032"/>
                  <a:pt x="21634" y="10172"/>
                  <a:pt x="21431" y="10393"/>
                </a:cubicBezTo>
              </a:path>
              <a:path w="6376" h="1762">
                <a:moveTo>
                  <a:pt x="21927" y="10071"/>
                </a:moveTo>
                <a:cubicBezTo>
                  <a:pt x="21942" y="10320"/>
                  <a:pt x="22024" y="10246"/>
                  <a:pt x="22250" y="10195"/>
                </a:cubicBezTo>
                <a:cubicBezTo>
                  <a:pt x="22237" y="10062"/>
                  <a:pt x="22226" y="10102"/>
                  <a:pt x="22076" y="10120"/>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803760" y="5116680"/>
            <a:ext cx="982440" cy="366480"/>
          </a:xfrm>
          <a:custGeom>
            <a:avLst/>
            <a:gdLst/>
            <a:ahLst/>
            <a:rect l="l" t="t" r="r" b="b"/>
            <a:pathLst>
              <a:path w="2729" h="1018">
                <a:moveTo>
                  <a:pt x="10889" y="14560"/>
                </a:moveTo>
                <a:cubicBezTo>
                  <a:pt x="10812" y="14755"/>
                  <a:pt x="10829" y="14571"/>
                  <a:pt x="10914" y="14486"/>
                </a:cubicBezTo>
                <a:cubicBezTo>
                  <a:pt x="10955" y="14461"/>
                  <a:pt x="10997" y="14437"/>
                  <a:pt x="11038" y="14412"/>
                </a:cubicBezTo>
                <a:cubicBezTo>
                  <a:pt x="11356" y="14657"/>
                  <a:pt x="11326" y="14916"/>
                  <a:pt x="10939" y="15156"/>
                </a:cubicBezTo>
                <a:cubicBezTo>
                  <a:pt x="10728" y="15219"/>
                  <a:pt x="10678" y="15263"/>
                  <a:pt x="10567" y="15156"/>
                </a:cubicBezTo>
                <a:cubicBezTo>
                  <a:pt x="10696" y="14907"/>
                  <a:pt x="10858" y="14773"/>
                  <a:pt x="11162" y="14932"/>
                </a:cubicBezTo>
                <a:cubicBezTo>
                  <a:pt x="11252" y="15023"/>
                  <a:pt x="11282" y="15044"/>
                  <a:pt x="11286" y="15131"/>
                </a:cubicBezTo>
              </a:path>
              <a:path w="2729" h="1018">
                <a:moveTo>
                  <a:pt x="11658" y="14957"/>
                </a:moveTo>
                <a:cubicBezTo>
                  <a:pt x="11672" y="15041"/>
                  <a:pt x="11669" y="15010"/>
                  <a:pt x="11757" y="14957"/>
                </a:cubicBezTo>
                <a:cubicBezTo>
                  <a:pt x="11717" y="14937"/>
                  <a:pt x="11711" y="14928"/>
                  <a:pt x="11683" y="14932"/>
                </a:cubicBezTo>
              </a:path>
              <a:path w="2729" h="1018">
                <a:moveTo>
                  <a:pt x="12055" y="14412"/>
                </a:moveTo>
                <a:cubicBezTo>
                  <a:pt x="12165" y="14373"/>
                  <a:pt x="12573" y="14260"/>
                  <a:pt x="12427" y="14536"/>
                </a:cubicBezTo>
                <a:cubicBezTo>
                  <a:pt x="12330" y="14633"/>
                  <a:pt x="12299" y="14666"/>
                  <a:pt x="12204" y="14684"/>
                </a:cubicBezTo>
                <a:cubicBezTo>
                  <a:pt x="12138" y="14684"/>
                  <a:pt x="12113" y="14693"/>
                  <a:pt x="12129" y="14635"/>
                </a:cubicBezTo>
                <a:cubicBezTo>
                  <a:pt x="12268" y="14630"/>
                  <a:pt x="12789" y="14605"/>
                  <a:pt x="12551" y="14908"/>
                </a:cubicBezTo>
                <a:cubicBezTo>
                  <a:pt x="12412" y="15085"/>
                  <a:pt x="12228" y="15016"/>
                  <a:pt x="12055" y="14982"/>
                </a:cubicBezTo>
              </a:path>
              <a:path w="2729" h="1018">
                <a:moveTo>
                  <a:pt x="13047" y="14213"/>
                </a:moveTo>
                <a:cubicBezTo>
                  <a:pt x="13001" y="14222"/>
                  <a:pt x="12687" y="14270"/>
                  <a:pt x="12675" y="14288"/>
                </a:cubicBezTo>
                <a:cubicBezTo>
                  <a:pt x="12618" y="14375"/>
                  <a:pt x="12654" y="14497"/>
                  <a:pt x="12675" y="14585"/>
                </a:cubicBezTo>
                <a:cubicBezTo>
                  <a:pt x="12841" y="14514"/>
                  <a:pt x="12986" y="14398"/>
                  <a:pt x="13171" y="14511"/>
                </a:cubicBezTo>
                <a:cubicBezTo>
                  <a:pt x="13399" y="14651"/>
                  <a:pt x="13308" y="14940"/>
                  <a:pt x="13047" y="14932"/>
                </a:cubicBezTo>
                <a:cubicBezTo>
                  <a:pt x="12973" y="14916"/>
                  <a:pt x="12898" y="14899"/>
                  <a:pt x="12824" y="1488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820960" y="5518080"/>
            <a:ext cx="63360" cy="54000"/>
          </a:xfrm>
          <a:custGeom>
            <a:avLst/>
            <a:gdLst/>
            <a:ahLst/>
            <a:rect l="l" t="t" r="r" b="b"/>
            <a:pathLst>
              <a:path w="175" h="150">
                <a:moveTo>
                  <a:pt x="7888" y="15453"/>
                </a:moveTo>
                <a:cubicBezTo>
                  <a:pt x="7858" y="15334"/>
                  <a:pt x="7909" y="15562"/>
                  <a:pt x="8012" y="15429"/>
                </a:cubicBezTo>
                <a:cubicBezTo>
                  <a:pt x="8012" y="15377"/>
                  <a:pt x="8011" y="15359"/>
                  <a:pt x="7987" y="15329"/>
                </a:cubicBezTo>
                <a:cubicBezTo>
                  <a:pt x="7852" y="15375"/>
                  <a:pt x="7783" y="15436"/>
                  <a:pt x="7938" y="15478"/>
                </a:cubicBezTo>
                <a:cubicBezTo>
                  <a:pt x="7968" y="15423"/>
                  <a:pt x="7967" y="15245"/>
                  <a:pt x="7888" y="15354"/>
                </a:cubicBezTo>
                <a:cubicBezTo>
                  <a:pt x="7752" y="15540"/>
                  <a:pt x="8056" y="15404"/>
                  <a:pt x="7987" y="15379"/>
                </a:cubicBezTo>
                <a:cubicBezTo>
                  <a:pt x="7908" y="15379"/>
                  <a:pt x="7878" y="15382"/>
                  <a:pt x="7838" y="15429"/>
                </a:cubicBezTo>
              </a:path>
            </a:pathLst>
          </a:custGeom>
          <a:noFill/>
          <a:ln cap="rnd" w="34920">
            <a:solidFill>
              <a:srgbClr val="ff00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4" name=""/>
          <p:cNvSpPr/>
          <p:nvPr/>
        </p:nvSpPr>
        <p:spPr>
          <a:xfrm>
            <a:off x="2411280" y="5527800"/>
            <a:ext cx="428760" cy="206280"/>
          </a:xfrm>
          <a:custGeom>
            <a:avLst/>
            <a:gdLst/>
            <a:ahLst/>
            <a:rect l="l" t="t" r="r" b="b"/>
            <a:pathLst>
              <a:path w="1192" h="572">
                <a:moveTo>
                  <a:pt x="7863" y="15354"/>
                </a:moveTo>
                <a:cubicBezTo>
                  <a:pt x="7876" y="15499"/>
                  <a:pt x="7904" y="15646"/>
                  <a:pt x="7764" y="15751"/>
                </a:cubicBezTo>
                <a:cubicBezTo>
                  <a:pt x="7634" y="15849"/>
                  <a:pt x="7391" y="15830"/>
                  <a:pt x="7293" y="15701"/>
                </a:cubicBezTo>
                <a:cubicBezTo>
                  <a:pt x="7250" y="15645"/>
                  <a:pt x="7264" y="15576"/>
                  <a:pt x="7293" y="15528"/>
                </a:cubicBezTo>
                <a:cubicBezTo>
                  <a:pt x="7342" y="15641"/>
                  <a:pt x="7358" y="15743"/>
                  <a:pt x="7268" y="15850"/>
                </a:cubicBezTo>
                <a:cubicBezTo>
                  <a:pt x="7155" y="15984"/>
                  <a:pt x="6962" y="15919"/>
                  <a:pt x="6871" y="15801"/>
                </a:cubicBezTo>
                <a:cubicBezTo>
                  <a:pt x="6798" y="15706"/>
                  <a:pt x="6846" y="15634"/>
                  <a:pt x="6846" y="15528"/>
                </a:cubicBezTo>
                <a:cubicBezTo>
                  <a:pt x="6846" y="15432"/>
                  <a:pt x="6833" y="15459"/>
                  <a:pt x="6772" y="15503"/>
                </a:cubicBezTo>
                <a:cubicBezTo>
                  <a:pt x="6854" y="15728"/>
                  <a:pt x="6949" y="15479"/>
                  <a:pt x="6896" y="15404"/>
                </a:cubicBezTo>
                <a:cubicBezTo>
                  <a:pt x="6802" y="15271"/>
                  <a:pt x="6730" y="15511"/>
                  <a:pt x="6722" y="15553"/>
                </a:cubicBezTo>
                <a:cubicBezTo>
                  <a:pt x="6838" y="15527"/>
                  <a:pt x="6829" y="15507"/>
                  <a:pt x="6896" y="15404"/>
                </a:cubicBezTo>
                <a:cubicBezTo>
                  <a:pt x="6800" y="15350"/>
                  <a:pt x="6599" y="15472"/>
                  <a:pt x="6722" y="15553"/>
                </a:cubicBezTo>
                <a:cubicBezTo>
                  <a:pt x="6853" y="15639"/>
                  <a:pt x="6914" y="15446"/>
                  <a:pt x="6945" y="15379"/>
                </a:cubicBezTo>
                <a:cubicBezTo>
                  <a:pt x="6805" y="15367"/>
                  <a:pt x="6828" y="15377"/>
                  <a:pt x="6747" y="1550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228600"/>
            <a:ext cx="7772400" cy="6019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ive :  </a:t>
            </a:r>
            <a:r>
              <a:rPr b="0" i="1" lang="en-US" sz="1400" spc="-1" strike="noStrike">
                <a:solidFill>
                  <a:srgbClr val="000000"/>
                </a:solidFill>
                <a:latin typeface="Times New Roman"/>
              </a:rPr>
              <a:t>to write fractions as decimals and percents, and vice versa.</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3200" spc="-1" strike="noStrike">
                <a:solidFill>
                  <a:srgbClr val="000000"/>
                </a:solidFill>
                <a:latin typeface="Times New Roman"/>
              </a:rPr>
              <a:t>During lunchtime recess,  the green jersey kickball team 14 runs were scored out of the 20 students who got up to kick.  They want to keep track of their record.  Record their performance as a decimal fraction and percentage.</a:t>
            </a: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cimal  _____</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raction _____</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ercentage _____</a:t>
            </a:r>
            <a:endParaRPr b="0" lang="en-US" sz="2000" spc="-1" strike="noStrike">
              <a:solidFill>
                <a:srgbClr val="000000"/>
              </a:solidFill>
              <a:latin typeface="Times New Roman"/>
            </a:endParaRPr>
          </a:p>
        </p:txBody>
      </p:sp>
      <p:pic>
        <p:nvPicPr>
          <p:cNvPr id="156" name="" descr=""/>
          <p:cNvPicPr/>
          <p:nvPr/>
        </p:nvPicPr>
        <p:blipFill>
          <a:blip r:embed="rId1"/>
          <a:stretch/>
        </p:blipFill>
        <p:spPr>
          <a:xfrm>
            <a:off x="6324480" y="4343400"/>
            <a:ext cx="1893960" cy="1565280"/>
          </a:xfrm>
          <a:prstGeom prst="rect">
            <a:avLst/>
          </a:prstGeom>
          <a:ln w="0">
            <a:noFill/>
          </a:ln>
        </p:spPr>
      </p:pic>
      <p:sp>
        <p:nvSpPr>
          <p:cNvPr id="157" name=""/>
          <p:cNvSpPr/>
          <p:nvPr/>
        </p:nvSpPr>
        <p:spPr>
          <a:xfrm>
            <a:off x="1465200" y="4286160"/>
            <a:ext cx="1143000" cy="1036800"/>
          </a:xfrm>
          <a:custGeom>
            <a:avLst/>
            <a:gdLst/>
            <a:ahLst/>
            <a:rect l="l" t="t" r="r" b="b"/>
            <a:pathLst>
              <a:path w="3176" h="2879">
                <a:moveTo>
                  <a:pt x="4415" y="13047"/>
                </a:moveTo>
                <a:cubicBezTo>
                  <a:pt x="4409" y="13176"/>
                  <a:pt x="4400" y="13271"/>
                  <a:pt x="4366" y="13395"/>
                </a:cubicBezTo>
              </a:path>
              <a:path w="3176" h="2879">
                <a:moveTo>
                  <a:pt x="4589" y="13072"/>
                </a:moveTo>
                <a:cubicBezTo>
                  <a:pt x="4570" y="13166"/>
                  <a:pt x="4583" y="13186"/>
                  <a:pt x="4539" y="13221"/>
                </a:cubicBezTo>
                <a:cubicBezTo>
                  <a:pt x="4629" y="13221"/>
                  <a:pt x="4700" y="13216"/>
                  <a:pt x="4787" y="13196"/>
                </a:cubicBezTo>
              </a:path>
              <a:path w="3176" h="2879">
                <a:moveTo>
                  <a:pt x="4812" y="12998"/>
                </a:moveTo>
                <a:cubicBezTo>
                  <a:pt x="4769" y="13139"/>
                  <a:pt x="4732" y="13272"/>
                  <a:pt x="4713" y="13419"/>
                </a:cubicBezTo>
              </a:path>
              <a:path w="3176" h="2879">
                <a:moveTo>
                  <a:pt x="4068" y="13568"/>
                </a:moveTo>
                <a:cubicBezTo>
                  <a:pt x="4249" y="13554"/>
                  <a:pt x="4431" y="13534"/>
                  <a:pt x="4614" y="13519"/>
                </a:cubicBezTo>
                <a:cubicBezTo>
                  <a:pt x="4773" y="13506"/>
                  <a:pt x="4926" y="13477"/>
                  <a:pt x="5085" y="13469"/>
                </a:cubicBezTo>
              </a:path>
              <a:path w="3176" h="2879">
                <a:moveTo>
                  <a:pt x="4266" y="13692"/>
                </a:moveTo>
                <a:cubicBezTo>
                  <a:pt x="4316" y="13682"/>
                  <a:pt x="4539" y="13623"/>
                  <a:pt x="4514" y="13767"/>
                </a:cubicBezTo>
                <a:cubicBezTo>
                  <a:pt x="4496" y="13871"/>
                  <a:pt x="4315" y="14070"/>
                  <a:pt x="4192" y="14015"/>
                </a:cubicBezTo>
                <a:cubicBezTo>
                  <a:pt x="4184" y="13998"/>
                  <a:pt x="4175" y="13982"/>
                  <a:pt x="4167" y="13965"/>
                </a:cubicBezTo>
                <a:cubicBezTo>
                  <a:pt x="4278" y="13914"/>
                  <a:pt x="4373" y="13887"/>
                  <a:pt x="4490" y="13940"/>
                </a:cubicBezTo>
                <a:cubicBezTo>
                  <a:pt x="4506" y="13948"/>
                  <a:pt x="4523" y="13957"/>
                  <a:pt x="4539" y="13965"/>
                </a:cubicBezTo>
              </a:path>
              <a:path w="3176" h="2879">
                <a:moveTo>
                  <a:pt x="4911" y="13667"/>
                </a:moveTo>
                <a:cubicBezTo>
                  <a:pt x="4811" y="13657"/>
                  <a:pt x="4778" y="13688"/>
                  <a:pt x="4738" y="13791"/>
                </a:cubicBezTo>
                <a:cubicBezTo>
                  <a:pt x="4703" y="13880"/>
                  <a:pt x="4703" y="13990"/>
                  <a:pt x="4837" y="13990"/>
                </a:cubicBezTo>
                <a:cubicBezTo>
                  <a:pt x="4919" y="13990"/>
                  <a:pt x="5038" y="13895"/>
                  <a:pt x="5060" y="13816"/>
                </a:cubicBezTo>
                <a:cubicBezTo>
                  <a:pt x="5088" y="13714"/>
                  <a:pt x="5009" y="13689"/>
                  <a:pt x="4936" y="13643"/>
                </a:cubicBezTo>
                <a:cubicBezTo>
                  <a:pt x="4887" y="13618"/>
                  <a:pt x="4870" y="13610"/>
                  <a:pt x="4837" y="13643"/>
                </a:cubicBezTo>
              </a:path>
              <a:path w="3176" h="2879">
                <a:moveTo>
                  <a:pt x="5457" y="13370"/>
                </a:moveTo>
                <a:cubicBezTo>
                  <a:pt x="5536" y="13361"/>
                  <a:pt x="5603" y="13330"/>
                  <a:pt x="5680" y="13320"/>
                </a:cubicBezTo>
              </a:path>
              <a:path w="3176" h="2879">
                <a:moveTo>
                  <a:pt x="5531" y="13568"/>
                </a:moveTo>
                <a:cubicBezTo>
                  <a:pt x="5622" y="13553"/>
                  <a:pt x="5689" y="13543"/>
                  <a:pt x="5779" y="13543"/>
                </a:cubicBezTo>
              </a:path>
              <a:path w="3176" h="2879">
                <a:moveTo>
                  <a:pt x="6176" y="13543"/>
                </a:moveTo>
                <a:cubicBezTo>
                  <a:pt x="6316" y="13493"/>
                  <a:pt x="6515" y="13496"/>
                  <a:pt x="6672" y="13469"/>
                </a:cubicBezTo>
                <a:cubicBezTo>
                  <a:pt x="6773" y="13449"/>
                  <a:pt x="6793" y="13451"/>
                  <a:pt x="6846" y="13419"/>
                </a:cubicBezTo>
              </a:path>
              <a:path w="3176" h="2879">
                <a:moveTo>
                  <a:pt x="6300" y="13717"/>
                </a:moveTo>
                <a:cubicBezTo>
                  <a:pt x="6300" y="13808"/>
                  <a:pt x="6300" y="13899"/>
                  <a:pt x="6300" y="13990"/>
                </a:cubicBezTo>
              </a:path>
              <a:path w="3176" h="2879">
                <a:moveTo>
                  <a:pt x="6648" y="13742"/>
                </a:moveTo>
                <a:cubicBezTo>
                  <a:pt x="6556" y="13855"/>
                  <a:pt x="6538" y="13900"/>
                  <a:pt x="6573" y="14039"/>
                </a:cubicBezTo>
                <a:cubicBezTo>
                  <a:pt x="6674" y="14019"/>
                  <a:pt x="6815" y="13973"/>
                  <a:pt x="6821" y="13841"/>
                </a:cubicBezTo>
                <a:cubicBezTo>
                  <a:pt x="6824" y="13783"/>
                  <a:pt x="6758" y="13743"/>
                  <a:pt x="6722" y="13717"/>
                </a:cubicBezTo>
              </a:path>
              <a:path w="3176" h="2879">
                <a:moveTo>
                  <a:pt x="6201" y="12948"/>
                </a:moveTo>
                <a:cubicBezTo>
                  <a:pt x="6290" y="12939"/>
                  <a:pt x="6410" y="12893"/>
                  <a:pt x="6499" y="12923"/>
                </a:cubicBezTo>
                <a:cubicBezTo>
                  <a:pt x="6507" y="12931"/>
                  <a:pt x="6516" y="12940"/>
                  <a:pt x="6524" y="12948"/>
                </a:cubicBezTo>
                <a:cubicBezTo>
                  <a:pt x="6484" y="13067"/>
                  <a:pt x="6446" y="13198"/>
                  <a:pt x="6424" y="13320"/>
                </a:cubicBezTo>
              </a:path>
              <a:path w="3176" h="2879">
                <a:moveTo>
                  <a:pt x="4787" y="12551"/>
                </a:moveTo>
                <a:cubicBezTo>
                  <a:pt x="4745" y="12498"/>
                  <a:pt x="4763" y="12489"/>
                  <a:pt x="4713" y="12502"/>
                </a:cubicBezTo>
                <a:cubicBezTo>
                  <a:pt x="4696" y="12569"/>
                  <a:pt x="4799" y="12578"/>
                  <a:pt x="4837" y="12502"/>
                </a:cubicBezTo>
                <a:cubicBezTo>
                  <a:pt x="4886" y="12404"/>
                  <a:pt x="4696" y="12413"/>
                  <a:pt x="4663" y="12477"/>
                </a:cubicBezTo>
                <a:cubicBezTo>
                  <a:pt x="4663" y="12560"/>
                  <a:pt x="4672" y="12587"/>
                  <a:pt x="4762" y="12576"/>
                </a:cubicBezTo>
                <a:cubicBezTo>
                  <a:pt x="4777" y="12517"/>
                  <a:pt x="4809" y="12541"/>
                  <a:pt x="4738" y="12526"/>
                </a:cubicBezTo>
              </a:path>
              <a:path w="3176" h="2879">
                <a:moveTo>
                  <a:pt x="4837" y="12005"/>
                </a:moveTo>
                <a:cubicBezTo>
                  <a:pt x="5002" y="11980"/>
                  <a:pt x="5167" y="11934"/>
                  <a:pt x="5333" y="11906"/>
                </a:cubicBezTo>
                <a:cubicBezTo>
                  <a:pt x="5341" y="11906"/>
                  <a:pt x="5350" y="11906"/>
                  <a:pt x="5358" y="11906"/>
                </a:cubicBezTo>
                <a:cubicBezTo>
                  <a:pt x="5358" y="12081"/>
                  <a:pt x="5263" y="12212"/>
                  <a:pt x="5209" y="12378"/>
                </a:cubicBezTo>
                <a:cubicBezTo>
                  <a:pt x="5201" y="12411"/>
                  <a:pt x="5192" y="12444"/>
                  <a:pt x="5184" y="12477"/>
                </a:cubicBezTo>
              </a:path>
              <a:path w="3176" h="2879">
                <a:moveTo>
                  <a:pt x="5259" y="14213"/>
                </a:moveTo>
                <a:cubicBezTo>
                  <a:pt x="5358" y="14281"/>
                  <a:pt x="5440" y="14268"/>
                  <a:pt x="5556" y="14238"/>
                </a:cubicBezTo>
                <a:cubicBezTo>
                  <a:pt x="5581" y="14230"/>
                  <a:pt x="5606" y="14221"/>
                  <a:pt x="5631" y="14213"/>
                </a:cubicBezTo>
                <a:cubicBezTo>
                  <a:pt x="5638" y="14412"/>
                  <a:pt x="5582" y="14564"/>
                  <a:pt x="5556" y="14759"/>
                </a:cubicBezTo>
              </a:path>
              <a:path w="3176" h="2879">
                <a:moveTo>
                  <a:pt x="6028" y="14312"/>
                </a:moveTo>
                <a:cubicBezTo>
                  <a:pt x="5918" y="14340"/>
                  <a:pt x="5854" y="14468"/>
                  <a:pt x="5829" y="14585"/>
                </a:cubicBezTo>
                <a:cubicBezTo>
                  <a:pt x="5829" y="14677"/>
                  <a:pt x="5827" y="14704"/>
                  <a:pt x="5854" y="14759"/>
                </a:cubicBezTo>
                <a:cubicBezTo>
                  <a:pt x="6007" y="14777"/>
                  <a:pt x="6226" y="14759"/>
                  <a:pt x="6276" y="14560"/>
                </a:cubicBezTo>
                <a:cubicBezTo>
                  <a:pt x="6303" y="14454"/>
                  <a:pt x="6150" y="14312"/>
                  <a:pt x="6052" y="14312"/>
                </a:cubicBezTo>
                <a:cubicBezTo>
                  <a:pt x="5987" y="14334"/>
                  <a:pt x="5972" y="14342"/>
                  <a:pt x="5928" y="14337"/>
                </a:cubicBezTo>
              </a:path>
              <a:path w="3176" h="2879">
                <a:moveTo>
                  <a:pt x="6672" y="14213"/>
                </a:moveTo>
                <a:cubicBezTo>
                  <a:pt x="6535" y="14244"/>
                  <a:pt x="6519" y="14302"/>
                  <a:pt x="6499" y="14436"/>
                </a:cubicBezTo>
                <a:cubicBezTo>
                  <a:pt x="6606" y="14458"/>
                  <a:pt x="6789" y="14392"/>
                  <a:pt x="6672" y="14238"/>
                </a:cubicBezTo>
                <a:cubicBezTo>
                  <a:pt x="6647" y="14230"/>
                  <a:pt x="6623" y="14221"/>
                  <a:pt x="6598" y="14213"/>
                </a:cubicBezTo>
                <a:cubicBezTo>
                  <a:pt x="6706" y="14144"/>
                  <a:pt x="6916" y="14080"/>
                  <a:pt x="6945" y="14288"/>
                </a:cubicBezTo>
                <a:cubicBezTo>
                  <a:pt x="6968" y="14457"/>
                  <a:pt x="6824" y="14623"/>
                  <a:pt x="6747" y="14759"/>
                </a:cubicBezTo>
              </a:path>
              <a:path w="3176" h="2879">
                <a:moveTo>
                  <a:pt x="7119" y="14660"/>
                </a:moveTo>
                <a:cubicBezTo>
                  <a:pt x="7075" y="14725"/>
                  <a:pt x="7054" y="14739"/>
                  <a:pt x="7094" y="14784"/>
                </a:cubicBezTo>
                <a:cubicBezTo>
                  <a:pt x="7119" y="14781"/>
                  <a:pt x="7308" y="14754"/>
                  <a:pt x="7243" y="14684"/>
                </a:cubicBezTo>
                <a:cubicBezTo>
                  <a:pt x="7218" y="14668"/>
                  <a:pt x="7194" y="14651"/>
                  <a:pt x="7169" y="14635"/>
                </a:cubicBezTo>
              </a:path>
              <a:path w="3176" h="2879">
                <a:moveTo>
                  <a:pt x="4837" y="12601"/>
                </a:moveTo>
                <a:cubicBezTo>
                  <a:pt x="4795" y="12476"/>
                  <a:pt x="4814" y="12735"/>
                  <a:pt x="4837" y="12774"/>
                </a:cubicBezTo>
                <a:cubicBezTo>
                  <a:pt x="4890" y="12864"/>
                  <a:pt x="5016" y="12917"/>
                  <a:pt x="5110" y="12923"/>
                </a:cubicBezTo>
                <a:cubicBezTo>
                  <a:pt x="5235" y="12931"/>
                  <a:pt x="5540" y="12885"/>
                  <a:pt x="5631" y="12799"/>
                </a:cubicBezTo>
                <a:cubicBezTo>
                  <a:pt x="5667" y="12765"/>
                  <a:pt x="5696" y="12671"/>
                  <a:pt x="5705" y="12626"/>
                </a:cubicBezTo>
                <a:cubicBezTo>
                  <a:pt x="5705" y="12609"/>
                  <a:pt x="5705" y="12593"/>
                  <a:pt x="5705" y="12576"/>
                </a:cubicBezTo>
                <a:cubicBezTo>
                  <a:pt x="5698" y="12647"/>
                  <a:pt x="5654" y="12752"/>
                  <a:pt x="5680" y="12824"/>
                </a:cubicBezTo>
                <a:cubicBezTo>
                  <a:pt x="5728" y="12957"/>
                  <a:pt x="5821" y="12923"/>
                  <a:pt x="5928" y="12898"/>
                </a:cubicBezTo>
                <a:cubicBezTo>
                  <a:pt x="6038" y="12872"/>
                  <a:pt x="6179" y="12832"/>
                  <a:pt x="6276" y="12774"/>
                </a:cubicBezTo>
                <a:cubicBezTo>
                  <a:pt x="6340" y="12736"/>
                  <a:pt x="6387" y="12678"/>
                  <a:pt x="6400" y="12601"/>
                </a:cubicBezTo>
                <a:cubicBezTo>
                  <a:pt x="6409" y="12548"/>
                  <a:pt x="6400" y="12481"/>
                  <a:pt x="6400" y="12427"/>
                </a:cubicBezTo>
              </a:path>
              <a:path w="3176" h="2879">
                <a:moveTo>
                  <a:pt x="6003" y="11981"/>
                </a:moveTo>
                <a:cubicBezTo>
                  <a:pt x="5870" y="12060"/>
                  <a:pt x="5884" y="12167"/>
                  <a:pt x="5879" y="12328"/>
                </a:cubicBezTo>
                <a:cubicBezTo>
                  <a:pt x="5879" y="12345"/>
                  <a:pt x="5879" y="12361"/>
                  <a:pt x="5879" y="12378"/>
                </a:cubicBezTo>
                <a:cubicBezTo>
                  <a:pt x="6001" y="12425"/>
                  <a:pt x="6129" y="12428"/>
                  <a:pt x="6201" y="12278"/>
                </a:cubicBezTo>
                <a:cubicBezTo>
                  <a:pt x="6268" y="12139"/>
                  <a:pt x="6218" y="12091"/>
                  <a:pt x="6102" y="12030"/>
                </a:cubicBezTo>
                <a:cubicBezTo>
                  <a:pt x="6041" y="11998"/>
                  <a:pt x="6038" y="12018"/>
                  <a:pt x="5978" y="12030"/>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228600"/>
            <a:ext cx="7772400" cy="6019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ive :  </a:t>
            </a:r>
            <a:r>
              <a:rPr b="0" i="1" lang="en-US" sz="1400" spc="-1" strike="noStrike">
                <a:solidFill>
                  <a:srgbClr val="000000"/>
                </a:solidFill>
                <a:latin typeface="Times New Roman"/>
              </a:rPr>
              <a:t>to write fractions as decimals and percents, and vice versa.</a:t>
            </a:r>
            <a:endParaRPr b="0" lang="en-US" sz="14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ll On!!</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159" name=""/>
          <p:cNvGraphicFramePr/>
          <p:nvPr/>
        </p:nvGraphicFramePr>
        <p:xfrm>
          <a:off x="3200400" y="1523880"/>
          <a:ext cx="371520" cy="959040"/>
        </p:xfrm>
        <a:graphic>
          <a:graphicData uri="http://schemas.openxmlformats.org/presentationml/2006/ole">
            <p:oleObj r:id="rId1" spid="">
              <p:embed/>
              <p:pic>
                <p:nvPicPr>
                  <p:cNvPr id="160" name="" descr=""/>
                  <p:cNvPicPr/>
                  <p:nvPr/>
                </p:nvPicPr>
                <p:blipFill>
                  <a:blip r:embed="rId2"/>
                  <a:stretch/>
                </p:blipFill>
                <p:spPr>
                  <a:xfrm>
                    <a:off x="3200400" y="1523880"/>
                    <a:ext cx="371520" cy="959040"/>
                  </a:xfrm>
                  <a:prstGeom prst="rect">
                    <a:avLst/>
                  </a:prstGeom>
                  <a:ln w="0">
                    <a:noFill/>
                  </a:ln>
                </p:spPr>
              </p:pic>
            </p:oleObj>
          </a:graphicData>
        </a:graphic>
      </p:graphicFrame>
      <p:graphicFrame>
        <p:nvGraphicFramePr>
          <p:cNvPr id="161" name=""/>
          <p:cNvGraphicFramePr/>
          <p:nvPr/>
        </p:nvGraphicFramePr>
        <p:xfrm>
          <a:off x="3200400" y="3809880"/>
          <a:ext cx="297000" cy="838440"/>
        </p:xfrm>
        <a:graphic>
          <a:graphicData uri="http://schemas.openxmlformats.org/presentationml/2006/ole">
            <p:oleObj r:id="rId3" spid="">
              <p:embed/>
              <p:pic>
                <p:nvPicPr>
                  <p:cNvPr id="162" name="" descr=""/>
                  <p:cNvPicPr/>
                  <p:nvPr/>
                </p:nvPicPr>
                <p:blipFill>
                  <a:blip r:embed="rId4"/>
                  <a:stretch/>
                </p:blipFill>
                <p:spPr>
                  <a:xfrm>
                    <a:off x="3200400" y="3809880"/>
                    <a:ext cx="297000" cy="838440"/>
                  </a:xfrm>
                  <a:prstGeom prst="rect">
                    <a:avLst/>
                  </a:prstGeom>
                  <a:ln w="0">
                    <a:noFill/>
                  </a:ln>
                </p:spPr>
              </p:pic>
            </p:oleObj>
          </a:graphicData>
        </a:graphic>
      </p:graphicFrame>
      <p:pic>
        <p:nvPicPr>
          <p:cNvPr id="163" name="" descr=""/>
          <p:cNvPicPr/>
          <p:nvPr/>
        </p:nvPicPr>
        <p:blipFill>
          <a:blip r:embed="rId5"/>
          <a:stretch/>
        </p:blipFill>
        <p:spPr>
          <a:xfrm>
            <a:off x="7467480" y="304920"/>
            <a:ext cx="682920" cy="2428920"/>
          </a:xfrm>
          <a:prstGeom prst="rect">
            <a:avLst/>
          </a:prstGeom>
          <a:ln w="0">
            <a:noFill/>
          </a:ln>
        </p:spPr>
      </p:pic>
      <p:sp>
        <p:nvSpPr>
          <p:cNvPr id="164" name=""/>
          <p:cNvSpPr/>
          <p:nvPr/>
        </p:nvSpPr>
        <p:spPr>
          <a:xfrm>
            <a:off x="609480" y="1676520"/>
            <a:ext cx="64771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5" name=""/>
          <p:cNvSpPr/>
          <p:nvPr/>
        </p:nvSpPr>
        <p:spPr>
          <a:xfrm>
            <a:off x="228600" y="1447920"/>
            <a:ext cx="8346960" cy="4117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s:</a:t>
            </a:r>
            <a:endParaRPr b="0" lang="en-US" sz="2400" spc="-1" strike="noStrike">
              <a:solidFill>
                <a:srgbClr val="000000"/>
              </a:solidFill>
              <a:latin typeface="Times New Roman"/>
            </a:endParaRPr>
          </a:p>
          <a:p>
            <a:pPr marL="457200" indent="-457200">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a fraction, decimal and percent cube.</a:t>
            </a:r>
            <a:endParaRPr b="0" lang="en-US" sz="2400" spc="-1" strike="noStrike">
              <a:solidFill>
                <a:srgbClr val="000000"/>
              </a:solidFill>
              <a:latin typeface="Times New Roman"/>
            </a:endParaRPr>
          </a:p>
          <a:p>
            <a:pPr marL="457200" indent="-457200">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ll the fraction cube and record the fraction in the appropriate column.</a:t>
            </a:r>
            <a:endParaRPr b="0" lang="en-US" sz="2400" spc="-1" strike="noStrike">
              <a:solidFill>
                <a:srgbClr val="000000"/>
              </a:solidFill>
              <a:latin typeface="Times New Roman"/>
            </a:endParaRPr>
          </a:p>
          <a:p>
            <a:pPr marL="457200" indent="-457200">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the equivalent decimal and percent to complete the row.</a:t>
            </a:r>
            <a:endParaRPr b="0" lang="en-US" sz="2400" spc="-1" strike="noStrike">
              <a:solidFill>
                <a:srgbClr val="000000"/>
              </a:solidFill>
              <a:latin typeface="Times New Roman"/>
            </a:endParaRPr>
          </a:p>
          <a:p>
            <a:pPr marL="457200" indent="-457200">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ll the decimal cube and record the decimal in the appropriate column.</a:t>
            </a:r>
            <a:endParaRPr b="0" lang="en-US" sz="2400" spc="-1" strike="noStrike">
              <a:solidFill>
                <a:srgbClr val="000000"/>
              </a:solidFill>
              <a:latin typeface="Times New Roman"/>
            </a:endParaRPr>
          </a:p>
          <a:p>
            <a:pPr marL="457200" indent="-457200">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the equivalent fraction and percent to complete the row.</a:t>
            </a:r>
            <a:endParaRPr b="0" lang="en-US" sz="2400" spc="-1" strike="noStrike">
              <a:solidFill>
                <a:srgbClr val="000000"/>
              </a:solidFill>
              <a:latin typeface="Times New Roman"/>
            </a:endParaRPr>
          </a:p>
          <a:p>
            <a:pPr marL="457200" indent="-457200">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 until you have filled the entire chart.</a:t>
            </a:r>
            <a:endParaRPr b="0" lang="en-US" sz="2400" spc="-1" strike="noStrike">
              <a:solidFill>
                <a:srgbClr val="000000"/>
              </a:solidFill>
              <a:latin typeface="Times New Roman"/>
            </a:endParaRPr>
          </a:p>
        </p:txBody>
      </p:sp>
      <p:sp>
        <p:nvSpPr>
          <p:cNvPr id="166" name=""/>
          <p:cNvSpPr/>
          <p:nvPr/>
        </p:nvSpPr>
        <p:spPr>
          <a:xfrm>
            <a:off x="152280" y="5638680"/>
            <a:ext cx="8686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2286000" y="55627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838080" y="228600"/>
            <a:ext cx="7391520" cy="6400800"/>
          </a:xfrm>
          <a:prstGeom prst="rect">
            <a:avLst/>
          </a:prstGeom>
          <a:noFill/>
          <a:ln w="0">
            <a:noFill/>
          </a:ln>
        </p:spPr>
        <p:txBody>
          <a:bodyPr lIns="90000" rIns="90000" tIns="46800" bIns="46800" anchor="t">
            <a:normAutofit/>
          </a:bodyPr>
          <a:p>
            <a:pPr lvl="1" marL="6922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399ff"/>
                </a:solidFill>
                <a:latin typeface="Times New Roman"/>
              </a:rPr>
              <a:t>Homework:</a:t>
            </a:r>
            <a:endParaRPr b="0" lang="en-US" sz="3100" spc="-1" strike="noStrike">
              <a:solidFill>
                <a:srgbClr val="000000"/>
              </a:solidFill>
              <a:latin typeface="Times New Roman"/>
            </a:endParaRPr>
          </a:p>
          <a:p>
            <a:pPr lvl="1" marL="6922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399ff"/>
                </a:solidFill>
                <a:latin typeface="Times New Roman"/>
              </a:rPr>
              <a:t>Percent Idea Workout</a:t>
            </a:r>
            <a:endParaRPr b="0" lang="en-US" sz="3100" spc="-1" strike="noStrike">
              <a:solidFill>
                <a:srgbClr val="000000"/>
              </a:solidFill>
              <a:latin typeface="Times New Roman"/>
            </a:endParaRPr>
          </a:p>
          <a:p>
            <a:pPr lvl="1" marL="6922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lvl="1" marL="6922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lvl="1" marL="6922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399ff"/>
                </a:solidFill>
                <a:latin typeface="Times New Roman"/>
              </a:rPr>
              <a:t>Extensions:</a:t>
            </a:r>
            <a:endParaRPr b="0" lang="en-US" sz="3100" spc="-1" strike="noStrike">
              <a:solidFill>
                <a:srgbClr val="000000"/>
              </a:solidFill>
              <a:latin typeface="Times New Roman"/>
            </a:endParaRPr>
          </a:p>
          <a:p>
            <a:pPr lvl="1" marL="6922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lvl="1" marL="6922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922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
              </a:rPr>
              <a:t>ClassZone</a:t>
            </a:r>
            <a:r>
              <a:rPr b="0" lang="en-US" sz="2400" spc="-1" strike="noStrike" u="sng">
                <a:solidFill>
                  <a:srgbClr val="009999"/>
                </a:solidFill>
                <a:uFillTx/>
                <a:latin typeface="Times New Roman"/>
                <a:hlinkClick r:id="rId2"/>
              </a:rPr>
              <a:t> Animated Math</a:t>
            </a:r>
            <a:endParaRPr b="0" lang="en-US" sz="2400" spc="-1" strike="noStrike">
              <a:solidFill>
                <a:srgbClr val="000000"/>
              </a:solidFill>
              <a:latin typeface="Times New Roman"/>
            </a:endParaRPr>
          </a:p>
          <a:p>
            <a:pPr lvl="1" marL="6922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Chapter 8 – Finding Equivalent Numbers)</a:t>
            </a:r>
            <a:endParaRPr b="0" lang="en-US" sz="2400" spc="-1" strike="noStrike">
              <a:solidFill>
                <a:srgbClr val="000000"/>
              </a:solidFill>
              <a:latin typeface="Times New Roman"/>
            </a:endParaRPr>
          </a:p>
          <a:p>
            <a:pPr lvl="1" marL="6922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922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922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99cc00"/>
                </a:solidFill>
                <a:latin typeface="Times New Roman"/>
              </a:rPr>
              <a:t>	</a:t>
            </a:r>
            <a:r>
              <a:rPr b="1" lang="en-US" sz="3100" spc="-1" strike="noStrike">
                <a:solidFill>
                  <a:srgbClr val="99cc00"/>
                </a:solidFill>
                <a:latin typeface="Times New Roman"/>
              </a:rPr>
              <a:t>	</a:t>
            </a:r>
            <a:r>
              <a:rPr b="1" lang="en-US" sz="3100" spc="-1" strike="noStrike">
                <a:solidFill>
                  <a:srgbClr val="99cc00"/>
                </a:solidFill>
                <a:latin typeface="Times New Roman"/>
              </a:rPr>
              <a:t>	</a:t>
            </a:r>
            <a:r>
              <a:rPr b="1" lang="en-US" sz="3100" spc="-1" strike="noStrike">
                <a:solidFill>
                  <a:srgbClr val="99cc00"/>
                </a:solidFill>
                <a:latin typeface="Times New Roman"/>
              </a:rPr>
              <a:t>	</a:t>
            </a:r>
            <a:endParaRPr b="0" lang="en-US" sz="31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01:02:49Z</dcterms:created>
  <dc:creator>Brian McGrath</dc:creator>
  <dc:description/>
  <dc:language>en-US</dc:language>
  <cp:lastModifiedBy>deanne elizabeth mcgrath</cp:lastModifiedBy>
  <dcterms:modified xsi:type="dcterms:W3CDTF">2010-10-20T17:38:33Z</dcterms:modified>
  <cp:revision>3</cp:revision>
  <dc:subject/>
  <dc:title>PowerPoint Presentation</dc:title>
</cp:coreProperties>
</file>